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4.wmf" ContentType="image/x-wmf"/>
  <Override PartName="/ppt/media/image26.jpeg" ContentType="image/jpeg"/>
  <Override PartName="/ppt/media/image25.jpeg" ContentType="image/jpeg"/>
  <Override PartName="/ppt/media/image2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806-097E-4C75-9D57-28C092F6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44A-6EBC-4AF6-9637-FA9BA1B7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A24-17DD-4B12-92D6-5D19E8D1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6AE-2197-43A9-9C1A-22F2C51F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8AE-D23C-4837-ACCE-476CD8D3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498-D6B9-477F-8C85-164E29A9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7CD-35E3-43AD-A3FC-839A5DA2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A22-5202-4DA6-A781-61ED6929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407-EABB-4235-BC94-9DFFF5D5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7F0-4A36-4F2F-9174-135F5751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EEF-3DFA-4C4B-8B73-7FA95880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069-D94B-4E96-B006-1C65C934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DEA520-9ACF-4BA1-BFA9-B2B550CEADB3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80880" y="990720"/>
            <a:ext cx="83815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.Устройство и принцип действия синхронных машин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Ротор синхронной ма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838080" y="9144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синхронной машины представляет собой электромагнит постоянного тока, который образует магнитное поле, вращающееся вместе с рото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оторе располагается обмотка возбуждения,  концы которой через специальные кольца на роторе и неподвижные графитовые щетки подсоединены к источнику постоянного тока, называемому возбуд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Роторы с явно выраженными полюса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торы с явно выраженными полюсами применяются в сравнительно тихоходных машинах, число оборотов которых не превышает 1000 об/м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кие роторы, например, приводятся в действие тихоходными водяными турбинами ГЭ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олюсах такого ротора размещаются катушки обмотки возбу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синхронных двигателей с таким ротором витки пусковой короткозамкнутой обмотки типа «беличья клетка» закладываются в тело полюсов и по торцам замыкаются коль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Устройство явнополюсного рото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47174" t="0" r="0" b="0"/>
          <a:stretch/>
        </p:blipFill>
        <p:spPr>
          <a:xfrm>
            <a:off x="2570040" y="2057400"/>
            <a:ext cx="4465440" cy="39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Ротор с неявно выраженными полюса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с неявно выраженными полюсами обладает повышенной динамической прочностью, так как выполняется из цельной стальной поковки цилиндрической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нешней поверхности поковки фрезеруются пазы, в которые закладывается обмотка возбу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та вращения, как правило, 3000 об/мин, приводятся в движение паровыми турби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387800" y="506520"/>
            <a:ext cx="659232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Общий вид неявнополюсного ротор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1860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69800" y="0"/>
            <a:ext cx="82292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9257"/>
                </a:solidFill>
                <a:latin typeface="Verdana"/>
              </a:rPr>
              <a:t>Принцип действия синхронного ген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15"/>
          <p:cNvGraphicFramePr/>
          <p:nvPr/>
        </p:nvGraphicFramePr>
        <p:xfrm>
          <a:off x="6451560" y="5181480"/>
          <a:ext cx="1307880" cy="84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1560" y="5181480"/>
                    <a:ext cx="1307880" cy="84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3"/>
          <p:cNvSpPr/>
          <p:nvPr/>
        </p:nvSpPr>
        <p:spPr>
          <a:xfrm>
            <a:off x="369720" y="4794120"/>
            <a:ext cx="8026200" cy="363960"/>
          </a:xfrm>
          <a:prstGeom prst="rect">
            <a:avLst/>
          </a:prstGeom>
          <a:noFill/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ращении ротора в статоре возникает ЭД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2496960" y="673200"/>
            <a:ext cx="4635360" cy="3955680"/>
            <a:chOff x="2496960" y="673200"/>
            <a:chExt cx="4635360" cy="3955680"/>
          </a:xfrm>
        </p:grpSpPr>
        <p:grpSp>
          <p:nvGrpSpPr>
            <p:cNvPr id="72" name="Group 7"/>
            <p:cNvGrpSpPr/>
            <p:nvPr/>
          </p:nvGrpSpPr>
          <p:grpSpPr>
            <a:xfrm>
              <a:off x="2496960" y="925560"/>
              <a:ext cx="4635360" cy="3703320"/>
              <a:chOff x="2496960" y="925560"/>
              <a:chExt cx="4635360" cy="3703320"/>
            </a:xfrm>
          </p:grpSpPr>
          <p:grpSp>
            <p:nvGrpSpPr>
              <p:cNvPr id="73" name="Group 8"/>
              <p:cNvGrpSpPr/>
              <p:nvPr/>
            </p:nvGrpSpPr>
            <p:grpSpPr>
              <a:xfrm>
                <a:off x="2496960" y="993600"/>
                <a:ext cx="3977280" cy="3501360"/>
                <a:chOff x="2496960" y="993600"/>
                <a:chExt cx="3977280" cy="3501360"/>
              </a:xfrm>
            </p:grpSpPr>
            <p:grpSp>
              <p:nvGrpSpPr>
                <p:cNvPr id="74" name="Group 9"/>
                <p:cNvGrpSpPr/>
                <p:nvPr/>
              </p:nvGrpSpPr>
              <p:grpSpPr>
                <a:xfrm>
                  <a:off x="3258720" y="1209600"/>
                  <a:ext cx="2663640" cy="2518920"/>
                  <a:chOff x="3258720" y="1209600"/>
                  <a:chExt cx="2663640" cy="2518920"/>
                </a:xfrm>
              </p:grpSpPr>
              <p:sp>
                <p:nvSpPr>
                  <p:cNvPr id="75" name="Oval 10"/>
                  <p:cNvSpPr/>
                  <p:nvPr/>
                </p:nvSpPr>
                <p:spPr>
                  <a:xfrm flipH="1">
                    <a:off x="3258360" y="1209600"/>
                    <a:ext cx="2663640" cy="2518920"/>
                  </a:xfrm>
                  <a:prstGeom prst="ellipse">
                    <a:avLst/>
                  </a:prstGeom>
                  <a:solidFill>
                    <a:schemeClr val="accent1"/>
                  </a:solidFill>
                  <a:ln w="2857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" name="Oval 11"/>
                  <p:cNvSpPr/>
                  <p:nvPr/>
                </p:nvSpPr>
                <p:spPr>
                  <a:xfrm flipH="1">
                    <a:off x="3618720" y="1569960"/>
                    <a:ext cx="1942920" cy="187128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2857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7" name="Group 12"/>
                <p:cNvGrpSpPr/>
                <p:nvPr/>
              </p:nvGrpSpPr>
              <p:grpSpPr>
                <a:xfrm>
                  <a:off x="4778640" y="2289240"/>
                  <a:ext cx="1695600" cy="2205720"/>
                  <a:chOff x="4778640" y="2289240"/>
                  <a:chExt cx="1695600" cy="2205720"/>
                </a:xfrm>
              </p:grpSpPr>
              <p:sp>
                <p:nvSpPr>
                  <p:cNvPr id="78" name="Line 13"/>
                  <p:cNvSpPr/>
                  <p:nvPr/>
                </p:nvSpPr>
                <p:spPr>
                  <a:xfrm flipH="1" flipV="1">
                    <a:off x="4778640" y="3283200"/>
                    <a:ext cx="192240" cy="121176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" name="Line 14"/>
                  <p:cNvSpPr/>
                  <p:nvPr/>
                </p:nvSpPr>
                <p:spPr>
                  <a:xfrm>
                    <a:off x="4778640" y="3283200"/>
                    <a:ext cx="554040" cy="33552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" name="Line 15"/>
                  <p:cNvSpPr/>
                  <p:nvPr/>
                </p:nvSpPr>
                <p:spPr>
                  <a:xfrm flipH="1" flipV="1">
                    <a:off x="5211360" y="3124080"/>
                    <a:ext cx="121320" cy="4946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1" name="Line 16"/>
                  <p:cNvSpPr/>
                  <p:nvPr/>
                </p:nvSpPr>
                <p:spPr>
                  <a:xfrm>
                    <a:off x="5211360" y="3124080"/>
                    <a:ext cx="506520" cy="13788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2" name="Line 17"/>
                  <p:cNvSpPr/>
                  <p:nvPr/>
                </p:nvSpPr>
                <p:spPr>
                  <a:xfrm flipH="1" flipV="1">
                    <a:off x="5472000" y="2693520"/>
                    <a:ext cx="245880" cy="5684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3" name="Line 18"/>
                  <p:cNvSpPr/>
                  <p:nvPr/>
                </p:nvSpPr>
                <p:spPr>
                  <a:xfrm>
                    <a:off x="5472000" y="2693520"/>
                    <a:ext cx="543600" cy="770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4" name="Line 19"/>
                  <p:cNvSpPr/>
                  <p:nvPr/>
                </p:nvSpPr>
                <p:spPr>
                  <a:xfrm flipH="1" flipV="1">
                    <a:off x="5497920" y="2371680"/>
                    <a:ext cx="517680" cy="39888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5" name="Line 20"/>
                  <p:cNvSpPr/>
                  <p:nvPr/>
                </p:nvSpPr>
                <p:spPr>
                  <a:xfrm flipV="1">
                    <a:off x="5497920" y="2289240"/>
                    <a:ext cx="976320" cy="82440"/>
                  </a:xfrm>
                  <a:prstGeom prst="line">
                    <a:avLst/>
                  </a:prstGeom>
                  <a:ln w="28575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6" name="Group 21"/>
                <p:cNvGrpSpPr/>
                <p:nvPr/>
              </p:nvGrpSpPr>
              <p:grpSpPr>
                <a:xfrm>
                  <a:off x="2496960" y="1988280"/>
                  <a:ext cx="1808280" cy="2175480"/>
                  <a:chOff x="2496960" y="1988280"/>
                  <a:chExt cx="1808280" cy="2175480"/>
                </a:xfrm>
              </p:grpSpPr>
              <p:sp>
                <p:nvSpPr>
                  <p:cNvPr id="87" name="Line 22"/>
                  <p:cNvSpPr/>
                  <p:nvPr/>
                </p:nvSpPr>
                <p:spPr>
                  <a:xfrm>
                    <a:off x="2496960" y="1988280"/>
                    <a:ext cx="1203120" cy="2401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8" name="Line 23"/>
                  <p:cNvSpPr/>
                  <p:nvPr/>
                </p:nvSpPr>
                <p:spPr>
                  <a:xfrm flipH="1">
                    <a:off x="3192840" y="2228400"/>
                    <a:ext cx="507240" cy="40320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9" name="Line 24"/>
                  <p:cNvSpPr/>
                  <p:nvPr/>
                </p:nvSpPr>
                <p:spPr>
                  <a:xfrm>
                    <a:off x="3192840" y="2631600"/>
                    <a:ext cx="506520" cy="5796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0" name="Line 25"/>
                  <p:cNvSpPr/>
                  <p:nvPr/>
                </p:nvSpPr>
                <p:spPr>
                  <a:xfrm flipH="1">
                    <a:off x="3394080" y="2689560"/>
                    <a:ext cx="305280" cy="42696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" name="Line 26"/>
                  <p:cNvSpPr/>
                  <p:nvPr/>
                </p:nvSpPr>
                <p:spPr>
                  <a:xfrm flipV="1">
                    <a:off x="3394080" y="3083400"/>
                    <a:ext cx="618480" cy="331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2" name="Line 27"/>
                  <p:cNvSpPr/>
                  <p:nvPr/>
                </p:nvSpPr>
                <p:spPr>
                  <a:xfrm flipH="1">
                    <a:off x="3751560" y="3083400"/>
                    <a:ext cx="261000" cy="4831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3" name="Line 28"/>
                  <p:cNvSpPr/>
                  <p:nvPr/>
                </p:nvSpPr>
                <p:spPr>
                  <a:xfrm flipV="1">
                    <a:off x="3751560" y="3219840"/>
                    <a:ext cx="553680" cy="34668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4" name="Line 29"/>
                  <p:cNvSpPr/>
                  <p:nvPr/>
                </p:nvSpPr>
                <p:spPr>
                  <a:xfrm flipH="1">
                    <a:off x="4043520" y="3219840"/>
                    <a:ext cx="261720" cy="943920"/>
                  </a:xfrm>
                  <a:prstGeom prst="line">
                    <a:avLst/>
                  </a:prstGeom>
                  <a:ln w="28575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5" name="Group 30"/>
                <p:cNvGrpSpPr/>
                <p:nvPr/>
              </p:nvGrpSpPr>
              <p:grpSpPr>
                <a:xfrm>
                  <a:off x="3546360" y="993600"/>
                  <a:ext cx="2665440" cy="934920"/>
                  <a:chOff x="3546360" y="993600"/>
                  <a:chExt cx="2665440" cy="934920"/>
                </a:xfrm>
              </p:grpSpPr>
              <p:sp>
                <p:nvSpPr>
                  <p:cNvPr id="96" name="Line 31"/>
                  <p:cNvSpPr/>
                  <p:nvPr/>
                </p:nvSpPr>
                <p:spPr>
                  <a:xfrm flipH="1">
                    <a:off x="5275080" y="1136520"/>
                    <a:ext cx="936720" cy="79200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" name="Line 32"/>
                  <p:cNvSpPr/>
                  <p:nvPr/>
                </p:nvSpPr>
                <p:spPr>
                  <a:xfrm flipV="1">
                    <a:off x="5275080" y="1280880"/>
                    <a:ext cx="360" cy="64764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8" name="Line 33"/>
                  <p:cNvSpPr/>
                  <p:nvPr/>
                </p:nvSpPr>
                <p:spPr>
                  <a:xfrm flipH="1">
                    <a:off x="4914720" y="1280880"/>
                    <a:ext cx="360360" cy="36036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9" name="Line 34"/>
                  <p:cNvSpPr/>
                  <p:nvPr/>
                </p:nvSpPr>
                <p:spPr>
                  <a:xfrm flipH="1" flipV="1">
                    <a:off x="4770360" y="1136520"/>
                    <a:ext cx="144360" cy="50472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0" name="Line 35"/>
                  <p:cNvSpPr/>
                  <p:nvPr/>
                </p:nvSpPr>
                <p:spPr>
                  <a:xfrm flipH="1">
                    <a:off x="4411440" y="1136520"/>
                    <a:ext cx="358920" cy="50472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1" name="Line 36"/>
                  <p:cNvSpPr/>
                  <p:nvPr/>
                </p:nvSpPr>
                <p:spPr>
                  <a:xfrm flipH="1" flipV="1">
                    <a:off x="4195440" y="1136520"/>
                    <a:ext cx="216000" cy="50472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2" name="Line 37"/>
                  <p:cNvSpPr/>
                  <p:nvPr/>
                </p:nvSpPr>
                <p:spPr>
                  <a:xfrm flipH="1">
                    <a:off x="4122720" y="1136520"/>
                    <a:ext cx="72720" cy="64908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Line 38"/>
                  <p:cNvSpPr/>
                  <p:nvPr/>
                </p:nvSpPr>
                <p:spPr>
                  <a:xfrm flipH="1" flipV="1">
                    <a:off x="3546360" y="993600"/>
                    <a:ext cx="576360" cy="792000"/>
                  </a:xfrm>
                  <a:prstGeom prst="line">
                    <a:avLst/>
                  </a:prstGeom>
                  <a:ln w="28575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ru-RU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104" name="Line 39"/>
              <p:cNvSpPr/>
              <p:nvPr/>
            </p:nvSpPr>
            <p:spPr>
              <a:xfrm flipH="1">
                <a:off x="2539800" y="4451040"/>
                <a:ext cx="244800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Line 40"/>
              <p:cNvSpPr/>
              <p:nvPr/>
            </p:nvSpPr>
            <p:spPr>
              <a:xfrm flipV="1">
                <a:off x="2539800" y="2003400"/>
                <a:ext cx="360" cy="244764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Line 41"/>
              <p:cNvSpPr/>
              <p:nvPr/>
            </p:nvSpPr>
            <p:spPr>
              <a:xfrm flipV="1">
                <a:off x="6211800" y="1066680"/>
                <a:ext cx="360" cy="7128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Line 42"/>
              <p:cNvSpPr/>
              <p:nvPr/>
            </p:nvSpPr>
            <p:spPr>
              <a:xfrm flipH="1">
                <a:off x="2539800" y="1066680"/>
                <a:ext cx="367200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Line 43"/>
              <p:cNvSpPr/>
              <p:nvPr/>
            </p:nvSpPr>
            <p:spPr>
              <a:xfrm>
                <a:off x="2539800" y="1066680"/>
                <a:ext cx="360" cy="100800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Oval 44"/>
              <p:cNvSpPr/>
              <p:nvPr/>
            </p:nvSpPr>
            <p:spPr>
              <a:xfrm flipH="1">
                <a:off x="6450840" y="225576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Oval 45"/>
              <p:cNvSpPr/>
              <p:nvPr/>
            </p:nvSpPr>
            <p:spPr>
              <a:xfrm flipH="1">
                <a:off x="2513880" y="194472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Oval 46"/>
              <p:cNvSpPr/>
              <p:nvPr/>
            </p:nvSpPr>
            <p:spPr>
              <a:xfrm flipH="1">
                <a:off x="6139800" y="113832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47"/>
              <p:cNvSpPr/>
              <p:nvPr/>
            </p:nvSpPr>
            <p:spPr>
              <a:xfrm flipH="1">
                <a:off x="4917240" y="441648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Oval 48"/>
              <p:cNvSpPr/>
              <p:nvPr/>
            </p:nvSpPr>
            <p:spPr>
              <a:xfrm flipH="1">
                <a:off x="3494880" y="92556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Oval 49"/>
              <p:cNvSpPr/>
              <p:nvPr/>
            </p:nvSpPr>
            <p:spPr>
              <a:xfrm flipH="1">
                <a:off x="4028400" y="4143240"/>
                <a:ext cx="70920" cy="70920"/>
              </a:xfrm>
              <a:prstGeom prst="ellipse">
                <a:avLst/>
              </a:prstGeom>
              <a:solidFill>
                <a:schemeClr val="tx2"/>
              </a:solidFill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Line 50"/>
              <p:cNvSpPr/>
              <p:nvPr/>
            </p:nvSpPr>
            <p:spPr>
              <a:xfrm>
                <a:off x="6491160" y="2286000"/>
                <a:ext cx="36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Line 51"/>
              <p:cNvSpPr/>
              <p:nvPr/>
            </p:nvSpPr>
            <p:spPr>
              <a:xfrm>
                <a:off x="6491160" y="2286000"/>
                <a:ext cx="64116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Line 52"/>
              <p:cNvSpPr/>
              <p:nvPr/>
            </p:nvSpPr>
            <p:spPr>
              <a:xfrm>
                <a:off x="3546360" y="955440"/>
                <a:ext cx="308772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Line 53"/>
              <p:cNvSpPr/>
              <p:nvPr/>
            </p:nvSpPr>
            <p:spPr>
              <a:xfrm>
                <a:off x="6634080" y="955440"/>
                <a:ext cx="360" cy="89064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Line 54"/>
              <p:cNvSpPr/>
              <p:nvPr/>
            </p:nvSpPr>
            <p:spPr>
              <a:xfrm>
                <a:off x="6634080" y="1846080"/>
                <a:ext cx="47448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Line 55"/>
              <p:cNvSpPr/>
              <p:nvPr/>
            </p:nvSpPr>
            <p:spPr>
              <a:xfrm>
                <a:off x="6622920" y="2771640"/>
                <a:ext cx="47448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Line 56"/>
              <p:cNvSpPr/>
              <p:nvPr/>
            </p:nvSpPr>
            <p:spPr>
              <a:xfrm>
                <a:off x="4055760" y="4173480"/>
                <a:ext cx="2578320" cy="36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Line 57"/>
              <p:cNvSpPr/>
              <p:nvPr/>
            </p:nvSpPr>
            <p:spPr>
              <a:xfrm>
                <a:off x="6621120" y="2760480"/>
                <a:ext cx="360" cy="140184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Text Box 58"/>
              <p:cNvSpPr/>
              <p:nvPr/>
            </p:nvSpPr>
            <p:spPr>
              <a:xfrm flipH="1" rot="5400000">
                <a:off x="2469600" y="1553040"/>
                <a:ext cx="458280" cy="36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vert="vert" rot="5400000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endParaRPr b="0" lang="ru-RU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Text Box 59"/>
              <p:cNvSpPr/>
              <p:nvPr/>
            </p:nvSpPr>
            <p:spPr>
              <a:xfrm flipH="1">
                <a:off x="6022080" y="114156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60"/>
              <p:cNvSpPr/>
              <p:nvPr/>
            </p:nvSpPr>
            <p:spPr>
              <a:xfrm flipH="1">
                <a:off x="6022080" y="114156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1"/>
              <p:cNvSpPr/>
              <p:nvPr/>
            </p:nvSpPr>
            <p:spPr>
              <a:xfrm flipH="1">
                <a:off x="6171480" y="192888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62"/>
              <p:cNvSpPr/>
              <p:nvPr/>
            </p:nvSpPr>
            <p:spPr>
              <a:xfrm flipH="1">
                <a:off x="3553560" y="387180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63"/>
              <p:cNvSpPr/>
              <p:nvPr/>
            </p:nvSpPr>
            <p:spPr>
              <a:xfrm flipH="1">
                <a:off x="2558160" y="162252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64"/>
              <p:cNvSpPr/>
              <p:nvPr/>
            </p:nvSpPr>
            <p:spPr>
              <a:xfrm flipH="1">
                <a:off x="5063400" y="4227480"/>
                <a:ext cx="456840" cy="401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65"/>
            <p:cNvSpPr/>
            <p:nvPr/>
          </p:nvSpPr>
          <p:spPr>
            <a:xfrm flipH="1">
              <a:off x="3039480" y="673200"/>
              <a:ext cx="456840" cy="401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79"/>
          <p:cNvGrpSpPr/>
          <p:nvPr/>
        </p:nvGrpSpPr>
        <p:grpSpPr>
          <a:xfrm>
            <a:off x="3876480" y="1536480"/>
            <a:ext cx="1325520" cy="1622520"/>
            <a:chOff x="3876480" y="1536480"/>
            <a:chExt cx="1325520" cy="1622520"/>
          </a:xfrm>
        </p:grpSpPr>
        <p:sp>
          <p:nvSpPr>
            <p:cNvPr id="132" name="Rectangle 70"/>
            <p:cNvSpPr/>
            <p:nvPr/>
          </p:nvSpPr>
          <p:spPr>
            <a:xfrm rot="18577800">
              <a:off x="3693960" y="2313000"/>
              <a:ext cx="1590480" cy="274320"/>
            </a:xfrm>
            <a:prstGeom prst="rect">
              <a:avLst/>
            </a:pr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71"/>
            <p:cNvSpPr/>
            <p:nvPr/>
          </p:nvSpPr>
          <p:spPr>
            <a:xfrm rot="18474600">
              <a:off x="3917160" y="2756160"/>
              <a:ext cx="412560" cy="2970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2"/>
            <p:cNvSpPr/>
            <p:nvPr/>
          </p:nvSpPr>
          <p:spPr>
            <a:xfrm rot="18505800">
              <a:off x="4628880" y="1872720"/>
              <a:ext cx="456840" cy="331920"/>
            </a:xfrm>
            <a:prstGeom prst="rect">
              <a:avLst/>
            </a:prstGeom>
            <a:solidFill>
              <a:srgbClr val="ff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73"/>
            <p:cNvSpPr/>
            <p:nvPr/>
          </p:nvSpPr>
          <p:spPr>
            <a:xfrm flipV="1">
              <a:off x="3909960" y="1536480"/>
              <a:ext cx="1292040" cy="15541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" name="Group 91"/>
          <p:cNvGrpSpPr/>
          <p:nvPr/>
        </p:nvGrpSpPr>
        <p:grpSpPr>
          <a:xfrm>
            <a:off x="6618240" y="1608120"/>
            <a:ext cx="1522800" cy="1358280"/>
            <a:chOff x="6618240" y="1608120"/>
            <a:chExt cx="1522800" cy="1358280"/>
          </a:xfrm>
        </p:grpSpPr>
        <p:sp>
          <p:nvSpPr>
            <p:cNvPr id="137" name="AutoShape 80"/>
            <p:cNvSpPr/>
            <p:nvPr/>
          </p:nvSpPr>
          <p:spPr>
            <a:xfrm>
              <a:off x="7410600" y="1608120"/>
              <a:ext cx="431280" cy="431280"/>
            </a:xfrm>
            <a:prstGeom prst="flowChartSummingJunction">
              <a:avLst/>
            </a:prstGeom>
            <a:solidFill>
              <a:schemeClr val="accent1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81"/>
            <p:cNvSpPr/>
            <p:nvPr/>
          </p:nvSpPr>
          <p:spPr>
            <a:xfrm>
              <a:off x="6618240" y="183672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AutoShape 82"/>
            <p:cNvSpPr/>
            <p:nvPr/>
          </p:nvSpPr>
          <p:spPr>
            <a:xfrm>
              <a:off x="7423200" y="2065320"/>
              <a:ext cx="431280" cy="431280"/>
            </a:xfrm>
            <a:prstGeom prst="flowChartSummingJunction">
              <a:avLst/>
            </a:prstGeom>
            <a:solidFill>
              <a:schemeClr val="accent1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83"/>
            <p:cNvSpPr/>
            <p:nvPr/>
          </p:nvSpPr>
          <p:spPr>
            <a:xfrm>
              <a:off x="6630840" y="228096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84"/>
            <p:cNvSpPr/>
            <p:nvPr/>
          </p:nvSpPr>
          <p:spPr>
            <a:xfrm>
              <a:off x="7435800" y="2535120"/>
              <a:ext cx="431280" cy="431280"/>
            </a:xfrm>
            <a:prstGeom prst="flowChartSummingJunction">
              <a:avLst/>
            </a:prstGeom>
            <a:solidFill>
              <a:schemeClr val="accent1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85"/>
            <p:cNvSpPr/>
            <p:nvPr/>
          </p:nvSpPr>
          <p:spPr>
            <a:xfrm>
              <a:off x="6643440" y="2763720"/>
              <a:ext cx="7923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86"/>
            <p:cNvSpPr/>
            <p:nvPr/>
          </p:nvSpPr>
          <p:spPr>
            <a:xfrm>
              <a:off x="7823160" y="1803240"/>
              <a:ext cx="2919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87"/>
            <p:cNvSpPr/>
            <p:nvPr/>
          </p:nvSpPr>
          <p:spPr>
            <a:xfrm>
              <a:off x="7860960" y="22860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88"/>
            <p:cNvSpPr/>
            <p:nvPr/>
          </p:nvSpPr>
          <p:spPr>
            <a:xfrm>
              <a:off x="7873920" y="27558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90"/>
            <p:cNvSpPr/>
            <p:nvPr/>
          </p:nvSpPr>
          <p:spPr>
            <a:xfrm flipV="1">
              <a:off x="8140680" y="1790640"/>
              <a:ext cx="360" cy="9651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Line 92"/>
          <p:cNvSpPr/>
          <p:nvPr/>
        </p:nvSpPr>
        <p:spPr>
          <a:xfrm flipH="1" flipV="1">
            <a:off x="2095200" y="1244520"/>
            <a:ext cx="2336760" cy="1244520"/>
          </a:xfrm>
          <a:prstGeom prst="line">
            <a:avLst/>
          </a:prstGeom>
          <a:ln w="5715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93"/>
          <p:cNvSpPr/>
          <p:nvPr/>
        </p:nvSpPr>
        <p:spPr>
          <a:xfrm>
            <a:off x="1638360" y="762120"/>
            <a:ext cx="698040" cy="1002960"/>
          </a:xfrm>
          <a:custGeom>
            <a:avLst/>
            <a:gdLst>
              <a:gd name="textAreaLeft" fmla="*/ 102240 w 698040"/>
              <a:gd name="textAreaRight" fmla="*/ 595800 w 698040"/>
              <a:gd name="textAreaTop" fmla="*/ 146880 h 1002960"/>
              <a:gd name="textAreaBottom" fmla="*/ 856080 h 1002960"/>
            </a:gdLst>
            <a:ahLst/>
            <a:rect l="textAreaLeft" t="textAreaTop" r="textAreaRight" b="textAreaBottom"/>
            <a:pathLst>
              <a:path w="21600" h="21600">
                <a:moveTo>
                  <a:pt x="7167" y="16541"/>
                </a:moveTo>
                <a:cubicBezTo>
                  <a:pt x="8254" y="17228"/>
                  <a:pt x="9513" y="17594"/>
                  <a:pt x="10800" y="17594"/>
                </a:cubicBezTo>
                <a:cubicBezTo>
                  <a:pt x="14552" y="17594"/>
                  <a:pt x="17594" y="14552"/>
                  <a:pt x="17594" y="10800"/>
                </a:cubicBezTo>
                <a:cubicBezTo>
                  <a:pt x="17594" y="7047"/>
                  <a:pt x="14552" y="4006"/>
                  <a:pt x="10800" y="4006"/>
                </a:cubicBezTo>
                <a:cubicBezTo>
                  <a:pt x="7047" y="4006"/>
                  <a:pt x="4006" y="7047"/>
                  <a:pt x="4006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8755" y="21600"/>
                  <a:pt x="6753" y="21019"/>
                  <a:pt x="5025" y="19926"/>
                </a:cubicBezTo>
                <a:lnTo>
                  <a:pt x="3581" y="22208"/>
                </a:lnTo>
                <a:lnTo>
                  <a:pt x="2122" y="15718"/>
                </a:lnTo>
                <a:lnTo>
                  <a:pt x="8611" y="14259"/>
                </a:lnTo>
                <a:lnTo>
                  <a:pt x="7167" y="16541"/>
                </a:lnTo>
                <a:close/>
              </a:path>
            </a:pathLst>
          </a:cu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94"/>
          <p:cNvGrpSpPr/>
          <p:nvPr/>
        </p:nvGrpSpPr>
        <p:grpSpPr>
          <a:xfrm>
            <a:off x="6618240" y="1608120"/>
            <a:ext cx="1522800" cy="1358280"/>
            <a:chOff x="6618240" y="1608120"/>
            <a:chExt cx="1522800" cy="1358280"/>
          </a:xfrm>
        </p:grpSpPr>
        <p:sp>
          <p:nvSpPr>
            <p:cNvPr id="150" name="AutoShape 95"/>
            <p:cNvSpPr/>
            <p:nvPr/>
          </p:nvSpPr>
          <p:spPr>
            <a:xfrm>
              <a:off x="7410600" y="1608120"/>
              <a:ext cx="431280" cy="431280"/>
            </a:xfrm>
            <a:prstGeom prst="flowChartSummingJunction">
              <a:avLst/>
            </a:prstGeom>
            <a:solidFill>
              <a:srgbClr val="ff5050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96"/>
            <p:cNvSpPr/>
            <p:nvPr/>
          </p:nvSpPr>
          <p:spPr>
            <a:xfrm>
              <a:off x="6618240" y="183672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AutoShape 97"/>
            <p:cNvSpPr/>
            <p:nvPr/>
          </p:nvSpPr>
          <p:spPr>
            <a:xfrm>
              <a:off x="7423200" y="2065320"/>
              <a:ext cx="431280" cy="431280"/>
            </a:xfrm>
            <a:prstGeom prst="flowChartSummingJunction">
              <a:avLst/>
            </a:prstGeom>
            <a:solidFill>
              <a:srgbClr val="ff5050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98"/>
            <p:cNvSpPr/>
            <p:nvPr/>
          </p:nvSpPr>
          <p:spPr>
            <a:xfrm>
              <a:off x="6630840" y="2280960"/>
              <a:ext cx="7920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AutoShape 99"/>
            <p:cNvSpPr/>
            <p:nvPr/>
          </p:nvSpPr>
          <p:spPr>
            <a:xfrm>
              <a:off x="7435800" y="2535120"/>
              <a:ext cx="431280" cy="431280"/>
            </a:xfrm>
            <a:prstGeom prst="flowChartSummingJunction">
              <a:avLst/>
            </a:prstGeom>
            <a:solidFill>
              <a:srgbClr val="ff5050"/>
            </a:solidFill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100"/>
            <p:cNvSpPr/>
            <p:nvPr/>
          </p:nvSpPr>
          <p:spPr>
            <a:xfrm>
              <a:off x="6643440" y="2763720"/>
              <a:ext cx="7923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101"/>
            <p:cNvSpPr/>
            <p:nvPr/>
          </p:nvSpPr>
          <p:spPr>
            <a:xfrm>
              <a:off x="7823160" y="1803240"/>
              <a:ext cx="2919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102"/>
            <p:cNvSpPr/>
            <p:nvPr/>
          </p:nvSpPr>
          <p:spPr>
            <a:xfrm>
              <a:off x="7860960" y="22860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103"/>
            <p:cNvSpPr/>
            <p:nvPr/>
          </p:nvSpPr>
          <p:spPr>
            <a:xfrm>
              <a:off x="7873920" y="2755800"/>
              <a:ext cx="26676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104"/>
            <p:cNvSpPr/>
            <p:nvPr/>
          </p:nvSpPr>
          <p:spPr>
            <a:xfrm flipV="1">
              <a:off x="8140680" y="1790640"/>
              <a:ext cx="360" cy="9651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Text Box 105"/>
          <p:cNvSpPr/>
          <p:nvPr/>
        </p:nvSpPr>
        <p:spPr>
          <a:xfrm>
            <a:off x="395280" y="5327640"/>
            <a:ext cx="5879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стота перемагничивания статора определяется частотой вращения ротора и числом пар полю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6"/>
          <p:cNvSpPr/>
          <p:nvPr/>
        </p:nvSpPr>
        <p:spPr>
          <a:xfrm>
            <a:off x="380880" y="6216480"/>
            <a:ext cx="80262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гнитный поток создаётся либо постоянными магнитами, либо электромагнитами, установленными на ро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13"/>
          <p:cNvGraphicFramePr/>
          <p:nvPr/>
        </p:nvGraphicFramePr>
        <p:xfrm>
          <a:off x="6330960" y="4554360"/>
          <a:ext cx="26553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4554360"/>
                    <a:ext cx="2655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304920" y="411480"/>
            <a:ext cx="8534160" cy="606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зучения принципа действия синхронного генератора воспользуемся упрощенной моделью синхронной маш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одвижная часть машины, называемая статором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яет собой полый шихтованный цилиндр 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сердечник статора) с двумя продольными пазами на внутренней поверх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этих пазах расположены стороны витка 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ющегося обмоткой статор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нутренней полости сердечника статора расположена вращающаяся часть машины — ротор, представляющий собой постоянный магнит 4 с полюсами N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закрепленный на валу 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6,1"/>
          <p:cNvPicPr/>
          <p:nvPr/>
        </p:nvPicPr>
        <p:blipFill>
          <a:blip r:embed="rId1"/>
          <a:stretch/>
        </p:blipFill>
        <p:spPr>
          <a:xfrm>
            <a:off x="533520" y="914400"/>
            <a:ext cx="7211520" cy="5028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304920" y="304920"/>
            <a:ext cx="8534160" cy="65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л ротора посредством ременной передачи механически связан с приводным двигателем (на рисунке не показан). В реальном синхронном генераторе в качестве приводного двигателя может быть использован двигатель внутреннего сгорания либо турб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действием вращающего момента приводного двигателя ротор генератора вращается с частотой n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ив часовой стрелки. При этом в обмотке статора в соответствии с явлением электромагнитной индукции наводится ЭДС, направление которой показано на рисунке стрелками. Так как обмотка статора замкнута на нагрузк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в цепи этой обмотки появится т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80880" y="304920"/>
            <a:ext cx="845784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вращения ротора магнитное поле постоянного магнита также вращается с частотой 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поэтому каждый из проводников обмотки статора попеременно оказывается то в зоне северног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агнитного полюса, то в зоне южного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агнитного полю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каждая смена полюсов сопровождается изменением направления ЭДС в обмотке статора. Таким образом, в обмотке статора синхронного генератора наводится переменная ЭДС, а поэтому ток i в этой обмотке и в нагру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акже перем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380880" y="380880"/>
            <a:ext cx="853416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нхронные машин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— это бесколлекторные машины переменного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своему устройству они отличаются от асинхронных машин лишь конструкцией ро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 же касается свойств, то синхронные машины отличаются синхронной частотой вращения ротора      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любой нагруз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304920" y="38088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.Возбуждение  синхронных маш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3333240" cy="2885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380880" y="406440"/>
            <a:ext cx="8381520" cy="496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м способом возбуждения синхронных машин является электромагнитно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буждение, сущность которого состоит в том, что на полюсах ротора располагают обмотку возбу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охождении по этой обмотке постоянного тока возникает МДС возбуждения, которая наводит в магнитной системе машины магнитное п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380880" y="474480"/>
            <a:ext cx="838152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последнего времени для питания обмотки возбуждения применялись специальные генераторы постоянного тока независимого возбуждения называемые возбудителями В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бмотка возбуждения которого (ОВ) получала питание постоянного тока от другого генератора (параллельного возбуждения), называемого подвозбудителем (ПВ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380880" y="380880"/>
            <a:ext cx="8381520" cy="55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тор синхронной машины и якоря возбудителя и подвозбудителя располагаются на общем валу и вращаются одновременно. При этом ток в обмотку возбуждения синхронной машины поступает через контактные кольца и щ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егулирования тока возбуждения применяют регулировочные реостаты, включаемые в цепи возбуждения возбудител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двозбудител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9,1"/>
          <p:cNvPicPr/>
          <p:nvPr/>
        </p:nvPicPr>
        <p:blipFill>
          <a:blip r:embed="rId1"/>
          <a:srcRect l="0" t="10529" r="46980" b="57"/>
          <a:stretch/>
        </p:blipFill>
        <p:spPr>
          <a:xfrm>
            <a:off x="533520" y="1143000"/>
            <a:ext cx="7772040" cy="5105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9,1"/>
          <p:cNvPicPr/>
          <p:nvPr/>
        </p:nvPicPr>
        <p:blipFill>
          <a:blip r:embed="rId1"/>
          <a:srcRect l="52573" t="0" r="0" b="0"/>
          <a:stretch/>
        </p:blipFill>
        <p:spPr>
          <a:xfrm>
            <a:off x="1066680" y="675360"/>
            <a:ext cx="6476760" cy="5317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https://ozapuske.ru/wp-content/uploads/2017/03/princip-samovozbuvdeniya.png"/>
          <p:cNvPicPr/>
          <p:nvPr/>
        </p:nvPicPr>
        <p:blipFill>
          <a:blip r:embed="rId1"/>
          <a:stretch/>
        </p:blipFill>
        <p:spPr>
          <a:xfrm>
            <a:off x="351360" y="380880"/>
            <a:ext cx="8792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s://xn----9sbbc3c4b.xn--p1ai/wp-content/uploads/shema-podklyucheniya-generatora-k-bortovoj-seti-avto.png"/>
          <p:cNvPicPr/>
          <p:nvPr/>
        </p:nvPicPr>
        <p:blipFill>
          <a:blip r:embed="rId1"/>
          <a:stretch/>
        </p:blipFill>
        <p:spPr>
          <a:xfrm>
            <a:off x="142920" y="358920"/>
            <a:ext cx="8619480" cy="52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638320" cy="5807520"/>
          </a:xfrm>
          <a:prstGeom prst="rect">
            <a:avLst/>
          </a:prstGeom>
          <a:ln w="9525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5943600" y="380880"/>
            <a:ext cx="32000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хемы возбуждения синхронной маши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 - обмотка якор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 - ротор генерато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 – обмотка возбужд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 - кольц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 - щет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 - регулятор напряж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7 - возбудител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8 - выпрямител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9 - обмотка якоря возбудител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0 - ротор возбудител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1 - обмотка возбуждения возбудител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2- подвозбудител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3 - обмотка возбуждения подвозбу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304920" y="380880"/>
            <a:ext cx="8457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ощность, затрачиваемая на возбуждение, составляет           0,2 – 5 % полезной мощности ма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80880" y="380880"/>
            <a:ext cx="85341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хронные машины обратимы и могут работать как в режиме генератора, так и в режиме двига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нхронные генераторы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ляют основу электротехнического оборудования электростанций, т. е. практически вся электроэнергия вырабатывается синхронными генератор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диничная мощность современных синхронных генераторов достигает миллиона киловатт и бол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"/>
          <p:cNvSpPr/>
          <p:nvPr/>
        </p:nvSpPr>
        <p:spPr>
          <a:xfrm>
            <a:off x="304920" y="304920"/>
            <a:ext cx="85341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.Особенности конструктивного исполнения гидрогенераторов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богенераторов, дизельгенератор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304920" y="152280"/>
            <a:ext cx="853416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большинстве синхронных машин используется обращенная конструктивная схема по сравнению с машинами постоянного тока, т. е, система возбуждения расположена на роторе, а якорная обмотка на статоре. Это объясняется тем, что через скользящие контакты проще осуществить подвод сравнительно слабого тока к обмотке возбуждения, чем тока к рабочей обмотке. Магнитная система синхронной машины показана на рис.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юса возбуждения синхронной машины размещены на роторе. Сердечники полюсов электромагнитов выполняются так же, как в машинах постоянного тока. На неподвижной части - статоре расположен сердечник 2, набранный из изолированных листов электротехнической стали, в пазах которого размещена рабочая обмотка переменного тока - обычно трехфаз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s://konspekta.net/studopediaru/baza25/12429779261282.files/image002.jpg"/>
          <p:cNvPicPr/>
          <p:nvPr/>
        </p:nvPicPr>
        <p:blipFill>
          <a:blip r:embed="rId1"/>
          <a:stretch/>
        </p:blipFill>
        <p:spPr>
          <a:xfrm>
            <a:off x="2133720" y="2286000"/>
            <a:ext cx="4038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04920" y="380880"/>
            <a:ext cx="85341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урбогенерато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приводятся во вращение паровыми турбинами, которые наиболее экономичны при высоких частотах вра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ому турбогенераторы выполняют с минимальным числом полюсов системы возбуждения - двумя, что соответствует максимальной частоте вращения 3000 об/мин при промышленной частоте 50 Г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228600" y="380880"/>
            <a:ext cx="853416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ая проблема турбогенераторостроения заключается в создании надежной машины при предельных величинах электрических, магнитных, механических и тепловых нагруз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и требования накладывают отпечаток на всю конструкцию машины (рис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s://konspekta.net/studopediaru/baza25/12429779261282.files/image004.jpg"/>
          <p:cNvPicPr/>
          <p:nvPr/>
        </p:nvPicPr>
        <p:blipFill>
          <a:blip r:embed="rId1"/>
          <a:stretch/>
        </p:blipFill>
        <p:spPr>
          <a:xfrm>
            <a:off x="228600" y="380880"/>
            <a:ext cx="5714640" cy="49525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2"/>
          <p:cNvSpPr/>
          <p:nvPr/>
        </p:nvSpPr>
        <p:spPr>
          <a:xfrm>
            <a:off x="5943600" y="457200"/>
            <a:ext cx="27428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- контактные кольца и щеточный аппар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 - подшипник, 3 - рот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- бандаж ро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 - обмотка ста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- стато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- выводы обмотки стат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-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304920" y="380880"/>
            <a:ext cx="84578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турбогенератора выполняется в виде цельной поковки диаметром до 1,25 м, длиной до 7 м (рабочая часть). Полная длина поковки с учетом вала составляет 12 - 15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бочей части фрезеруются пазы, в которые укладывается обмотка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 получается двухполюсный электромагнит цилиндрической формы без явно выраженных полю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380880" y="457200"/>
            <a:ext cx="845784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идрогенератор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 конструкции существенно отличаются от турбогенераторов. Экономичность режима гидравлических турбин зависит от скорости водяного потока, т. е. напора. На равнинных реках создать большой напор невозможно, поэтому частоты вращения турбин весьма низкие - от десятков до сотен оборотов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получить промышленную частоту 50 Гц, такие тихоходные машины приходится делать с большим числом полюсов. Для размещения большого количества полюсов приходится увеличивать диаметр ротора гидрогенератора, иногда до 10 - 11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s://konspekta.net/studopediaru/baza25/12429779261282.files/image006.jpg"/>
          <p:cNvPicPr/>
          <p:nvPr/>
        </p:nvPicPr>
        <p:blipFill>
          <a:blip r:embed="rId1"/>
          <a:stretch/>
        </p:blipFill>
        <p:spPr>
          <a:xfrm>
            <a:off x="380880" y="457200"/>
            <a:ext cx="4789800" cy="48765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2"/>
          <p:cNvSpPr/>
          <p:nvPr/>
        </p:nvSpPr>
        <p:spPr>
          <a:xfrm>
            <a:off x="5334120" y="380880"/>
            <a:ext cx="358092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- ступица ро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 - обод ро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- полюс ротора, 4 - сердечник ста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 - обмотка стато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6 - крестов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7 - тормо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8 - подпят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9 - втулка ро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228600" y="304920"/>
            <a:ext cx="853416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ная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изель-генераторная установ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представляет собой устройство, предназначенное для автономной подачи топлива в аварийном или штатном режиме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 работы подобного генератора - преобразование механической энергии, получаемой из коленчатого вала двигательной системы, в обычную электрическую. Устройство подобного типа позволяет получать электроэнергию из любых генераторов переменного т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57200" y="380880"/>
            <a:ext cx="82292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нхронные двигател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яются главным образом для привода устройств большой мощ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е двигатели по своим технико-экономическим показателям превосходят двигатели других тип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рупных электроэнергетических установках синхронные машины иногда используются в качеств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енсат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— генераторов реактивной мощности, позволяющих повысить коэффициент мощности всей устан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https://konspekta.net/studopediaru/baza25/12429779261282.files/image007.jpg"/>
          <p:cNvPicPr/>
          <p:nvPr/>
        </p:nvPicPr>
        <p:blipFill>
          <a:blip r:embed="rId1"/>
          <a:stretch/>
        </p:blipFill>
        <p:spPr>
          <a:xfrm>
            <a:off x="380880" y="609480"/>
            <a:ext cx="83451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228600" y="304920"/>
            <a:ext cx="85341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цип работы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изель-генер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струкция стандартного устройства данного типа производит топливо посредством механической энергии, которая создаётся при работе двигателя, сжигающего дизельное топливо и расширении веществ, находящихся в его составе в виде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ое описание процесса работы устано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ошипно-шатунный элемент запускает работу металлического коленчатого 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енный таким образом вращательный момент передаётся на ротор генераторной устан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380880" y="380880"/>
            <a:ext cx="838152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анный процесс формирует в роторе электромагнитное поле, преобразующее полученную в результате вращения механическую энергию в привычную для работы электричес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ечная цель использования генератора - получение стандартного переменного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существление процесса трансформации энергии возможно при наличии работоспособных узлов в конструкции Д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304920" y="380880"/>
            <a:ext cx="845784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е узлы генераторной устан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элемент дизель-генератора — это двигатель внутреннего сгорания, задача которого состоит в сжигании залитого в него топлива. Эффективную работу этого элемента обеспечивает система охлаждения (воздушная - для небольших установок, или жидкостная - для промышленных), механизм оперативного долива топлива, а также мелкие узлы, стабилизирующие функционирование все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енератор переменного тока (альтернатор) - установка, использующая вращение магнитного поля, которое трансформирует механическую энергию в стандартную электрическ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современного дизельного двиг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380880" y="304920"/>
            <a:ext cx="838152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жнейший узел дизель-генератора — это двигатель внутреннего сгорания, работающий на дизельном топливе. Воспламенение горючего в указанном типе двигателя происходит от сжатия топлива. Современный рынок богат как двигателями, работающими в четырёхтактном режиме (впуск топлива, его сжатие, рабочий ход и выпуск), так и в двухтактном (сжатие топлива и рабочий хо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реднем, работа дизельных двигателей требует меньшей скорости оборотов, так как топливо более долго прогорает, сама конструкция более массивна, поэтому не получила широкого распространения в автомобильной промышленности. При этом, использование дизельного двигателя в составе ДГУ позволяет сэкономить финансы на покупке более доступного по цене и экономичного топл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380880" y="380880"/>
            <a:ext cx="853416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зельные двигатели различаются в зависимости от сферы их применения. Например, для использования на автономных электростанциях выбирают мощные генераторы, снабжённые жидкостной системой охлаждения. Переносные ДГУ снабжены воздушным вариантом охлаждения, в некоторых случаях устанавливается промежуточная конструкция для понижения температуры воздуха. Массивность деталей дизельного двигателя нивелируется экономичностью и надёжностью использования топлива, а также большой износостойкостью подобного оборудования. По этим причинам именно ДГУ - самый выгодный варианты для современных мощных электростанций. Пожаробезопасные и экономичные установки прослужат хозяевам в течение долг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228600" y="457200"/>
            <a:ext cx="87627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64.Характерист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синхронного генерато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304920" y="1295280"/>
            <a:ext cx="861012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стика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лостого хода 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график зависимости напряжения на выходе генератора в режиме х.х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Е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т тока возбужден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в.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20,9"/>
          <p:cNvPicPr/>
          <p:nvPr/>
        </p:nvPicPr>
        <p:blipFill>
          <a:blip r:embed="rId1"/>
          <a:stretch/>
        </p:blipFill>
        <p:spPr>
          <a:xfrm>
            <a:off x="2819520" y="3352320"/>
            <a:ext cx="4343040" cy="3198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304920" y="304920"/>
            <a:ext cx="861012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нешняя характеристика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зависимость напряжения на выводах обмотки статора от тока нагрузки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 пр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 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но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20,12"/>
          <p:cNvPicPr/>
          <p:nvPr/>
        </p:nvPicPr>
        <p:blipFill>
          <a:blip r:embed="rId1"/>
          <a:srcRect l="0" t="0" r="45429" b="0"/>
          <a:stretch/>
        </p:blipFill>
        <p:spPr>
          <a:xfrm>
            <a:off x="2133720" y="2362320"/>
            <a:ext cx="4647960" cy="3961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20,12"/>
          <p:cNvPicPr/>
          <p:nvPr/>
        </p:nvPicPr>
        <p:blipFill>
          <a:blip r:embed="rId1"/>
          <a:srcRect l="53343" t="0" r="0" b="-1338"/>
          <a:stretch/>
        </p:blipFill>
        <p:spPr>
          <a:xfrm>
            <a:off x="2895480" y="3167640"/>
            <a:ext cx="3276360" cy="3308760"/>
          </a:xfrm>
          <a:prstGeom prst="rect">
            <a:avLst/>
          </a:prstGeom>
          <a:ln w="9525">
            <a:noFill/>
          </a:ln>
        </p:spPr>
      </p:pic>
      <p:sp>
        <p:nvSpPr>
          <p:cNvPr id="204" name="Прямоугольник 2"/>
          <p:cNvSpPr/>
          <p:nvPr/>
        </p:nvSpPr>
        <p:spPr>
          <a:xfrm>
            <a:off x="457200" y="457200"/>
            <a:ext cx="838152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гулировочная характеристи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Она показывает, как следует изменять ток возбуждения генератора при изменениях нагрузки, чтобы напряжение на зажимах генератора оставалось неизменно равным номинальному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пр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н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н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Устройство синхронной машин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нхронные машины независимо от назначения и их использования состоят из двух основных частей: неподвижного статора и вращающегося внутри него ро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отор и статор разделены воздушным заз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304920" y="457200"/>
            <a:ext cx="84578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.Параллельная работа синхронных генераторов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80880" y="400680"/>
            <a:ext cx="85341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электрических станциях обычно устанавливают несколько синхронных генераторов, включаемых параллельно для совместно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ескольких генераторов вместо одного суммарной мощности дает преимущества, объясняемые теми же соображениями, которые были изложены применительно к параллельной работе трансформ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21,1"/>
          <p:cNvPicPr/>
          <p:nvPr/>
        </p:nvPicPr>
        <p:blipFill>
          <a:blip r:embed="rId1"/>
          <a:srcRect l="11011" t="1790" r="0" b="0"/>
          <a:stretch/>
        </p:blipFill>
        <p:spPr>
          <a:xfrm>
            <a:off x="2438280" y="4262400"/>
            <a:ext cx="5028840" cy="2595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380880" y="380880"/>
            <a:ext cx="853416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ключении синхронного генератора в сеть на параллельную работу необходимо соблюдать следующие усло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236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генератор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омент подключения его к сети должна быть равна и противоположна по фазе напряжению сети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236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ота ЭДС генератора  должна быть равна частоте переменного напряжения в сети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5236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ядок следования фаз на выводах генератора должен быть таким же, что и на зажимах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304920" y="331200"/>
            <a:ext cx="8534160" cy="520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едение генератора в состояние, удовлетворяющее всем указанным условиям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иза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блюдение любого из условий синхронизации приводит к появлению в обмотке статора больших уравнительных токов, чрезмерное значение которых может явить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ой авар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ить генератор в сеть с параллельно работающими генераторами можно или способ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ной синхрониз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или способ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инхро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304920" y="408240"/>
            <a:ext cx="853416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 точной синхро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Сущность этого способа состоит в том, что, прежде чем включить генератор в сеть, его приводят в состояние, удовлетворяющее всем вышеперечисленным условиям. Момент соблюдения этих условий, т. е. момент синхронизации, определяют прибором, называемы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оскоп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конструкции синхроноскопы разделяют на стрелочные и ламповые. Рассмотрим процесс синхронизации генераторов с применением лампового синхроноскопа, который состоит из трех ламп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 2, 3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оженных в вершинах равностороннего треугольника. При включении ламп по схеме «на погасание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мент синхронизации соответствует одновременному погасанию всех лам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304920" y="457200"/>
            <a:ext cx="85341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у ЭДС регулируют изменением тока возбу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оту регулируют изменением частоты вращения приводного двиг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2895480" y="3200400"/>
          <a:ext cx="3894840" cy="83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200400"/>
                    <a:ext cx="3894840" cy="83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3581280" y="4343400"/>
          <a:ext cx="1676160" cy="108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343400"/>
                    <a:ext cx="1676160" cy="10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21,2"/>
          <p:cNvPicPr/>
          <p:nvPr/>
        </p:nvPicPr>
        <p:blipFill>
          <a:blip r:embed="rId1"/>
          <a:stretch/>
        </p:blipFill>
        <p:spPr>
          <a:xfrm>
            <a:off x="1447920" y="533520"/>
            <a:ext cx="6624000" cy="571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380880" y="480960"/>
            <a:ext cx="8381520" cy="48456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 самосинхро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Ротор невозбужденного генератора приводят во вращение первичным двигателем до частоты вращения, отличающейся от синхронной  не более чем на 2—5%, затем генератор подключают к с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того чтобы избежать перенапряжений в обмотке ротора в момент подключения генератора к сети, ее замыкают на некоторое активное сопротивление. Так как в момент подключения генератора к сети его ЭДС равна нулю (генератор не возбужден), то под действием напряжения сети в обмотке статора наблюдается резкий бросок тока, превышающий номинальное значение тока генера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304920" y="304920"/>
            <a:ext cx="853416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лед за включением обмотки статора в сеть подключают обмотку возбуждения к источнику постоянного тока и синхронный генератор под действием электромагнитного момента, действующего на его ротор, втягивается в синхронизм, т. е. частота вращения ротора становится синхронной. При этом ток статора быстро умень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380880" y="380880"/>
            <a:ext cx="8381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 самосинхронизации (грубой синхронизации) обычно применяют в генераторах при их частых включения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способ прост и легко автоматизиру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татор синхронной ма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тор трехфазной синхронной машины аналогичен статору трехфазного асинхронного двигателя и содержит шихтованный цилиндрический сердечник с пазами на внутренней поверхности, в которых располагаются фазы трехфазной обмотки ста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цы обмотки статора выведены на клеммную пан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380880" y="2057400"/>
            <a:ext cx="84578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.Синхронные двигатели, компенса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4"/>
          <p:cNvSpPr/>
          <p:nvPr/>
        </p:nvSpPr>
        <p:spPr>
          <a:xfrm>
            <a:off x="304920" y="380880"/>
            <a:ext cx="853416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воей конструкции синхронные двигатели в принципе не отличаются от синхронных генераторов, но все же имеют некоторые особ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изготовляют преимущественно явнополюсными с 2р= 6-24 полюсов; воздушный зазор делают меньшим, чем в генераторах такой же мощности, что способствует улучшению ряда параметров двигателя, в частности уменьшению пускового тока; демпферную (успокоительную) обмотку выполняют стержнями большего сечения, так как при пуске двигателя она является пусковой обмот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380880" y="334080"/>
            <a:ext cx="8457840" cy="594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к синхронного двигателя непосредственным включением в сеть невозможен, так как ротор из-за своей значительной инерции не может быть сразу увлечен вращающимся полем статора, частота вращения которого устанавливается мгновенно. В результате устойчивая магнитная связь между статором и ротором не возника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304920" y="304920"/>
            <a:ext cx="85341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уска синхронного двигателя приходится применять специальные способы, сущность которых состоит в предварительном приведении ротора во вращение до синхронной или близкой к ней частоте, при которой между статором и ротором устанавливается устойчивая магнитная связ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олучил так называемый асинхронный пуск синхронного двигателя. Для осуществления такого пуска на роторе располагается специальная пусковая обмотка, представляющая собой короткозамкнутую обмотку типа беличьей клетки как у ротора короткозамкнутого асинхронного двиг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ки этой обмотки располагаются в полюсах ро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Схема пуска в ход синхронного двигателя</a:t>
            </a: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848680" cy="545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871880" y="1600200"/>
            <a:ext cx="381456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Вначале обмотка постоянного тока ротора (обмотка возбуждения) замыкается на пусковой реостат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Затем подается трехфазное напряжение на обмотку статора, по ее фазам начинают проходить токи и создается вращающееся магнитное поле ста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нхронный двигатель за счет наличия пусковой обмотки трогается с места и начинает разгоняться как асинхронный двигат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86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Когда частота вращения ротора синхронного двигателя достигнет примерно 95 % синхронной частоты вращения поля статора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усковой реостат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ключают, а обмотку возбуждения ротора подключают к источнику постоянного напряжения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8640" indent="-20124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бмотке возбуждения идет постоянный ток, и на роторе образуются магнитные полюса. Так как в это время частота вращения  магнитного поля статора незначительно  превышает частоту вращения ротора, то разноименные магнитные полюса ротора и поля статора притягиваются к друг другу,  а одноименные - отталки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ff9257"/>
                </a:solidFill>
                <a:latin typeface="Verdana"/>
              </a:rPr>
              <a:t>Пуск в ход синхронного двигател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езультате ротор получает некоторое ускорение и после нескольких качаний ротора его частота вращения сравнивается с частотой вращения поля статора и далее остается постоянной (говорят, что двигатель втянулся в синхрониз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Общий вид статора синхронной машины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0" t="0" r="51312" b="0"/>
          <a:stretch/>
        </p:blipFill>
        <p:spPr>
          <a:xfrm>
            <a:off x="2570040" y="2133720"/>
            <a:ext cx="405900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457200" y="380880"/>
            <a:ext cx="84578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торым способом является применение вспомогательного двигателя малой мощности, с помощью которого синхронный двигатель разгоняется до скорости, близкой к синхро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304920" y="175248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ные компенса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304920" y="380880"/>
            <a:ext cx="853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нсация реактивной мощ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3400200" cy="2095200"/>
          </a:xfrm>
          <a:prstGeom prst="rect">
            <a:avLst/>
          </a:prstGeom>
          <a:ln w="9525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380880" y="2971800"/>
            <a:ext cx="83815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любом развитом промышленном предприятии  большая часть электроэнергии потребляется двигателями (синхронными, асинхронными, однофазными, трехфазными) и трансформаторами, т.е. преобладает реактивная мощность индуктивного характера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457200" y="457200"/>
            <a:ext cx="845784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ует отметить, что на предприятиях устанавливают не один электросчетчик, как в домах и квартирах, а два, один из которых активный, а другой - реактив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за перерасход напрасно «гоняемой» по линиям электропередач энергии соответствующие органы беспощадно штрафуют, так что администрация кровно заинтересована в том, чтобы произвести расчет реактивной мощности и принять меры к ее сниже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3720" cy="320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99320" y="1143000"/>
            <a:ext cx="8145000" cy="457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457200" y="396000"/>
            <a:ext cx="8457840" cy="301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ный компенсатор (СК) представляет собой синхронную машину, предназначенную для генерирования реактивной мощности. Синхронный компенсатор включают в электрическую систему с целью повышения ее коэффициента мощ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043240" cy="3362040"/>
          </a:xfrm>
          <a:prstGeom prst="rect">
            <a:avLst/>
          </a:prstGeom>
          <a:ln w="9525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753280" cy="2057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304920" y="304920"/>
            <a:ext cx="85341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происходящих при этом явлений состоит в том, что необходимую для работы некоторых потребителей реактивную мощность вырабатывает не синхронный генератор, установленный на электростанции, а синхронный компенсатор, установленный в непосредственной близости к потребите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 числу потребителей переменного тока, требующих значительной реактивной мощности, в первую очередь относятся асинхронные двиг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304920" y="304920"/>
            <a:ext cx="85341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рисунке показана система, состоящая из синхронного генератора (СГ), повышающего Т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нижающего Т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ансформаторов, линии электропередачи (ЛЭП), потребите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синхронного компенсатора (СК), включенного непосредственно на входе потреб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22,7"/>
          <p:cNvPicPr/>
          <p:nvPr/>
        </p:nvPicPr>
        <p:blipFill>
          <a:blip r:embed="rId1"/>
          <a:srcRect l="10612" t="-4661" r="0" b="0"/>
          <a:stretch/>
        </p:blipFill>
        <p:spPr>
          <a:xfrm>
            <a:off x="457200" y="3657600"/>
            <a:ext cx="8423280" cy="289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304920" y="304920"/>
            <a:ext cx="853416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хронный компенсатор, включенный в сеть, работает как синхронный двигатель без нагрузки т. е. в режиме х. х., и при этом вырабатывает реактивную мощнос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ую для работы потребител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апример группы асинхронных двиг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я этому реактивная мощность в СГ и ЛЭП доведена до некоторого минимального значения . Это способствует повышению технико-экономических показателей всей электр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857640" cy="5936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22,8"/>
          <p:cNvPicPr/>
          <p:nvPr/>
        </p:nvPicPr>
        <p:blipFill>
          <a:blip r:embed="rId1"/>
          <a:srcRect l="0" t="6102" r="48691" b="33475"/>
          <a:stretch/>
        </p:blipFill>
        <p:spPr>
          <a:xfrm>
            <a:off x="1295280" y="457200"/>
            <a:ext cx="6631920" cy="2361960"/>
          </a:xfrm>
          <a:prstGeom prst="rect">
            <a:avLst/>
          </a:prstGeom>
          <a:ln w="9525">
            <a:noFill/>
          </a:ln>
        </p:spPr>
      </p:pic>
      <p:pic>
        <p:nvPicPr>
          <p:cNvPr id="253" name="Picture 3" descr="22,8"/>
          <p:cNvPicPr/>
          <p:nvPr/>
        </p:nvPicPr>
        <p:blipFill>
          <a:blip r:embed="rId2"/>
          <a:srcRect l="47953" t="0" r="0" b="0"/>
          <a:stretch/>
        </p:blipFill>
        <p:spPr>
          <a:xfrm>
            <a:off x="2057400" y="3200400"/>
            <a:ext cx="5562360" cy="3231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04920" y="405000"/>
            <a:ext cx="8534160" cy="478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хронные компенсаторы применяют также для стабилизации напряжения в сети при передаче энергии по линиям большой протяж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больших индуктивных нагрузках напряжение в конце линии (у потребителей) оказывается намного меньше, чем в начале; при малых нагрузках, наоборот, под влиянием емкостных сопротивлений линии напряжение в конце линии может даже повышаться по сравнению с напряжением в нача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304920" y="304920"/>
            <a:ext cx="85341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же в конце линии (у потребителей) включить СК, работающий при больших нагрузках с перевозбуждением и при малых нагрузках с недовозбуждением, то это позволит поддерживать напряжение в конце линии практически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труктивно СК отличается от СД облегченным ро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914400" y="277920"/>
            <a:ext cx="77720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800" spc="-1" strike="noStrike">
                <a:solidFill>
                  <a:srgbClr val="ff9257"/>
                </a:solidFill>
                <a:latin typeface="Verdana"/>
              </a:rPr>
              <a:t>Типы роторов синхронной машин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14400" y="1600200"/>
            <a:ext cx="777204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just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торы синхронной машины бывают двух тип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явно выраженными полюс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неявно выраженными полю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636</TotalTime>
  <Application>LibreOffice/7.4.7.2$Linux_X86_64 LibreOffice_project/40$Build-2</Application>
  <AppVersion>15.0000</AppVersion>
  <Words>914</Words>
  <Paragraphs>1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 И</cp:lastModifiedBy>
  <dcterms:modified xsi:type="dcterms:W3CDTF">2021-11-26T08:42:40Z</dcterms:modified>
  <cp:revision>10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2</vt:r8>
  </property>
</Properties>
</file>