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D3B8-3F4B-4B8D-9134-6904EAB8C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3EF0-BA9C-481B-B7ED-7C8B5916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9A89-FAC1-4B57-BF14-4ED1A016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4A25-E7F6-4BEB-8040-1AAB7090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7A1E-6C0A-4E73-A8E6-D2BC751C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F8E6-E932-42CB-8CC9-A7F63217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E8BA-F384-4D01-BF41-7D670E41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D43C-0DA3-4D99-AF21-45CC87A1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4E90-6764-4064-8A89-A5B89D68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90DE-2348-47B6-B92E-F5127321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C45C-F15B-4961-A034-B4ABBD46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A5FC-1D9F-477A-8430-0E1517EC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5F37-F55B-4622-96E3-BE4783D7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026D-920F-46FC-B1F8-A6E0E562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5C9D-575D-49F5-AFEF-8A34A227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A43B-3891-4A2E-89A6-EBFCB953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F884-9375-435E-B2C4-0B93CA1C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334C-BD11-4F71-B1E1-F79B7475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2D02-C6EE-4424-852A-8F461028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9DEA-EF59-4310-ADDD-3E6644BF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9304-BD12-4477-9DA1-FB8F9017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33E2-9AB4-4046-A3DA-0333D8BB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797A-43BB-4744-89A3-64C56C81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395C-7A40-4AE1-867A-A41F7160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2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3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15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sp>
          <p:nvSpPr>
            <p:cNvPr id="12" name="Freeform 14"/>
            <p:cNvSpPr/>
            <p:nvPr/>
          </p:nvSpPr>
          <p:spPr>
            <a:xfrm>
              <a:off x="0" y="-7920"/>
              <a:ext cx="863280" cy="56977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5697720"/>
                <a:gd name="textAreaBottom" fmla="*/ 5698080 h 5697720"/>
              </a:gdLst>
              <a:ahLst/>
              <a:rect l="textAreaLeft" t="textAreaTop" r="textAreaRight" b="textAreaBottom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" name="Straight Connector 18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14" name="Straight Connector 19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15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Isosceles Triangle 22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Isosceles Triangle 26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6960" y="240444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96D8D4-11D4-4C7F-8068-E569225D71C5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43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64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65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66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1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C43C7D-2774-4003-B24D-1330EA09D8EB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06960" y="13896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54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My own TV channel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06960" y="5640840"/>
            <a:ext cx="7766640" cy="109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36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The name of my TV channel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i="1" lang="en-US" sz="18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The name of my channel would be holiday channe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19" name="Picture 2" descr="https://im0-tub-ru.yandex.net/i?id=397fd791deea4352d2698ae94969c82d-l&amp;n=13"/>
          <p:cNvPicPr/>
          <p:nvPr/>
        </p:nvPicPr>
        <p:blipFill>
          <a:blip r:embed="rId1"/>
          <a:stretch/>
        </p:blipFill>
        <p:spPr>
          <a:xfrm>
            <a:off x="2386080" y="3429000"/>
            <a:ext cx="3709440" cy="27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1"/>
                </a:solidFill>
                <a:latin typeface="Trebuchet MS"/>
              </a:rPr>
              <a:t> </a:t>
            </a:r>
            <a:r>
              <a:rPr b="0" i="1" lang="en-US" sz="36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Emblem for the channel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i="1" lang="en-US" sz="18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The emblem of my channel would be the beach, as my channel is associated with relaxation and natur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22" name="Picture 6" descr="https://www.askwallpapers.com/mini/201501/3081.jpg"/>
          <p:cNvPicPr/>
          <p:nvPr/>
        </p:nvPicPr>
        <p:blipFill>
          <a:blip r:embed="rId1"/>
          <a:stretch/>
        </p:blipFill>
        <p:spPr>
          <a:xfrm>
            <a:off x="1457280" y="3429000"/>
            <a:ext cx="4638240" cy="26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32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Programmes and transfer on my channel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i="1" lang="en-US" sz="16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On my channel will show historical program as well, every 3 hours there will be a programme with a view of the beach and the forest under relaxed music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25" name="Picture 2" descr="https://i.ytimg.com/vi/Vo0KJLyCuSU/mqdefault.jpg"/>
          <p:cNvPicPr/>
          <p:nvPr/>
        </p:nvPicPr>
        <p:blipFill>
          <a:blip r:embed="rId1"/>
          <a:stretch/>
        </p:blipFill>
        <p:spPr>
          <a:xfrm>
            <a:off x="1005120" y="3429000"/>
            <a:ext cx="3673800" cy="206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ttp://bilim-all.kz/uploads/images/2017/01/24/400x276/c24ea3ffc4100a4ef0f0642ca6f71dfe.jpg"/>
          <p:cNvPicPr/>
          <p:nvPr/>
        </p:nvPicPr>
        <p:blipFill>
          <a:blip r:embed="rId2"/>
          <a:stretch/>
        </p:blipFill>
        <p:spPr>
          <a:xfrm>
            <a:off x="6095880" y="3412440"/>
            <a:ext cx="301860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60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The and.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Грань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5fcbef"/>
      </a:accent1>
      <a:accent2>
        <a:srgbClr val="2e83c3"/>
      </a:accent2>
      <a:accent3>
        <a:srgbClr val="42d0a2"/>
      </a:accent3>
      <a:accent4>
        <a:srgbClr val="2e946b"/>
      </a:accent4>
      <a:accent5>
        <a:srgbClr val="42b051"/>
      </a:accent5>
      <a:accent6>
        <a:srgbClr val="96d141"/>
      </a:accent6>
      <a:hlink>
        <a:srgbClr val="3fcde7"/>
      </a:hlink>
      <a:folHlink>
        <a:srgbClr val="a9d3e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рань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5fcbef"/>
      </a:accent1>
      <a:accent2>
        <a:srgbClr val="2e83c3"/>
      </a:accent2>
      <a:accent3>
        <a:srgbClr val="42d0a2"/>
      </a:accent3>
      <a:accent4>
        <a:srgbClr val="2e946b"/>
      </a:accent4>
      <a:accent5>
        <a:srgbClr val="42b051"/>
      </a:accent5>
      <a:accent6>
        <a:srgbClr val="96d141"/>
      </a:accent6>
      <a:hlink>
        <a:srgbClr val="3fcde7"/>
      </a:hlink>
      <a:folHlink>
        <a:srgbClr val="a9d3e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38</TotalTime>
  <Application>LibreOffice/7.4.7.2$Linux_X86_64 LibreOffice_project/40$Build-2</Application>
  <AppVersion>15.0000</AppVersion>
  <Words>89</Words>
  <Paragraphs>8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21T15:45:40Z</dcterms:created>
  <dc:creator>Master</dc:creator>
  <dc:description/>
  <dc:language>en-US</dc:language>
  <cp:lastModifiedBy>Администратор</cp:lastModifiedBy>
  <dcterms:modified xsi:type="dcterms:W3CDTF">2020-06-03T22:14:00Z</dcterms:modified>
  <cp:revision>5</cp:revision>
  <dc:subject/>
  <dc:title>My own TV channel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5</vt:r8>
  </property>
</Properties>
</file>