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142F-6CC9-4A7D-A143-3A3344F2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F432-FFDF-42D5-ACBE-972D34E6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49CB-B1F7-422C-B626-591A42B0C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8344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49008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8344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49008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5AF6-0C74-48B1-BA3D-0FFCE2C07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DB86-515E-4740-8C84-56B81AAEC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5DEF-F4A6-410D-ABC2-7DEDD451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3DB4-62A4-4A1E-914F-898D41A1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2DC3-79AB-4D66-BA81-CE8F2B9A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26D9-82C0-4574-8AE5-E3A355A5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F11D-33DD-4071-A3F8-28E33D8C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DA3B-919D-4582-A2A3-2242A502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3B9F-87C5-40DE-9E87-D08304E2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8008-B733-4D2F-BE98-12EC12AE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B187-4F55-459E-90E7-4F69690D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056C-729E-4E38-B123-A5441604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DF24-C137-4519-B2C8-B039CC4CB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8344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9008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8344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9008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702B-93B4-4A11-98E7-45CED4E7F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989C-6363-40CF-A801-4102FC3D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D17E-9D1C-40E5-B533-ED451ED1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6003-FDA5-4DEB-A1A6-2B6E69C0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DE76-5843-4EE8-BE3B-AAE097BB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F366-7391-48CA-B9B9-CF88B638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7F54-C529-4367-AA26-13AFF2D9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A9DF-2ACA-47A6-9432-4A53E39F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3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1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cxnSp>
          <p:nvCxnSpPr>
            <p:cNvPr id="2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sp>
          <p:nvSpPr>
            <p:cNvPr id="3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2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1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15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sp>
          <p:nvSpPr>
            <p:cNvPr id="12" name="Freeform 14"/>
            <p:cNvSpPr/>
            <p:nvPr/>
          </p:nvSpPr>
          <p:spPr>
            <a:xfrm>
              <a:off x="0" y="-7920"/>
              <a:ext cx="863280" cy="5697720"/>
            </a:xfrm>
            <a:custGeom>
              <a:avLst/>
              <a:gdLst>
                <a:gd name="textAreaLeft" fmla="*/ 0 w 863280"/>
                <a:gd name="textAreaRight" fmla="*/ 863640 w 863280"/>
                <a:gd name="textAreaTop" fmla="*/ 0 h 5697720"/>
                <a:gd name="textAreaBottom" fmla="*/ 5698080 h 5697720"/>
              </a:gdLst>
              <a:ahLst/>
              <a:rect l="textAreaLeft" t="textAreaTop" r="textAreaRight" b="textAreaBottom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chemeClr val="accent1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" name="Straight Connector 18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cxnSp>
          <p:nvCxnSpPr>
            <p:cNvPr id="14" name="Straight Connector 19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sp>
          <p:nvSpPr>
            <p:cNvPr id="15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Isosceles Triangle 22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2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Isosceles Triangle 26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06960" y="2404440"/>
            <a:ext cx="7766640" cy="16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dt" idx="1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2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5B5F5B-3042-4D22-8AB4-0446A4F83633}" type="slidenum">
              <a:rPr b="0" lang="en-US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43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64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cxnSp>
          <p:nvCxnSpPr>
            <p:cNvPr id="65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5fcbef">
                  <a:alpha val="70000"/>
                </a:srgbClr>
              </a:solidFill>
              <a:round/>
            </a:ln>
          </p:spPr>
        </p:cxnSp>
        <p:sp>
          <p:nvSpPr>
            <p:cNvPr id="66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lumMod val="75000"/>
                <a:alpha val="5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2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lumMod val="75000"/>
                <a:alpha val="66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Isosceles Triangle 1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7CF0A3-E916-466C-825A-BDA49E19F89B}" type="slidenum">
              <a:rPr b="0" lang="en-US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06960" y="138960"/>
            <a:ext cx="7766640" cy="16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en-US" sz="54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Trebuchet MS"/>
              </a:rPr>
              <a:t>My own TV channel.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06960" y="5640840"/>
            <a:ext cx="7766640" cy="109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808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en-US" sz="36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Trebuchet MS"/>
              </a:rPr>
              <a:t>The name of my TV channel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i="1" lang="en-US" sz="18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Trebuchet MS"/>
              </a:rPr>
              <a:t>The name of my channel would be holiday channel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19" name="Picture 2" descr="https://im0-tub-ru.yandex.net/i?id=397fd791deea4352d2698ae94969c82d-l&amp;n=13"/>
          <p:cNvPicPr/>
          <p:nvPr/>
        </p:nvPicPr>
        <p:blipFill>
          <a:blip r:embed="rId1"/>
          <a:stretch/>
        </p:blipFill>
        <p:spPr>
          <a:xfrm>
            <a:off x="2386080" y="3429000"/>
            <a:ext cx="3709440" cy="27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chemeClr val="accent1"/>
                </a:solidFill>
                <a:latin typeface="Trebuchet MS"/>
              </a:rPr>
              <a:t> </a:t>
            </a:r>
            <a:r>
              <a:rPr b="0" i="1" lang="en-US" sz="36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Trebuchet MS"/>
              </a:rPr>
              <a:t>Emblem for the channel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i="1" lang="en-US" sz="18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Trebuchet MS"/>
              </a:rPr>
              <a:t>The emblem of my channel would be the beach, as my channel is associated with relaxation and natur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22" name="Picture 6" descr="https://www.askwallpapers.com/mini/201501/3081.jpg"/>
          <p:cNvPicPr/>
          <p:nvPr/>
        </p:nvPicPr>
        <p:blipFill>
          <a:blip r:embed="rId1"/>
          <a:stretch/>
        </p:blipFill>
        <p:spPr>
          <a:xfrm>
            <a:off x="1457280" y="3429000"/>
            <a:ext cx="4638240" cy="261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en-US" sz="32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Trebuchet MS"/>
              </a:rPr>
              <a:t>Programmes and transfer on my channel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</a:pPr>
            <a:r>
              <a:rPr b="0" i="1" lang="en-US" sz="16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Trebuchet MS"/>
              </a:rPr>
              <a:t>On my channel will show historical program as well, every 3 hours there will be a programme with a view of the beach and the forest under relaxed music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25" name="Picture 2" descr="https://i.ytimg.com/vi/Vo0KJLyCuSU/mqdefault.jpg"/>
          <p:cNvPicPr/>
          <p:nvPr/>
        </p:nvPicPr>
        <p:blipFill>
          <a:blip r:embed="rId1"/>
          <a:stretch/>
        </p:blipFill>
        <p:spPr>
          <a:xfrm>
            <a:off x="1005120" y="3429000"/>
            <a:ext cx="3673800" cy="2066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http://bilim-all.kz/uploads/images/2017/01/24/400x276/c24ea3ffc4100a4ef0f0642ca6f71dfe.jpg"/>
          <p:cNvPicPr/>
          <p:nvPr/>
        </p:nvPicPr>
        <p:blipFill>
          <a:blip r:embed="rId2"/>
          <a:stretch/>
        </p:blipFill>
        <p:spPr>
          <a:xfrm>
            <a:off x="6095880" y="3412440"/>
            <a:ext cx="301860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en-US" sz="6000" spc="-1" strike="noStrike" u="sng">
                <a:solidFill>
                  <a:schemeClr val="accent1">
                    <a:lumMod val="50000"/>
                  </a:schemeClr>
                </a:solidFill>
                <a:uFillTx/>
                <a:latin typeface="Trebuchet MS"/>
              </a:rPr>
              <a:t>The and.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Грань">
  <a:themeElements>
    <a:clrScheme name="Facet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5fcbef"/>
      </a:accent1>
      <a:accent2>
        <a:srgbClr val="2e83c3"/>
      </a:accent2>
      <a:accent3>
        <a:srgbClr val="42d0a2"/>
      </a:accent3>
      <a:accent4>
        <a:srgbClr val="2e946b"/>
      </a:accent4>
      <a:accent5>
        <a:srgbClr val="42b051"/>
      </a:accent5>
      <a:accent6>
        <a:srgbClr val="96d141"/>
      </a:accent6>
      <a:hlink>
        <a:srgbClr val="3fcde7"/>
      </a:hlink>
      <a:folHlink>
        <a:srgbClr val="a9d3e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рань">
  <a:themeElements>
    <a:clrScheme name="Facet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5fcbef"/>
      </a:accent1>
      <a:accent2>
        <a:srgbClr val="2e83c3"/>
      </a:accent2>
      <a:accent3>
        <a:srgbClr val="42d0a2"/>
      </a:accent3>
      <a:accent4>
        <a:srgbClr val="2e946b"/>
      </a:accent4>
      <a:accent5>
        <a:srgbClr val="42b051"/>
      </a:accent5>
      <a:accent6>
        <a:srgbClr val="96d141"/>
      </a:accent6>
      <a:hlink>
        <a:srgbClr val="3fcde7"/>
      </a:hlink>
      <a:folHlink>
        <a:srgbClr val="a9d3e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acet</Template>
  <TotalTime>38</TotalTime>
  <Application>LibreOffice/7.4.7.2$Linux_X86_64 LibreOffice_project/40$Build-2</Application>
  <AppVersion>15.0000</AppVersion>
  <Words>89</Words>
  <Paragraphs>8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21T15:45:40Z</dcterms:created>
  <dc:creator>Master</dc:creator>
  <dc:description/>
  <dc:language>en-US</dc:language>
  <cp:lastModifiedBy>Администратор</cp:lastModifiedBy>
  <dcterms:modified xsi:type="dcterms:W3CDTF">2020-06-03T22:14:00Z</dcterms:modified>
  <cp:revision>5</cp:revision>
  <dc:subject/>
  <dc:title>My own TV channel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Произвольный</vt:lpwstr>
  </property>
  <property fmtid="{D5CDD505-2E9C-101B-9397-08002B2CF9AE}" pid="3" name="Slides">
    <vt:r8>5</vt:r8>
  </property>
</Properties>
</file>