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8B8-FAF4-4F97-B31D-F4AD4B0F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7B2-B763-4ECF-BF7F-069C6DE0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96A-8E42-4582-AC17-56EC0DA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069-F64F-420A-8C58-452499E6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AA7F-C12A-4169-9FBE-C4660BC6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A916-D48C-47B9-9E86-820A8640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682-9179-409B-96C9-93D1042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7F30-864C-4A49-BC90-F9D09D3A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5CCC-6E68-4C76-91B4-B02777F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F7F4-1881-4338-9E13-68F87D5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D3E9-81BF-4314-85A9-11BC56B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4C2-7620-4238-9BC5-798E8C5D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951-B15B-42C2-8F4C-825A4CB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4346-F8BA-4A86-845D-B378E1C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8106-D6EF-431A-85AB-9255CF6B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F39-ABC4-45A9-B7C9-7BCD158E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6851-47F5-4C95-96BE-F0FD8143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673-F76A-4B60-A3BD-7610BA6D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5BD-0F44-4486-B311-FE7F0222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FE1-DCEC-4C17-A7AE-22510CF4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150-B004-4A92-BD64-0E2CB1D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F9D-7985-4237-94D6-A17F1B0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772-459B-4017-9470-9BF9F44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F21-842A-4DBA-A586-89FBFD5B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B79D37-C7EA-4365-A8D5-75C3761E45F7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CEE39D-8883-4AB8-86C4-244D3C404CA6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6960" y="1389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54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My own TV channel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06960" y="564084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TV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channel would be holiday chann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9" name="Picture 2" descr="https://im0-tub-ru.yandex.net/i?id=397fd791deea4352d2698ae94969c82d-l&amp;n=13"/>
          <p:cNvPicPr/>
          <p:nvPr/>
        </p:nvPicPr>
        <p:blipFill>
          <a:blip r:embed="rId1"/>
          <a:stretch/>
        </p:blipFill>
        <p:spPr>
          <a:xfrm>
            <a:off x="2386080" y="3429000"/>
            <a:ext cx="370944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blem for the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emblem of my channel would be the beach, as my channel is associated with relaxation and natur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Picture 6" descr="https://www.askwallpapers.com/mini/201501/3081.jpg"/>
          <p:cNvPicPr/>
          <p:nvPr/>
        </p:nvPicPr>
        <p:blipFill>
          <a:blip r:embed="rId1"/>
          <a:stretch/>
        </p:blipFill>
        <p:spPr>
          <a:xfrm>
            <a:off x="1457280" y="3429000"/>
            <a:ext cx="4638240" cy="26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2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Programmes and transfer on my channe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On my channel will show historical program as well, every 3 hours there will be a programme with a view of the beach and the forest under relaxed music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5" name="Picture 2" descr="https://i.ytimg.com/vi/Vo0KJLyCuSU/mqdefault.jpg"/>
          <p:cNvPicPr/>
          <p:nvPr/>
        </p:nvPicPr>
        <p:blipFill>
          <a:blip r:embed="rId1"/>
          <a:stretch/>
        </p:blipFill>
        <p:spPr>
          <a:xfrm>
            <a:off x="1005120" y="3429000"/>
            <a:ext cx="3673800" cy="206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bilim-all.kz/uploads/images/2017/01/24/400x276/c24ea3ffc4100a4ef0f0642ca6f71dfe.jpg"/>
          <p:cNvPicPr/>
          <p:nvPr/>
        </p:nvPicPr>
        <p:blipFill>
          <a:blip r:embed="rId2"/>
          <a:stretch/>
        </p:blipFill>
        <p:spPr>
          <a:xfrm>
            <a:off x="6095880" y="3412440"/>
            <a:ext cx="3018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and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8</TotalTime>
  <Application>LibreOffice/7.4.7.2$Linux_X86_64 LibreOffice_project/40$Build-2</Application>
  <AppVersion>15.0000</AppVersion>
  <Words>89</Words>
  <Paragraphs>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5:45:40Z</dcterms:created>
  <dc:creator>Master</dc:creator>
  <dc:description/>
  <dc:language>en-US</dc:language>
  <cp:lastModifiedBy>Администратор</cp:lastModifiedBy>
  <dcterms:modified xsi:type="dcterms:W3CDTF">2020-06-03T22:14:00Z</dcterms:modified>
  <cp:revision>5</cp:revision>
  <dc:subject/>
  <dc:title>My own TV channe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5</vt:r8>
  </property>
</Properties>
</file>