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/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9DE9E2-C985-40A9-92A5-DEB0B1AD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B3D83E9-1628-4363-801A-2BCD0373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C22-CE58-43F1-A454-1796CA9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EE8-37C9-4B36-A01C-22C912C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794-819E-4C40-BC47-C4252DE7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291-0AE9-4EE4-B1CC-A2C4343B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E124-A7C5-4F19-811C-1D9C5375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9DCC-243E-4216-AA16-09C652EE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0FE94-8E21-4167-87D9-D360FAA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20D45-CFC5-45AD-B3CD-65FFBC11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0550-A443-4507-AE43-5B25EB35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DA1AA-7A9E-45DE-8F0C-46A93CC8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1CB8-5202-46DB-952B-559FCD41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C30-2716-4BAD-A566-EEBD32AC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C17C9-60B7-4C30-8113-984E225A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0C71-7008-4668-B520-3EFF775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17B1E-A53C-4345-B689-FE53811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51B76-3E5F-4548-AEF7-32C98829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F3615-DE74-4CF0-9EE0-D7445A6D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9C9-F6A5-4036-81CF-35324418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F54-49F5-4804-A85E-76CFC32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100-539E-41EF-9161-27B7638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9CA-B7BD-4EAB-A86A-86145B1E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F9C-C2ED-4F24-9215-BC36664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6CC-A73E-4731-A109-A18B3FD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B6D-68FD-4E84-A347-3CBFBCF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5"/>
          <p:cNvGrpSpPr/>
          <p:nvPr/>
        </p:nvGrpSpPr>
        <p:grpSpPr>
          <a:xfrm>
            <a:off x="-19080" y="0"/>
            <a:ext cx="9162720" cy="1942920"/>
            <a:chOff x="-19080" y="0"/>
            <a:chExt cx="9162720" cy="1942920"/>
          </a:xfrm>
        </p:grpSpPr>
        <p:pic>
          <p:nvPicPr>
            <p:cNvPr id="1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6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5960" y="151920"/>
              <a:ext cx="8614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4" hidden="1"/>
          <p:cNvSpPr/>
          <p:nvPr/>
        </p:nvSpPr>
        <p:spPr>
          <a:xfrm>
            <a:off x="0" y="6553080"/>
            <a:ext cx="9143640" cy="30456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2f6a5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" name="Picture 163" descr="artplus_nature_naturalcity38_g"/>
          <p:cNvPicPr/>
          <p:nvPr/>
        </p:nvPicPr>
        <p:blipFill>
          <a:blip r:embed="rId5"/>
          <a:srcRect l="0" t="0" r="31579" b="0"/>
          <a:stretch/>
        </p:blipFill>
        <p:spPr>
          <a:xfrm>
            <a:off x="7543800" y="5322960"/>
            <a:ext cx="1599840" cy="1534680"/>
          </a:xfrm>
          <a:prstGeom prst="rect">
            <a:avLst/>
          </a:prstGeom>
          <a:ln w="0">
            <a:noFill/>
          </a:ln>
        </p:spPr>
      </p:pic>
      <p:sp>
        <p:nvSpPr>
          <p:cNvPr id="6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" name="Picture 161" descr="artplus_nature_naturalcity38_g"/>
          <p:cNvPicPr/>
          <p:nvPr/>
        </p:nvPicPr>
        <p:blipFill>
          <a:blip r:embed="rId6"/>
          <a:srcRect l="12497" t="0" r="0" b="0"/>
          <a:stretch/>
        </p:blipFill>
        <p:spPr>
          <a:xfrm>
            <a:off x="1905120" y="4681440"/>
            <a:ext cx="1969560" cy="179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0" descr="artplus_nature_naturalcity38_g"/>
          <p:cNvPicPr/>
          <p:nvPr/>
        </p:nvPicPr>
        <p:blipFill>
          <a:blip r:embed="rId7"/>
          <a:srcRect l="12497" t="0" r="0" b="0"/>
          <a:stretch/>
        </p:blipFill>
        <p:spPr>
          <a:xfrm>
            <a:off x="0" y="3205080"/>
            <a:ext cx="2990520" cy="3271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59" descr="artplus_nature_naturalcity38_e"/>
          <p:cNvPicPr/>
          <p:nvPr/>
        </p:nvPicPr>
        <p:blipFill>
          <a:blip r:embed="rId8"/>
          <a:srcRect l="0" t="0" r="0" b="11526"/>
          <a:stretch/>
        </p:blipFill>
        <p:spPr>
          <a:xfrm>
            <a:off x="0" y="4114800"/>
            <a:ext cx="9143640" cy="2742840"/>
          </a:xfrm>
          <a:prstGeom prst="rect">
            <a:avLst/>
          </a:prstGeom>
          <a:ln w="0">
            <a:noFill/>
          </a:ln>
        </p:spPr>
      </p:pic>
      <p:grpSp>
        <p:nvGrpSpPr>
          <p:cNvPr id="10" name="Group 162"/>
          <p:cNvGrpSpPr/>
          <p:nvPr/>
        </p:nvGrpSpPr>
        <p:grpSpPr>
          <a:xfrm>
            <a:off x="0" y="0"/>
            <a:ext cx="9143640" cy="3200040"/>
            <a:chOff x="0" y="0"/>
            <a:chExt cx="9143640" cy="3200040"/>
          </a:xfrm>
        </p:grpSpPr>
        <p:pic>
          <p:nvPicPr>
            <p:cNvPr id="11" name="Picture 153" descr="7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364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0" descr="04"/>
            <p:cNvPicPr/>
            <p:nvPr/>
          </p:nvPicPr>
          <p:blipFill>
            <a:blip r:embed="rId10"/>
            <a:stretch/>
          </p:blipFill>
          <p:spPr>
            <a:xfrm>
              <a:off x="5334120" y="0"/>
              <a:ext cx="136188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ftr" idx="1"/>
          </p:nvPr>
        </p:nvSpPr>
        <p:spPr>
          <a:xfrm>
            <a:off x="76320" y="6477120"/>
            <a:ext cx="2895120" cy="30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2"/>
          </p:nvPr>
        </p:nvSpPr>
        <p:spPr>
          <a:xfrm>
            <a:off x="63244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8534520" y="6477120"/>
            <a:ext cx="45684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79CCE3-CF7C-43C0-9FD3-598923B36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Text Box 14"/>
          <p:cNvSpPr/>
          <p:nvPr/>
        </p:nvSpPr>
        <p:spPr>
          <a:xfrm>
            <a:off x="3505320" y="5943600"/>
            <a:ext cx="2514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d43636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163" descr="water_2"/>
          <p:cNvPicPr/>
          <p:nvPr/>
        </p:nvPicPr>
        <p:blipFill>
          <a:blip r:embed="rId11"/>
          <a:stretch/>
        </p:blipFill>
        <p:spPr>
          <a:xfrm>
            <a:off x="762120" y="914400"/>
            <a:ext cx="866520" cy="53316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5"/>
          <p:cNvGrpSpPr/>
          <p:nvPr/>
        </p:nvGrpSpPr>
        <p:grpSpPr>
          <a:xfrm>
            <a:off x="-19080" y="0"/>
            <a:ext cx="9162720" cy="1942920"/>
            <a:chOff x="-19080" y="0"/>
            <a:chExt cx="9162720" cy="1942920"/>
          </a:xfrm>
        </p:grpSpPr>
        <p:pic>
          <p:nvPicPr>
            <p:cNvPr id="57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6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5960" y="151920"/>
              <a:ext cx="8614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64"/>
          <p:cNvSpPr/>
          <p:nvPr/>
        </p:nvSpPr>
        <p:spPr>
          <a:xfrm>
            <a:off x="0" y="6553080"/>
            <a:ext cx="9143640" cy="30456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2f6a5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" name="Picture 163" descr="artplus_nature_naturalcity38_g"/>
          <p:cNvPicPr/>
          <p:nvPr/>
        </p:nvPicPr>
        <p:blipFill>
          <a:blip r:embed="rId5"/>
          <a:srcRect l="0" t="0" r="31579" b="0"/>
          <a:stretch/>
        </p:blipFill>
        <p:spPr>
          <a:xfrm>
            <a:off x="7543800" y="5322960"/>
            <a:ext cx="1599840" cy="1534680"/>
          </a:xfrm>
          <a:prstGeom prst="rect">
            <a:avLst/>
          </a:prstGeom>
          <a:ln w="0">
            <a:noFill/>
          </a:ln>
        </p:spPr>
      </p:pic>
      <p:sp>
        <p:nvSpPr>
          <p:cNvPr id="62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ru-RU" sz="2800" spc="-1" strike="noStrike">
                <a:solidFill>
                  <a:srgbClr val="4d4d4d"/>
                </a:solidFill>
                <a:latin typeface="Verdana"/>
              </a:rPr>
              <a:t>Образец текста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114800" y="65372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304920" y="6537240"/>
            <a:ext cx="5331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AF05306-B8B8-468C-9ACF-6B287B7B3A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>
            <a:off x="914400" y="653724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in/In%20the%20kitchen.docx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6705360" cy="9903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2743200"/>
              </a:tabLst>
            </a:pPr>
            <a:r>
              <a:rPr b="1" lang="en-US" sz="2500" spc="-1" strike="noStrike">
                <a:solidFill>
                  <a:schemeClr val="accent2"/>
                </a:solidFill>
                <a:latin typeface="Arial"/>
              </a:rPr>
              <a:t> </a:t>
            </a:r>
            <a:br>
              <a:rPr sz="25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re is no Place Like Hom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3733920"/>
            <a:ext cx="5714640" cy="30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3" descr="C:\Users\ЁЖЖжж\Desktop\i.jpeg"/>
          <p:cNvPicPr/>
          <p:nvPr/>
        </p:nvPicPr>
        <p:blipFill>
          <a:blip r:embed="rId1"/>
          <a:stretch/>
        </p:blipFill>
        <p:spPr>
          <a:xfrm rot="1260000">
            <a:off x="6012000" y="393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C:\Users\ЁЖЖжж\Desktop\112283c.jpg"/>
          <p:cNvPicPr/>
          <p:nvPr/>
        </p:nvPicPr>
        <p:blipFill>
          <a:blip r:embed="rId2"/>
          <a:stretch/>
        </p:blipFill>
        <p:spPr>
          <a:xfrm rot="20400000">
            <a:off x="3325320" y="4426560"/>
            <a:ext cx="2705760" cy="20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. P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1. There _______ nice flowers in the room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2. There _______ a red vase on the table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3. There _______chairs next to the table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4. There _______ a mouse in the yard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5. There _______ books in the bag 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6. There _______ balls under the table 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7. There _______a mirror in the bedroom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8. There _______ pens on the book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9. There _______ bridges in the town.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10. There _______a chair and two armchairs there.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cribe the kitchen using the </a:t>
            </a:r>
            <a:r>
              <a:rPr b="1" lang="en-US" sz="3200" spc="-1" strike="noStrike" u="sng">
                <a:solidFill>
                  <a:srgbClr val="449878"/>
                </a:solidFill>
                <a:uFillTx/>
                <a:latin typeface="Verdana"/>
                <a:hlinkClick r:id="rId1"/>
              </a:rPr>
              <a:t>following word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209" name="Picture 2" descr="C:\Users\ЁЖЖжж\Desktop\b83bfcbb4f832810dfed333ce86883f8.jpg"/>
          <p:cNvPicPr/>
          <p:nvPr/>
        </p:nvPicPr>
        <p:blipFill>
          <a:blip r:embed="rId2"/>
          <a:stretch/>
        </p:blipFill>
        <p:spPr>
          <a:xfrm>
            <a:off x="467640" y="1340640"/>
            <a:ext cx="76197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532240" y="187020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3025800" y="234936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200400" y="3191040"/>
            <a:ext cx="24411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ork with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09480" y="1511280"/>
            <a:ext cx="3123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rite down the words at p.27-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4788000"/>
            <a:ext cx="2172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Read and translate the text at p.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400800" y="3416400"/>
            <a:ext cx="25905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Make 5 sentences wit thes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218" name="Oval 10"/>
            <p:cNvSpPr/>
            <p:nvPr/>
          </p:nvSpPr>
          <p:spPr>
            <a:xfrm>
              <a:off x="3682440" y="14580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4c2c0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19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Rectangle 12"/>
          <p:cNvSpPr/>
          <p:nvPr/>
        </p:nvSpPr>
        <p:spPr>
          <a:xfrm>
            <a:off x="3672000" y="182880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2343240" y="3809880"/>
            <a:ext cx="1466640" cy="1447560"/>
            <a:chOff x="2343240" y="3809880"/>
            <a:chExt cx="1466640" cy="1447560"/>
          </a:xfrm>
        </p:grpSpPr>
        <p:sp>
          <p:nvSpPr>
            <p:cNvPr id="222" name="Oval 14"/>
            <p:cNvSpPr/>
            <p:nvPr/>
          </p:nvSpPr>
          <p:spPr>
            <a:xfrm>
              <a:off x="2382120" y="3872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5370c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23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Rectangle 16"/>
          <p:cNvSpPr/>
          <p:nvPr/>
        </p:nvSpPr>
        <p:spPr>
          <a:xfrm>
            <a:off x="2359080" y="422748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226" name="Oval 18"/>
            <p:cNvSpPr/>
            <p:nvPr/>
          </p:nvSpPr>
          <p:spPr>
            <a:xfrm>
              <a:off x="4992120" y="392328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53026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27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20"/>
          <p:cNvSpPr/>
          <p:nvPr/>
        </p:nvSpPr>
        <p:spPr>
          <a:xfrm>
            <a:off x="5029200" y="4317840"/>
            <a:ext cx="1294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7009920" cy="12189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066680" y="3581280"/>
            <a:ext cx="700992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C:\Users\ЁЖЖжж\Desktop\kvartira11.jpg"/>
          <p:cNvPicPr/>
          <p:nvPr/>
        </p:nvPicPr>
        <p:blipFill>
          <a:blip r:embed="rId1"/>
          <a:stretch/>
        </p:blipFill>
        <p:spPr>
          <a:xfrm rot="20460000">
            <a:off x="2577600" y="4182480"/>
            <a:ext cx="3269160" cy="2451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ЁЖЖжж\Desktop\5535_f17v3ojt2c1jr21.jpg"/>
          <p:cNvPicPr/>
          <p:nvPr/>
        </p:nvPicPr>
        <p:blipFill>
          <a:blip r:embed="rId2"/>
          <a:stretch/>
        </p:blipFill>
        <p:spPr>
          <a:xfrm rot="1140000">
            <a:off x="5604120" y="693000"/>
            <a:ext cx="25318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the following task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927080" y="3308400"/>
            <a:ext cx="5311440" cy="688680"/>
            <a:chOff x="1927080" y="3308400"/>
            <a:chExt cx="5311440" cy="688680"/>
          </a:xfrm>
        </p:grpSpPr>
        <p:sp>
          <p:nvSpPr>
            <p:cNvPr id="116" name="AutoShape 4"/>
            <p:cNvSpPr/>
            <p:nvPr/>
          </p:nvSpPr>
          <p:spPr>
            <a:xfrm>
              <a:off x="1927080" y="33084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da023"/>
                </a:gs>
                <a:gs pos="100000">
                  <a:srgbClr val="77ae2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1940400" y="3330000"/>
              <a:ext cx="5291640" cy="636840"/>
              <a:chOff x="1940400" y="3330000"/>
              <a:chExt cx="5291640" cy="636840"/>
            </a:xfrm>
          </p:grpSpPr>
          <p:sp>
            <p:nvSpPr>
              <p:cNvPr id="118" name="AutoShape 6"/>
              <p:cNvSpPr/>
              <p:nvPr/>
            </p:nvSpPr>
            <p:spPr>
              <a:xfrm>
                <a:off x="1940400" y="38019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AutoShape 7"/>
              <p:cNvSpPr/>
              <p:nvPr/>
            </p:nvSpPr>
            <p:spPr>
              <a:xfrm>
                <a:off x="1940400" y="33300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8"/>
          <p:cNvGrpSpPr/>
          <p:nvPr/>
        </p:nvGrpSpPr>
        <p:grpSpPr>
          <a:xfrm>
            <a:off x="1927080" y="4173480"/>
            <a:ext cx="5311440" cy="688680"/>
            <a:chOff x="1927080" y="4173480"/>
            <a:chExt cx="5311440" cy="688680"/>
          </a:xfrm>
        </p:grpSpPr>
        <p:sp>
          <p:nvSpPr>
            <p:cNvPr id="121" name="AutoShape 9"/>
            <p:cNvSpPr/>
            <p:nvPr/>
          </p:nvSpPr>
          <p:spPr>
            <a:xfrm>
              <a:off x="1927080" y="417348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e8c6e"/>
                </a:gs>
                <a:gs pos="100000">
                  <a:srgbClr val="44987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2" name="Group 10"/>
            <p:cNvGrpSpPr/>
            <p:nvPr/>
          </p:nvGrpSpPr>
          <p:grpSpPr>
            <a:xfrm>
              <a:off x="1940400" y="4195080"/>
              <a:ext cx="5291640" cy="637200"/>
              <a:chOff x="1940400" y="4195080"/>
              <a:chExt cx="5291640" cy="637200"/>
            </a:xfrm>
          </p:grpSpPr>
          <p:sp>
            <p:nvSpPr>
              <p:cNvPr id="123" name="AutoShape 11"/>
              <p:cNvSpPr/>
              <p:nvPr/>
            </p:nvSpPr>
            <p:spPr>
              <a:xfrm>
                <a:off x="1940400" y="46674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4" name="AutoShape 12"/>
              <p:cNvSpPr/>
              <p:nvPr/>
            </p:nvSpPr>
            <p:spPr>
              <a:xfrm>
                <a:off x="1940400" y="41950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"/>
          <p:cNvGrpSpPr/>
          <p:nvPr/>
        </p:nvGrpSpPr>
        <p:grpSpPr>
          <a:xfrm>
            <a:off x="1927080" y="5030640"/>
            <a:ext cx="5311440" cy="688680"/>
            <a:chOff x="1927080" y="5030640"/>
            <a:chExt cx="5311440" cy="688680"/>
          </a:xfrm>
        </p:grpSpPr>
        <p:sp>
          <p:nvSpPr>
            <p:cNvPr id="126" name="AutoShape 14"/>
            <p:cNvSpPr/>
            <p:nvPr/>
          </p:nvSpPr>
          <p:spPr>
            <a:xfrm>
              <a:off x="1927080" y="503064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49aa2"/>
                </a:gs>
                <a:gs pos="100000">
                  <a:srgbClr val="90a8b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7" name="Group 15"/>
            <p:cNvGrpSpPr/>
            <p:nvPr/>
          </p:nvGrpSpPr>
          <p:grpSpPr>
            <a:xfrm>
              <a:off x="1940400" y="5052240"/>
              <a:ext cx="5291640" cy="637200"/>
              <a:chOff x="1940400" y="5052240"/>
              <a:chExt cx="5291640" cy="637200"/>
            </a:xfrm>
          </p:grpSpPr>
          <p:sp>
            <p:nvSpPr>
              <p:cNvPr id="128" name="AutoShape 16"/>
              <p:cNvSpPr/>
              <p:nvPr/>
            </p:nvSpPr>
            <p:spPr>
              <a:xfrm>
                <a:off x="1940400" y="55245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9" name="AutoShape 17"/>
              <p:cNvSpPr/>
              <p:nvPr/>
            </p:nvSpPr>
            <p:spPr>
              <a:xfrm>
                <a:off x="1940400" y="505224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8"/>
          <p:cNvGrpSpPr/>
          <p:nvPr/>
        </p:nvGrpSpPr>
        <p:grpSpPr>
          <a:xfrm>
            <a:off x="1927080" y="2444760"/>
            <a:ext cx="5311440" cy="688680"/>
            <a:chOff x="1927080" y="2444760"/>
            <a:chExt cx="5311440" cy="688680"/>
          </a:xfrm>
        </p:grpSpPr>
        <p:sp>
          <p:nvSpPr>
            <p:cNvPr id="131" name="AutoShape 19"/>
            <p:cNvSpPr/>
            <p:nvPr/>
          </p:nvSpPr>
          <p:spPr>
            <a:xfrm>
              <a:off x="1927080" y="244476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9"/>
                </a:gs>
                <a:gs pos="100000">
                  <a:srgbClr val="f28c1c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2" name="Group 20"/>
            <p:cNvGrpSpPr/>
            <p:nvPr/>
          </p:nvGrpSpPr>
          <p:grpSpPr>
            <a:xfrm>
              <a:off x="1940400" y="2466360"/>
              <a:ext cx="5291640" cy="637200"/>
              <a:chOff x="1940400" y="2466360"/>
              <a:chExt cx="5291640" cy="637200"/>
            </a:xfrm>
          </p:grpSpPr>
          <p:sp>
            <p:nvSpPr>
              <p:cNvPr id="133" name="AutoShape 21"/>
              <p:cNvSpPr/>
              <p:nvPr/>
            </p:nvSpPr>
            <p:spPr>
              <a:xfrm>
                <a:off x="1940400" y="29386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AutoShape 22"/>
              <p:cNvSpPr/>
              <p:nvPr/>
            </p:nvSpPr>
            <p:spPr>
              <a:xfrm>
                <a:off x="1940400" y="24663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23"/>
          <p:cNvSpPr/>
          <p:nvPr/>
        </p:nvSpPr>
        <p:spPr>
          <a:xfrm>
            <a:off x="2394000" y="255888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ex.1 at p.24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2405160" y="34164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for new word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2405160" y="4275000"/>
            <a:ext cx="44953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translate the rhy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2405160" y="51228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he dialogu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7" descr="1"/>
          <p:cNvPicPr/>
          <p:nvPr/>
        </p:nvPicPr>
        <p:blipFill>
          <a:blip r:embed="rId1"/>
          <a:srcRect l="42600" t="64474" r="19467" b="0"/>
          <a:stretch/>
        </p:blipFill>
        <p:spPr>
          <a:xfrm>
            <a:off x="1727280" y="499428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1"/>
          <p:cNvPicPr/>
          <p:nvPr/>
        </p:nvPicPr>
        <p:blipFill>
          <a:blip r:embed="rId2"/>
          <a:srcRect l="42600" t="64474" r="19467" b="0"/>
          <a:stretch/>
        </p:blipFill>
        <p:spPr>
          <a:xfrm>
            <a:off x="1743120" y="414828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1"/>
          <p:cNvPicPr/>
          <p:nvPr/>
        </p:nvPicPr>
        <p:blipFill>
          <a:blip r:embed="rId3"/>
          <a:srcRect l="42600" t="64474" r="19467" b="0"/>
          <a:stretch/>
        </p:blipFill>
        <p:spPr>
          <a:xfrm>
            <a:off x="1743120" y="329724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1"/>
          <p:cNvPicPr/>
          <p:nvPr/>
        </p:nvPicPr>
        <p:blipFill>
          <a:blip r:embed="rId4"/>
          <a:srcRect l="42600" t="64474" r="19467" b="0"/>
          <a:stretch/>
        </p:blipFill>
        <p:spPr>
          <a:xfrm>
            <a:off x="1731960" y="2440080"/>
            <a:ext cx="791640" cy="948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2073240" y="51307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052720" y="2536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2065320" y="33955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065320" y="4282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1219320" y="1523880"/>
            <a:ext cx="6552720" cy="720360"/>
          </a:xfrm>
          <a:prstGeom prst="roundRect">
            <a:avLst>
              <a:gd name="adj" fmla="val 42181"/>
            </a:avLst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for new word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127640" cy="212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over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witch on 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uck 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meless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 d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Read and translate the rhyme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I bought a new Hoover today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Plugged it in in the usual way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Switched it on – what a din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It sucked everything in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Now I’m homeless with no place to stay.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52480" y="6093360"/>
            <a:ext cx="6400440" cy="22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C:\Users\ЁЖЖжж\Desktop\zheltie-noski-kupit-noski-serewwka.jpg"/>
          <p:cNvPicPr/>
          <p:nvPr/>
        </p:nvPicPr>
        <p:blipFill>
          <a:blip r:embed="rId1"/>
          <a:stretch/>
        </p:blipFill>
        <p:spPr>
          <a:xfrm>
            <a:off x="5724000" y="188640"/>
            <a:ext cx="3265200" cy="34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the dialogu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292720" y="268452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56080" y="2749680"/>
            <a:ext cx="2703240" cy="261108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8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838080" y="2120760"/>
            <a:ext cx="2857320" cy="466200"/>
            <a:chOff x="838080" y="2120760"/>
            <a:chExt cx="2857320" cy="466200"/>
          </a:xfrm>
        </p:grpSpPr>
        <p:sp>
          <p:nvSpPr>
            <p:cNvPr id="156" name="AutoShape 6"/>
            <p:cNvSpPr/>
            <p:nvPr/>
          </p:nvSpPr>
          <p:spPr>
            <a:xfrm>
              <a:off x="83808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91e"/>
                </a:gs>
                <a:gs pos="50000">
                  <a:srgbClr val="77ae26"/>
                </a:gs>
                <a:gs pos="100000">
                  <a:srgbClr val="5e891e"/>
                </a:gs>
              </a:gsLst>
              <a:lin ang="0"/>
            </a:gradFill>
            <a:ln w="1270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 flipH="1">
              <a:off x="355284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8683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5267160" y="2120760"/>
            <a:ext cx="2857320" cy="466200"/>
            <a:chOff x="5267160" y="2120760"/>
            <a:chExt cx="2857320" cy="466200"/>
          </a:xfrm>
        </p:grpSpPr>
        <p:sp>
          <p:nvSpPr>
            <p:cNvPr id="160" name="AutoShape 10"/>
            <p:cNvSpPr/>
            <p:nvPr/>
          </p:nvSpPr>
          <p:spPr>
            <a:xfrm>
              <a:off x="526716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c18"/>
                </a:gs>
                <a:gs pos="50000">
                  <a:srgbClr val="f28c1c"/>
                </a:gs>
                <a:gs pos="100000">
                  <a:srgbClr val="d77c18"/>
                </a:gs>
              </a:gsLst>
              <a:lin ang="0"/>
            </a:gradFill>
            <a:ln w="12700">
              <a:solidFill>
                <a:srgbClr val="f28c1c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flipH="1">
              <a:off x="79819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529776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3" name="AutoShape 13"/>
          <p:cNvSpPr/>
          <p:nvPr/>
        </p:nvSpPr>
        <p:spPr>
          <a:xfrm>
            <a:off x="838080" y="268452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110484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Gr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58792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Other phr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 flipH="1" flipV="1" rot="10806600">
            <a:off x="3770640" y="3231000"/>
            <a:ext cx="1445760" cy="755280"/>
          </a:xfrm>
          <a:prstGeom prst="rightArrow">
            <a:avLst>
              <a:gd name="adj1" fmla="val 46509"/>
              <a:gd name="adj2" fmla="val 4205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5436000" y="2825640"/>
            <a:ext cx="28789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How many are in your famil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364000" y="3861000"/>
            <a:ext cx="26467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What floor do you live 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364000" y="3130560"/>
            <a:ext cx="2815920" cy="115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o you have sisters or broth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Who are your other relativ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436000" y="4221000"/>
            <a:ext cx="2743920" cy="115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o you have a lif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How many rooms are there in your fl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990720" y="4675320"/>
            <a:ext cx="263160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your nationa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46080" y="2853000"/>
            <a:ext cx="244296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lo! Hi! Good morn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827640" y="3429000"/>
            <a:ext cx="323784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are you? Fine. I’m O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883440" y="4127400"/>
            <a:ext cx="19321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e to meet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3400">
            <a:off x="3738960" y="3835800"/>
            <a:ext cx="1447560" cy="755280"/>
          </a:xfrm>
          <a:prstGeom prst="rightArrow">
            <a:avLst>
              <a:gd name="adj1" fmla="val 46509"/>
              <a:gd name="adj2" fmla="val 4209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8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following 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5800" y="5486400"/>
            <a:ext cx="2038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195160" y="5486400"/>
            <a:ext cx="392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furniture do you have in your living ro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is …/There are …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2532240" y="187020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025800" y="234936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09480" y="1511280"/>
            <a:ext cx="3123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Study the grammar material at page 2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33520" y="4788000"/>
            <a:ext cx="2172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Use this construction in your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400800" y="3416400"/>
            <a:ext cx="25905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o exercises at page 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186" name="Oval 10"/>
            <p:cNvSpPr/>
            <p:nvPr/>
          </p:nvSpPr>
          <p:spPr>
            <a:xfrm>
              <a:off x="3682440" y="14580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4c2c0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2"/>
          <p:cNvSpPr/>
          <p:nvPr/>
        </p:nvSpPr>
        <p:spPr>
          <a:xfrm>
            <a:off x="3672000" y="182880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343240" y="3809880"/>
            <a:ext cx="1466640" cy="1447560"/>
            <a:chOff x="2343240" y="3809880"/>
            <a:chExt cx="1466640" cy="1447560"/>
          </a:xfrm>
        </p:grpSpPr>
        <p:sp>
          <p:nvSpPr>
            <p:cNvPr id="190" name="Oval 14"/>
            <p:cNvSpPr/>
            <p:nvPr/>
          </p:nvSpPr>
          <p:spPr>
            <a:xfrm>
              <a:off x="2382120" y="3872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5370c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91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16"/>
          <p:cNvSpPr/>
          <p:nvPr/>
        </p:nvSpPr>
        <p:spPr>
          <a:xfrm>
            <a:off x="2359080" y="422748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194" name="Oval 18"/>
            <p:cNvSpPr/>
            <p:nvPr/>
          </p:nvSpPr>
          <p:spPr>
            <a:xfrm>
              <a:off x="4992120" y="392328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53026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95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Rectangle 20"/>
          <p:cNvSpPr/>
          <p:nvPr/>
        </p:nvSpPr>
        <p:spPr>
          <a:xfrm>
            <a:off x="5029200" y="4317840"/>
            <a:ext cx="1294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Translate the sentenc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car in the yard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women and one man in the living-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much water in the ocean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sofa, two armchairs and a TV set in the 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many dogs in the village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Put SOME o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8387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Are there … rabbits in the garden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2. Are there … children in the class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3. There aren’t… chairs in the 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4. Are there … birds in the tree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5. There isn’t… money in the bag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6. There is .. coffee in the cup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7. There are … policemen in the police station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8. There are … crabs in the water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9. Are there … oranges in the basket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10. There isn’t… milk in the fridge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Make the sentences negativ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6640"/>
            <a:ext cx="8381520" cy="476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rooms in our flat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study in my uncle’s flat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some books and an exercise-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51000"/>
            <a:ext cx="860400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 Make the sentences interrogative and give short answe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6640"/>
            <a:ext cx="8381520" cy="476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stools in the kitchen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some books and an exercise-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578TGp_CleanCity_light_ani">
  <a:themeElements>
    <a:clrScheme name="300TGp_natural_light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578TGp_CleanCity_light_ani">
  <a:themeElements>
    <a:clrScheme name="300TGp_natural_light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578TGp_CleanCity_light_ani</Template>
  <TotalTime>66</TotalTime>
  <Application>LibreOffice/7.4.7.2$Linux_X86_64 LibreOffice_project/40$Build-2</Application>
  <AppVersion>15.0000</AppVersion>
  <Words>606</Words>
  <Paragraphs>99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12:22:04Z</dcterms:created>
  <dc:creator>ЁЖЖжж</dc:creator>
  <dc:description/>
  <dc:language>en-US</dc:language>
  <cp:lastModifiedBy>Teacher</cp:lastModifiedBy>
  <dcterms:modified xsi:type="dcterms:W3CDTF">2022-02-10T08:13:39Z</dcterms:modified>
  <cp:revision>10</cp:revision>
  <dc:subject/>
  <dc:title>There is no Place Like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