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DA5-7C7C-44E5-898C-88F403F3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55F-DF8D-4DC0-B6AA-CAE08BA7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A6F-50B6-49AF-87FB-377BD7CE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BA8-8033-4FED-BD28-D7B2D7C1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FFFD-A266-445E-AE5D-A2AAEA57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9F0A-70EF-4BA2-BDF9-E0CED1AC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1D3B-2E15-4C60-9F0A-664EBE16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EE29-90B2-4B75-87A8-CFA65119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7A65-512A-4675-BA0F-9571A973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B18B-1CEF-40E4-B280-2E080A3F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EBB6-6187-4B5C-A748-2834314F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C18-A3CF-4699-B267-08215E59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0DC0-C004-4D44-AEE5-A6C4A4A5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CFD0-47A2-47D4-BE99-82F34195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B8E3-4610-434D-9984-5B7C9A27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C8DF-92D4-4DFB-8062-FDF65631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B990-6BFC-4BBB-8F01-82F61DDC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8CF-F7A2-4F87-B21B-989DCE6E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772-D1F3-44CC-8096-738569DE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F19-FDD5-4EE1-BD38-E4A3D2E2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396-0D52-4841-838F-8E0EF22A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38D-2749-491A-B279-07E07CC8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FFA-6DD5-4C9E-9908-945FE14D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93A-B372-44E5-BAB7-AB57E30B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84F95F-D73E-4655-B347-A38AFD1F2AD2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B79091-D77F-48A5-966C-FDCC24A3079E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484640"/>
            <a:ext cx="8457840" cy="45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4e3b30"/>
                </a:solidFill>
                <a:latin typeface="Franklin Gothic Medium"/>
              </a:rPr>
              <a:t>Герундий или инфинитив?</a:t>
            </a:r>
            <a:br>
              <a:rPr sz="4800"/>
            </a:br>
            <a:br>
              <a:rPr sz="4800"/>
            </a:br>
            <a:r>
              <a:rPr b="1" lang="ru-RU" sz="4800" spc="-1" strike="noStrike" cap="all">
                <a:solidFill>
                  <a:srgbClr val="4e3b30"/>
                </a:solidFill>
                <a:latin typeface="Franklin Gothic Medium"/>
              </a:rPr>
              <a:t>упражнения</a:t>
            </a: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4342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640"/>
            <a:ext cx="8686440" cy="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7200" anchor="ctr">
            <a:norm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0"/>
            <a:ext cx="9324000" cy="60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Which is correct: V-ing or infinitive?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1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t's late. I must 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.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now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go b) to go c) go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2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'm sorry but I got time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 to you 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talk b) to talk c) talk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3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nn is always in the kitchen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She enjoys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cook b) to cook c) cook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0800000">
            <a:off x="251640" y="188640"/>
            <a:ext cx="8686440" cy="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7200" anchor="ctr">
            <a:norm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640" y="116640"/>
            <a:ext cx="9216720" cy="59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4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We've decided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….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 away for a few days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go b) to go c) go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5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Would you like…to me on Sunday?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come b) to come c) com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6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That bag is too heavy. Let me… you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help b) to help c) help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 rot="10800000">
            <a:off x="179640" y="1916640"/>
            <a:ext cx="8686440" cy="1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000"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-99360"/>
            <a:ext cx="9324000" cy="65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Did you use a dictionary for...text?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translate   b) to translate               c) translat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8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'd love… a car like yours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have   b) to have    c) hav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9</a:t>
            </a:r>
            <a:r>
              <a:rPr b="1" lang="ru-RU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 don't mind …here but I'd prefer to sit by the window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a) sit    b) to sit    c) sitting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49</TotalTime>
  <Application>LibreOffice/7.4.7.2$Linux_X86_64 LibreOffice_project/40$Build-2</Application>
  <AppVersion>15.0000</AppVersion>
  <Words>128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09:23:08Z</dcterms:created>
  <dc:creator>МАШИНА</dc:creator>
  <dc:description/>
  <dc:language>en-US</dc:language>
  <cp:lastModifiedBy>МАШИНА</cp:lastModifiedBy>
  <dcterms:modified xsi:type="dcterms:W3CDTF">2020-12-01T14:06:39Z</dcterms:modified>
  <cp:revision>5</cp:revision>
  <dc:subject/>
  <dc:title>Герундий или инфинитив?  упраж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</vt:r8>
  </property>
</Properties>
</file>