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77D-4C55-4453-9965-531C7827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E7F-144C-4F0F-9DA0-4BB94B0D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673-BB38-4F2C-9C7E-08D58811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119-0560-4C73-9E04-9EF10BD5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C90F-0F0C-4C39-BBCF-B458D6EA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F53E-80E3-4C0A-BC91-9C6EE2A2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C7CC-3B10-436D-99F3-51B38F19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59AD-46D0-4BC2-B377-41D1DCFB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D83D-0F55-4D2C-AC36-0157ECE7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24F0-9BD7-4DB8-9062-3607610A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5329-624F-4060-BC23-B0349C05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F67-5666-4E62-AA7E-18917ED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43FB-B617-49A2-9FC8-3EDFC858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5278-7A49-4C89-ACC7-E91804AA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6184-DBF9-426A-8AF9-C13FBA51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E1A6-CFF3-44D2-A725-B1099971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E796-21FD-410A-A11C-2DB2D11F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28A-9DAE-4634-9552-0E4ACE36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11F-13D8-417D-AFEE-334A5A83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F56-C929-434B-9F73-C91C402C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84F-89E1-4AD0-AFFE-A4420A7E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ECB-E819-4672-94B1-48414504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16D-8219-49E0-8ED8-C55A4B1E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A6B-87C4-4191-B450-B84CD9B5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76EC40-B99F-4654-AE91-EDC657497091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FF1B47-CF9F-42FB-AE49-2FE35D15BB4C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484640"/>
            <a:ext cx="8457840" cy="45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4e3b30"/>
                </a:solidFill>
                <a:latin typeface="Franklin Gothic Medium"/>
              </a:rPr>
              <a:t>Герундий или инфинитив?</a:t>
            </a:r>
            <a:br>
              <a:rPr sz="4800"/>
            </a:br>
            <a:br>
              <a:rPr sz="4800"/>
            </a:br>
            <a:r>
              <a:rPr b="1" lang="ru-RU" sz="4800" spc="-1" strike="noStrike" cap="all">
                <a:solidFill>
                  <a:srgbClr val="4e3b30"/>
                </a:solidFill>
                <a:latin typeface="Franklin Gothic Medium"/>
              </a:rPr>
              <a:t>упражнения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4342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640"/>
            <a:ext cx="8686440" cy="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7200" anchor="ctr">
            <a:norm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0"/>
            <a:ext cx="9324000" cy="60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Which is correct: V-ing or infinitive?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1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t's late. I must 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.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now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go b) to go c) go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2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'm sorry but I got time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 to you 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talk b) to talk c) talk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3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nn is always in the kitchen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She enjoys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cook b) to cook c) cook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0800000">
            <a:off x="251640" y="188640"/>
            <a:ext cx="8686440" cy="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7200" anchor="ctr">
            <a:norm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40" y="116640"/>
            <a:ext cx="9216720" cy="59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4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We've decided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.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 away for a few days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go b) to go c) go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5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Would you like…to me on Sunday?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come b) to come c) com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6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That bag is too heavy. Let me… you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help b) to help c) help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 rot="10800000">
            <a:off x="179640" y="1916640"/>
            <a:ext cx="8686440" cy="1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000"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-99360"/>
            <a:ext cx="9324000" cy="65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Did you use a dictionary for...text?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translate   b) to translate               c) translat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8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'd love… a car like yours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have   b) to have    c) hav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9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 don't mind …here but I'd prefer to sit by the window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sit    b) to sit    c) sitt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49</TotalTime>
  <Application>LibreOffice/7.4.7.2$Linux_X86_64 LibreOffice_project/40$Build-2</Application>
  <AppVersion>15.0000</AppVersion>
  <Words>128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09:23:08Z</dcterms:created>
  <dc:creator>МАШИНА</dc:creator>
  <dc:description/>
  <dc:language>en-US</dc:language>
  <cp:lastModifiedBy>МАШИНА</cp:lastModifiedBy>
  <dcterms:modified xsi:type="dcterms:W3CDTF">2020-12-01T14:06:39Z</dcterms:modified>
  <cp:revision>5</cp:revision>
  <dc:subject/>
  <dc:title>Герундий или инфинитив?  упраж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</vt:r8>
  </property>
</Properties>
</file>