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069-87F7-4DA3-9B7C-A1CA6226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131-C7F2-49E8-9938-9E9769ED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FB4-B306-45E1-A630-3B2B4579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6E2-8910-4E7C-ADBC-5448BCD9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6B7A-3984-481F-8432-BBDD3119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D803-830D-491B-9D82-0C735D7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A98C-3380-439C-A0D1-8CB869CF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89A-63F2-4837-910C-95526309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222A-A97B-42E8-B9FE-F2DB041E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23D2-5969-4E95-A543-08426C96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6CB9-C24D-4C94-9BA6-A9EFDB0A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823-B213-40E2-88E3-ACE0B4C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6D9C-4E2F-43D3-81AF-C153C0F3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FE37-BC84-4770-B4B6-5CDF269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A0C5-1DD0-45D5-A57C-324809DE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5DE0-751E-40C2-9C1F-5303F0B4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A1C8-EBF4-4EC5-A254-72A1CC39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CD5-A4B8-49B0-80FC-2F15D0D3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824-1291-449C-A096-90E0F95B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512-71BF-481C-9BE7-7D53EB14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69B-2281-431E-9DB0-06E10F74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02A-F106-43AF-9447-D0AD4A72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513-1890-4E1A-984D-53782494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523-1E31-441C-B62D-3920D6B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82BAB3-45E4-4D48-B95C-EA099F14FC4D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7FAA73-9203-46EE-B99F-DEEDA2E3FA54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484640"/>
            <a:ext cx="8457840" cy="45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4e3b30"/>
                </a:solidFill>
                <a:latin typeface="Franklin Gothic Medium"/>
              </a:rPr>
              <a:t>Герундий или инфинитив?</a:t>
            </a:r>
            <a:br>
              <a:rPr sz="4800"/>
            </a:br>
            <a:br>
              <a:rPr sz="4800"/>
            </a:br>
            <a:r>
              <a:rPr b="1" lang="ru-RU" sz="4800" spc="-1" strike="noStrike" cap="all">
                <a:solidFill>
                  <a:srgbClr val="4e3b30"/>
                </a:solidFill>
                <a:latin typeface="Franklin Gothic Medium"/>
              </a:rPr>
              <a:t>упражнения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4342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640"/>
            <a:ext cx="8686440" cy="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7200" anchor="ctr">
            <a:norm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0"/>
            <a:ext cx="9324000" cy="60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Which is correct: V-ing or infinitive?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1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t's late. I must 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.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now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go b) to go c) go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2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'm sorry but I got time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 to you 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talk b) to talk c) talk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3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nn is always in the kitchen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She enjoys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cook b) to cook c) cook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0800000">
            <a:off x="251640" y="188640"/>
            <a:ext cx="8686440" cy="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7200" anchor="ctr">
            <a:norm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40" y="116640"/>
            <a:ext cx="9216720" cy="59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4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We've decided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.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 away for a few days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go b) to go c) go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5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Would you like…to me on Sunday?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come b) to come c) com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6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That bag is too heavy. Let me… you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help b) to help c) help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 rot="10800000">
            <a:off x="179640" y="1916640"/>
            <a:ext cx="8686440" cy="1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000"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-99360"/>
            <a:ext cx="9324000" cy="65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Did you use a dictionary for...text?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translate   b) to translate               c) translat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8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'd love… a car like yours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have   b) to have    c) hav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9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 don't mind …here but I'd prefer to sit by the window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sit    b) to sit    c) sitt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49</TotalTime>
  <Application>LibreOffice/7.4.7.2$Linux_X86_64 LibreOffice_project/40$Build-2</Application>
  <AppVersion>15.0000</AppVersion>
  <Words>128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09:23:08Z</dcterms:created>
  <dc:creator>МАШИНА</dc:creator>
  <dc:description/>
  <dc:language>en-US</dc:language>
  <cp:lastModifiedBy>МАШИНА</cp:lastModifiedBy>
  <dcterms:modified xsi:type="dcterms:W3CDTF">2020-12-01T14:06:39Z</dcterms:modified>
  <cp:revision>5</cp:revision>
  <dc:subject/>
  <dc:title>Герундий или инфинитив?  упраж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</vt:r8>
  </property>
</Properties>
</file>