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627857-2FF3-402E-BC36-DE6028007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A8DBF8-F302-41BE-A937-BCEF68C039F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188-338F-4F2E-8377-2B8A7A22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64F-52EC-4201-8A13-2E4562FB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828-BED2-411D-997D-16CD10AD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04804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18168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1440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04804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318168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795-9E9C-4D41-89C0-72082E12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6F98-D0D7-4346-B6CA-791610F5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D4E1-E030-4285-9A30-CC647F5A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4B5C-9D5D-4860-9770-EE6059C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26C4-E40D-40C1-9AEC-1282A1C5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FF32-416B-4584-8AFE-4536A603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33523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BD3-F4C6-489A-A9D6-F1804B9B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EF31-E120-46D0-B56E-70DC3331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60A-BCB3-44E3-A0B4-9324DCA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6C44-4614-47E6-B890-F31C41F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507F-85F2-4F49-9969-08F06D8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4A0F-03BB-4132-89DF-F1D36A7D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7983-8174-4115-8C59-512EF779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4804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18168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91440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04804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318168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3D7-2A81-445F-BE60-9645A6EE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464-BD30-4DB6-A6B9-8B735496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E34-21A1-4EFE-81B5-A160CB7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DB7-79DD-4A6F-934D-A2F1FD5C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33523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5F2-07D9-4EF7-81C6-B31C1B1A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7EE-B197-41D3-A07D-1A217D5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0DF-8DA7-46B1-BFF3-C159C6AA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8F1-6AB8-403B-A69B-E4EB8EF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CBF8A9-039E-4C58-A9F9-A388A934481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Rounded Rectangle 14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9E20FF-82A2-4450-9ACC-AC176248DBF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grpSp>
        <p:nvGrpSpPr>
          <p:cNvPr id="67" name="Group 23"/>
          <p:cNvGrpSpPr/>
          <p:nvPr/>
        </p:nvGrpSpPr>
        <p:grpSpPr>
          <a:xfrm>
            <a:off x="211680" y="714240"/>
            <a:ext cx="8723160" cy="1331280"/>
            <a:chOff x="211680" y="714240"/>
            <a:chExt cx="8723160" cy="1331280"/>
          </a:xfrm>
        </p:grpSpPr>
        <p:sp>
          <p:nvSpPr>
            <p:cNvPr id="68" name="Freeform 14"/>
            <p:cNvSpPr/>
            <p:nvPr/>
          </p:nvSpPr>
          <p:spPr>
            <a:xfrm>
              <a:off x="6054840" y="85932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2622240" y="73080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2832120" y="74340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5616360" y="72972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72" name="Freeform 28"/>
            <p:cNvSpPr/>
            <p:nvPr/>
          </p:nvSpPr>
          <p:spPr>
            <a:xfrm>
              <a:off x="211680" y="71424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3" name="PlaceHolder 5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 type="body"/>
          </p:nvPr>
        </p:nvSpPr>
        <p:spPr>
          <a:xfrm>
            <a:off x="4651920" y="1828800"/>
            <a:ext cx="3903840" cy="38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72;&#1088;&#1077;&#1083;&#1080;&#1085;,_&#1040;&#1083;&#1077;&#1082;&#1089;&#1072;&#1085;&#1076;&#1088;_&#1040;&#1083;&#1077;&#1082;&#1089;&#1072;&#1085;&#1076;&#1088;&#1086;&#1074;&#1080;&#1095;#cite_note-2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80;&#1088;&#1086;&#1074;&#1099;&#1077;_&#1088;&#1077;&#1082;&#1086;&#1088;&#1076;&#1099;_&#1074;_&#1082;&#1086;&#1085;&#1100;&#1082;&#1086;&#1073;&#1077;&#1078;&#1085;&#1086;&#1084;_&#1089;&#1087;&#1086;&#1088;&#1090;&#1077;" TargetMode="External"/><Relationship Id="rId2" Type="http://schemas.openxmlformats.org/officeDocument/2006/relationships/hyperlink" Target="https://ru.wikipedia.org/wiki/&#1050;&#1091;&#1083;&#1080;&#1078;&#1085;&#1080;&#1082;&#1086;&#1074;,_&#1055;&#1072;&#1074;&#1077;&#1083;_&#1040;&#1083;&#1077;&#1082;&#1089;&#1072;&#1085;&#1076;&#1088;&#1086;&#1074;&#1080;&#1095;#cite_note-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276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Российские 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рекордсмены мира</a:t>
            </a:r>
            <a:endParaRPr b="0" lang="ru-RU" sz="6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3640" y="2709000"/>
            <a:ext cx="3297240" cy="27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Советский и российский спортсмен, борец классического  (греко-римского) стиля, государственный и политический деятель, депутат Государственной Думы пяти созывов. Заслуженный мастер спорта СССР (1988),  Герой Российской Федерации(1996)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Трёхкратный победитель Олимпийских игр (1988 года, 1992 года, 1996 года, в категории до 130 кг), девятикратный чемпион мира (1989—1991, 1993—1995, 1997—1999), 12-кратный чемпион Европы (1987—1991, 1993—1996, 1998—2000), серебряный призёр Олимпийских игр 2000 года, чемпион мира среди юниоров 1988 года, 13-кратный чемпион СССР , СНГ и России (1988—2000). Победитель Кубка «Абсолютный чемпион мира» 1989. Четыре раза награждён «Золотым поясом», как лучший борец планеты — в 1989, 1990, 1992, 1994 гг. Победитель IV международного турнира «На призы Александра Карелина» (1995). Шестикратный победитель международного турнира памяти Ивана Поддубного. Был признан лучшим спортсменом года в мире. Два раза был признан лучшим спортсменом России. За всю спортивную карьеру выиграл 888 поединков (887 в борьбе и 1 в ММА) и потерпел два поражения</a:t>
            </a:r>
            <a:r>
              <a:rPr b="0" lang="ru-RU" sz="3600" spc="-1" strike="noStrike" u="sng" baseline="30000">
                <a:solidFill>
                  <a:srgbClr val="0080ff"/>
                </a:solidFill>
                <a:uFillTx/>
                <a:latin typeface="Candara"/>
                <a:hlinkClick r:id="rId1"/>
              </a:rPr>
              <a:t>[2]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. Включён в число 25 лучших атлетов мира XX столетия. Занесен в  Книгу рекордов Гиннесса как спортсмен, в течение тринадцати лет не проигравший ни одной схватки. И в течение 6 лет не проиграл ни одного балла во всех официальных поединках. Известны случаи, когда соперники отказывались бороться с ним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3640" y="1484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Александр Карелин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5" name="Объект 4" descr=""/>
          <p:cNvPicPr/>
          <p:nvPr/>
        </p:nvPicPr>
        <p:blipFill>
          <a:blip r:embed="rId2"/>
          <a:stretch/>
        </p:blipFill>
        <p:spPr>
          <a:xfrm>
            <a:off x="4892760" y="1828800"/>
            <a:ext cx="34221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16000" y="2493000"/>
            <a:ext cx="407268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Галина Чистякова, родилась в июле 1962 года в Измаиле, Украинская ССР. В Измаильской спортивной школе Галя быстро стала выделяться среды сверстников. После переезда в Москву, Чистякова тренировалась в Буревестнике, одном из старейших стадионов Москвы у тренера Вячеслава Соколова. Представляла на турнирах Советский Союз, а затем Словакию. Она считается ведущим мировым рекордсменом в прыжках в длину. Галина Чистякова единственная женщина в Советском Союзе и в Европе, которая начала первой осваивать тройной прыжок.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Она стала олимпийским бронзовым призером 1988 года в Сеуле и чемпионом мира 1989 года. Галина - бывший рекордсмен мира (до ИААФ) в тройном прыжке с 14,52 метрами в 1989 году, который проходил в Европе в закрытых помещениях. 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860000" y="1340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Галина Чистяко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rcRect l="6236" t="4252" r="6685" b="0"/>
          <a:stretch/>
        </p:blipFill>
        <p:spPr>
          <a:xfrm>
            <a:off x="683640" y="2205000"/>
            <a:ext cx="385200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96000" y="2853000"/>
            <a:ext cx="3928680" cy="29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Леони́д Арка́дьевич Таране́нко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 - советский и белорусский тяжелоатлет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лимпийский чемпион 1980 года, многократный чемпион мира, Европы и СССР. Обладатель 19 мировых  рекордов, причём два из них — 266 кг в толчке и 475 кг в двоеборье – занесены в  Книгу рекордов Гиннеса, а первый остаётся непревзойдённым и сегодня (из-за изменения весовых категорий данные рекорды не являются официальными). Заслуженный мастер спорта СССР (1980). Награждён орденами  Дружбы народов и Трудового Красного знамени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924000" y="1556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Леонид Тараненко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3" name="Объект 4" descr=""/>
          <p:cNvPicPr/>
          <p:nvPr/>
        </p:nvPicPr>
        <p:blipFill>
          <a:blip r:embed="rId1"/>
          <a:stretch/>
        </p:blipFill>
        <p:spPr>
          <a:xfrm>
            <a:off x="611640" y="1772640"/>
            <a:ext cx="27230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88000" y="2925000"/>
            <a:ext cx="33523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аталья Лисовская и её муж  Юрий Седых — единственная семейная пара, обладающие двумя из семи самых старых рекордов в истории лёгкой атлетики. Юрий Седых установил свой рекорд 30 августа 1986 года (метание молота, 86,74 метра), Наталья Лисовская — 7 июня 1987 года (толкание ядра, 22,63 метра)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талья Лисовская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, выступая за сборную СССР, победила на Олимпийских Играх в Сеуле (1988). Трижды била мировой рекорд — в 1984 году и два раза в 1987 году. 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 1976 году практически никому неизвестный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Юрий Седых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в Монреале завоевал золотую медаль. В 1978 году стал чемпионом Европы. На Олимпиаде в Москве в 1980 году стал чемпионом. В 1982 году вновь стал чемпионом Европы. В 1988 году на Олимпийских Играх  в Сеуле завоевал серебро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0 августа 1986 года Седых установил при броске рекорд 86,74  м. на Чемпионате Европы в Штутгарте (ФРГ) , который не побит до сих пор. В том же году стал победителем  Игр доброй воли. В 1991 году на закате карьеры единственный раз стал чемпионом мира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716000" y="1589400"/>
            <a:ext cx="3888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Наталья Лисовская 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и Юрий Седых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6" name="Picture 2" descr="C:\Users\I 3-2120\Desktop\Фото для презентации\Юрий Седых.jpg"/>
          <p:cNvPicPr/>
          <p:nvPr/>
        </p:nvPicPr>
        <p:blipFill>
          <a:blip r:embed="rId1"/>
          <a:stretch/>
        </p:blipFill>
        <p:spPr>
          <a:xfrm>
            <a:off x="2723400" y="2493000"/>
            <a:ext cx="1728000" cy="2714400"/>
          </a:xfrm>
          <a:prstGeom prst="rect">
            <a:avLst/>
          </a:prstGeom>
          <a:ln w="0">
            <a:noFill/>
          </a:ln>
        </p:spPr>
      </p:pic>
      <p:pic>
        <p:nvPicPr>
          <p:cNvPr id="127" name="Объект 7" descr=""/>
          <p:cNvPicPr/>
          <p:nvPr/>
        </p:nvPicPr>
        <p:blipFill>
          <a:blip r:embed="rId2"/>
          <a:stretch/>
        </p:blipFill>
        <p:spPr>
          <a:xfrm>
            <a:off x="683640" y="2133000"/>
            <a:ext cx="184464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220000" y="2781000"/>
            <a:ext cx="33523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ергей Бубка – советский и украинский спортсмен -легкоатлет по пружкам с  шестом. Первый в мире человек, прыгнувший выше шести метров. Чемпион Олимпийских игр 1988 года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динственный легкоатлет, победивший на шести чемпионатах мира. Заслуженный мастер спорта СССР (1983).  Победитель Кубков мира и Европы (1985) в прыжках с шестом. Серебряный призёр международных соревнований  «Дружба-84»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ладел мировым рекордом в прыжке с шестом в закрытых помещениях (6,15 м) с 1993 по 2014 годы (на протяжении более чем двух десятилетий, вплоть до 15 февраля 2014 года. Владеет мировым рекордом в прыжке с шестом на открытых аренах (6,14 м) с 1994 года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220000" y="126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ергей Бубк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0" name="Объект 4" descr=""/>
          <p:cNvPicPr/>
          <p:nvPr/>
        </p:nvPicPr>
        <p:blipFill>
          <a:blip r:embed="rId1"/>
          <a:stretch/>
        </p:blipFill>
        <p:spPr>
          <a:xfrm>
            <a:off x="827640" y="2349000"/>
            <a:ext cx="3904920" cy="262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3352320" cy="21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Советская и российская легкоатлетка , специализировавшаяся в беге на средние дистанции. Двукратная Олимпийская чемпионка  и чемпионка мира.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14 августа 1996 года установила  мировой рекорд в беге на 1 милю  — 4.12,56, а через девять дней, 23 августа 1996 года, — мировой рекорд в беге на 1000 м  — 2.28,98. В течение 23 лет являлась мировой рекордсменкой в беге на милю в открытых помещениях.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755640" y="162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ветлана Мастерко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3" name="Объект 4" descr=""/>
          <p:cNvPicPr/>
          <p:nvPr/>
        </p:nvPicPr>
        <p:blipFill>
          <a:blip r:embed="rId1"/>
          <a:stretch/>
        </p:blipFill>
        <p:spPr>
          <a:xfrm>
            <a:off x="4651200" y="2385360"/>
            <a:ext cx="3904920" cy="26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360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Российская прыгунья с шестом. Двукратная олимпийская чемпионка (2004,2008), бронзовый призёр Олимпийских игр  2012  года. Трёхкратная чемпионка мира на открытом воздухе и 4-кратная чемпионка мира в помещении, чемпионка Европы как на открытом воздухе, так и в помещении. Обладательница 28 мировых рекордо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в прыжках с шестом. Заслуженный мастер спорта России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22 июля 2005 года на соревнованиях в Лондоне впервые в истории женских прыжков с шестом взяла высоту пять метров. 18 августа 2008 года на пекинской Олимпиаде Елена Исинбаева установила мировой рекорд — 5,05 м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18 августа 2016 года была избрана в комиссию спортсменов Международного олимпийского комитета (МОК), войдя в четвёрку, отобранную из 24 кандидатов, получив 1365 голосов из 11 тысяч голосовавших атлетов, со сроком полномочий 8 лет. До неё спортсменом из России в комиссии был  Александр Попов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99640" y="126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Елена Исинбае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6" name="Объект 4" descr=""/>
          <p:cNvPicPr/>
          <p:nvPr/>
        </p:nvPicPr>
        <p:blipFill>
          <a:blip r:embed="rId1"/>
          <a:stretch/>
        </p:blipFill>
        <p:spPr>
          <a:xfrm>
            <a:off x="5335200" y="1828800"/>
            <a:ext cx="25372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2997000"/>
            <a:ext cx="33523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оссийский конькобежец, трёхкратный чемпион мира в спринтерском многоборье, пятикратный чемпион мира на отдельных дистанциях. Обладатель Кубка мира 2015 года по конькобежному спорту в общем зачёте и 2 малых глобусов на дистанциях 500 и 1000 м. Стал первым в истории россиянином, выигравшим большой Хрустальный глобус в коньках. С 14 ноября 2015 является мировым рекордсменом</a:t>
            </a:r>
            <a:r>
              <a:rPr b="0" lang="ru-RU" sz="4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 в беге на 500 м (сначала результат был 34,00 с., затем 20 ноября обновил собственный рекорд — 33,98 с.)</a:t>
            </a:r>
            <a:r>
              <a:rPr b="0" lang="ru-RU" sz="4400" spc="-1" strike="noStrike" u="sng" baseline="30000">
                <a:solidFill>
                  <a:srgbClr val="0080ff"/>
                </a:solidFill>
                <a:uFillTx/>
                <a:latin typeface="Candara"/>
                <a:hlinkClick r:id="rId2"/>
              </a:rPr>
              <a:t>[1]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. В финале Кубка Мира 9 марта 2019 сначала Тацуя Синама пробежал 33,835 с., однако позже Кулижников установил новый мировой рекорд 33,616 с. 16 февраля 2020 года Павел установил мировой рекорд на дистанции 1000 м (1:05,69) и стал первым человеком, выбежавшим из 1 минуты 6 секунд.</a:t>
            </a:r>
            <a:endParaRPr b="0" lang="ru-RU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71640" y="1700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авел Кулижников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9" name="Объект 4" descr=""/>
          <p:cNvPicPr/>
          <p:nvPr/>
        </p:nvPicPr>
        <p:blipFill>
          <a:blip r:embed="rId3"/>
          <a:stretch/>
        </p:blipFill>
        <p:spPr>
          <a:xfrm>
            <a:off x="5175360" y="1828800"/>
            <a:ext cx="285732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306900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оветский и российский пловец, 4-кратный олимпийский чемпион, 6-кратный чемпион мира, 21-кратный чемпион Европы, многократный рекордсмен мира и Европы, заслуженный мастер спорта СССР (1992), кавалер и почётный член Международного олимпийского комитета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дин из доминирующих пловцов на мировом уровне в 1990-х годах 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Александр Попов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2" name="Объект 4" descr=""/>
          <p:cNvPicPr/>
          <p:nvPr/>
        </p:nvPicPr>
        <p:blipFill>
          <a:blip r:embed="rId1"/>
          <a:stretch/>
        </p:blipFill>
        <p:spPr>
          <a:xfrm>
            <a:off x="4651200" y="2435400"/>
            <a:ext cx="3904920" cy="25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26</TotalTime>
  <Application>LibreOffice/7.4.7.2$Linux_X86_64 LibreOffice_project/40$Build-2</Application>
  <AppVersion>15.0000</AppVersion>
  <Words>313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1T07:30:48Z</dcterms:created>
  <dc:creator>техно</dc:creator>
  <dc:description/>
  <dc:language>en-US</dc:language>
  <cp:lastModifiedBy>I 3-2120</cp:lastModifiedBy>
  <dcterms:modified xsi:type="dcterms:W3CDTF">2020-06-12T06:48:41Z</dcterms:modified>
  <cp:revision>11</cp:revision>
  <dc:subject/>
  <dc:title>Российские  рекордсмены ми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0</vt:r8>
  </property>
</Properties>
</file>