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349100E-5B68-49DB-9BD7-DC216A60BA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124085C-547C-4B97-92BD-CBAFFC9F6711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02A6-AEB4-4CD3-A1E6-AE9130C1D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286000"/>
            <a:ext cx="335232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3581280"/>
            <a:ext cx="335232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914400" y="4576320"/>
            <a:ext cx="335232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BE3E-A89F-4C4D-9CF4-146078BDD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286000"/>
            <a:ext cx="335232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3581280"/>
            <a:ext cx="16358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2632320" y="3581280"/>
            <a:ext cx="16358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914400" y="4576320"/>
            <a:ext cx="16358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632320" y="4576320"/>
            <a:ext cx="16358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806F-284D-4958-80EA-FB1614E29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286000"/>
            <a:ext cx="335232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3581280"/>
            <a:ext cx="107928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2048040" y="3581280"/>
            <a:ext cx="107928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3181680" y="3581280"/>
            <a:ext cx="107928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914400" y="4576320"/>
            <a:ext cx="107928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2048040" y="4576320"/>
            <a:ext cx="107928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3181680" y="4576320"/>
            <a:ext cx="107928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1289-3945-4401-BBC4-101F48063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17E8E-B0DB-4E37-9D1B-F791D10D2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286000"/>
            <a:ext cx="335232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914400" y="3581280"/>
            <a:ext cx="335232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E9318-7690-4542-B9D0-0DFCE1B2A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286000"/>
            <a:ext cx="335232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3581280"/>
            <a:ext cx="335232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3D2D3-15D2-40FD-AF3A-C95C3FDA0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286000"/>
            <a:ext cx="335232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3581280"/>
            <a:ext cx="16358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632320" y="3581280"/>
            <a:ext cx="16358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C3531-9427-4908-8363-1801E071B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286000"/>
            <a:ext cx="335232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0D9A5-F764-4BA7-937E-BD1F79DA5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914400" y="2286000"/>
            <a:ext cx="335232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F39C5-BA45-4097-A131-3EF36823F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286000"/>
            <a:ext cx="335232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3581280"/>
            <a:ext cx="16358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2632320" y="3581280"/>
            <a:ext cx="16358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4576320"/>
            <a:ext cx="16358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361CF-A68A-4D21-B31E-67C8EE79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286000"/>
            <a:ext cx="335232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914400" y="3581280"/>
            <a:ext cx="335232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486A-74AE-437E-ADDB-3DFCDB7CE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286000"/>
            <a:ext cx="335232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3581280"/>
            <a:ext cx="16358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632320" y="3581280"/>
            <a:ext cx="16358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2632320" y="4576320"/>
            <a:ext cx="16358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799DD-AF6C-4132-819D-D6CA12AE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2286000"/>
            <a:ext cx="335232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400" y="3581280"/>
            <a:ext cx="16358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2632320" y="3581280"/>
            <a:ext cx="16358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4400" y="4576320"/>
            <a:ext cx="335232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E2F5B-0F45-48C8-A8C5-8A1338A9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286000"/>
            <a:ext cx="335232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3581280"/>
            <a:ext cx="335232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914400" y="4576320"/>
            <a:ext cx="335232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D6B7A-A5E2-4F8C-AE1A-6C86F7CD1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286000"/>
            <a:ext cx="335232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3581280"/>
            <a:ext cx="16358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632320" y="3581280"/>
            <a:ext cx="16358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914400" y="4576320"/>
            <a:ext cx="16358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632320" y="4576320"/>
            <a:ext cx="16358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B946F-4705-4E36-AF16-27220DFE4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286000"/>
            <a:ext cx="335232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3581280"/>
            <a:ext cx="107928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048040" y="3581280"/>
            <a:ext cx="107928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181680" y="3581280"/>
            <a:ext cx="107928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914400" y="4576320"/>
            <a:ext cx="107928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048040" y="4576320"/>
            <a:ext cx="107928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3181680" y="4576320"/>
            <a:ext cx="107928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9C88E-3B6E-4802-B5D1-46AFB7707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286000"/>
            <a:ext cx="335232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3581280"/>
            <a:ext cx="335232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E7E8-6BAA-4585-B2D4-E2FBEC704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286000"/>
            <a:ext cx="335232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3581280"/>
            <a:ext cx="16358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632320" y="3581280"/>
            <a:ext cx="16358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283A-96A7-48FA-B4FC-CBF891398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286000"/>
            <a:ext cx="335232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EA07-488E-402E-A398-02A7E3452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914400" y="2286000"/>
            <a:ext cx="335232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B5D1-FA39-46D1-AB1A-FD9B78C43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286000"/>
            <a:ext cx="335232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3581280"/>
            <a:ext cx="16358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632320" y="3581280"/>
            <a:ext cx="16358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4576320"/>
            <a:ext cx="16358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7BF3-427E-4A50-8C7D-21C5F022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286000"/>
            <a:ext cx="335232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3581280"/>
            <a:ext cx="16358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632320" y="3581280"/>
            <a:ext cx="16358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632320" y="4576320"/>
            <a:ext cx="16358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5038-E81B-42BB-BE47-4B25EF98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286000"/>
            <a:ext cx="335232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3581280"/>
            <a:ext cx="16358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632320" y="3581280"/>
            <a:ext cx="163584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4576320"/>
            <a:ext cx="335232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20B9-034A-4BF4-A2E4-A46EED65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 hidden="1"/>
          <p:cNvSpPr/>
          <p:nvPr/>
        </p:nvSpPr>
        <p:spPr>
          <a:xfrm>
            <a:off x="228600" y="228600"/>
            <a:ext cx="8695440" cy="2468520"/>
          </a:xfrm>
          <a:prstGeom prst="roundRect">
            <a:avLst>
              <a:gd name="adj" fmla="val 3362"/>
            </a:avLst>
          </a:prstGeom>
          <a:gradFill rotWithShape="0">
            <a:gsLst>
              <a:gs pos="10000">
                <a:srgbClr val="83d3fe"/>
              </a:gs>
              <a:gs pos="100000">
                <a:srgbClr val="0293e0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1680" y="1679400"/>
            <a:ext cx="8723160" cy="1329480"/>
            <a:chOff x="211680" y="1679400"/>
            <a:chExt cx="8723160" cy="1329480"/>
          </a:xfrm>
        </p:grpSpPr>
        <p:sp>
          <p:nvSpPr>
            <p:cNvPr id="2" name="Freeform 14"/>
            <p:cNvSpPr/>
            <p:nvPr/>
          </p:nvSpPr>
          <p:spPr>
            <a:xfrm>
              <a:off x="6047280" y="1824480"/>
              <a:ext cx="2876040" cy="713520"/>
            </a:xfrm>
            <a:custGeom>
              <a:avLst/>
              <a:gdLst>
                <a:gd name="textAreaLeft" fmla="*/ 0 w 2876040"/>
                <a:gd name="textAreaRight" fmla="*/ 2876400 w 2876040"/>
                <a:gd name="textAreaTop" fmla="*/ 0 h 713520"/>
                <a:gd name="textAreaBottom" fmla="*/ 713880 h 7135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360" y="1696320"/>
              <a:ext cx="5544000" cy="849600"/>
            </a:xfrm>
            <a:custGeom>
              <a:avLst/>
              <a:gdLst>
                <a:gd name="textAreaLeft" fmla="*/ 0 w 5544000"/>
                <a:gd name="textAreaRight" fmla="*/ 5544360 w 554400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8560"/>
              <a:ext cx="5467680" cy="77400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000"/>
                <a:gd name="textAreaBottom" fmla="*/ 774360 h 77400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9520" y="1694880"/>
              <a:ext cx="3307680" cy="651240"/>
            </a:xfrm>
            <a:custGeom>
              <a:avLst/>
              <a:gdLst>
                <a:gd name="textAreaLeft" fmla="*/ 0 w 3307680"/>
                <a:gd name="textAreaRight" fmla="*/ 3308040 w 3307680"/>
                <a:gd name="textAreaTop" fmla="*/ 0 h 651240"/>
                <a:gd name="textAreaBottom" fmla="*/ 651600 h 65124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 useBgFill="1">
          <p:nvSpPr>
            <p:cNvPr id="6" name="Freeform 10"/>
            <p:cNvSpPr/>
            <p:nvPr/>
          </p:nvSpPr>
          <p:spPr>
            <a:xfrm>
              <a:off x="211680" y="1679400"/>
              <a:ext cx="8723160" cy="13294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29480"/>
                <a:gd name="textAreaBottom" fmla="*/ 1329840 h 13294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Rounded Rectangle 15"/>
          <p:cNvSpPr/>
          <p:nvPr/>
        </p:nvSpPr>
        <p:spPr>
          <a:xfrm>
            <a:off x="228600" y="228600"/>
            <a:ext cx="8695440" cy="6034680"/>
          </a:xfrm>
          <a:prstGeom prst="roundRect">
            <a:avLst>
              <a:gd name="adj" fmla="val 1272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ndara"/>
            </a:endParaRPr>
          </a:p>
        </p:txBody>
      </p:sp>
      <p:grpSp>
        <p:nvGrpSpPr>
          <p:cNvPr id="8" name="Group 9"/>
          <p:cNvGrpSpPr/>
          <p:nvPr/>
        </p:nvGrpSpPr>
        <p:grpSpPr>
          <a:xfrm>
            <a:off x="211680" y="5353920"/>
            <a:ext cx="8723160" cy="1331280"/>
            <a:chOff x="211680" y="5353920"/>
            <a:chExt cx="8723160" cy="1331280"/>
          </a:xfrm>
        </p:grpSpPr>
        <p:sp>
          <p:nvSpPr>
            <p:cNvPr id="9" name="Freeform 14"/>
            <p:cNvSpPr/>
            <p:nvPr/>
          </p:nvSpPr>
          <p:spPr>
            <a:xfrm>
              <a:off x="6054840" y="549936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" name="Freeform 18"/>
            <p:cNvSpPr/>
            <p:nvPr/>
          </p:nvSpPr>
          <p:spPr>
            <a:xfrm>
              <a:off x="2622240" y="5370840"/>
              <a:ext cx="5551200" cy="851040"/>
            </a:xfrm>
            <a:custGeom>
              <a:avLst/>
              <a:gdLst>
                <a:gd name="textAreaLeft" fmla="*/ 0 w 5551200"/>
                <a:gd name="textAreaRight" fmla="*/ 5551560 w 555120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1" name="Freeform 22"/>
            <p:cNvSpPr/>
            <p:nvPr/>
          </p:nvSpPr>
          <p:spPr>
            <a:xfrm>
              <a:off x="2832120" y="5383080"/>
              <a:ext cx="5474520" cy="775080"/>
            </a:xfrm>
            <a:custGeom>
              <a:avLst/>
              <a:gdLst>
                <a:gd name="textAreaLeft" fmla="*/ 0 w 5474520"/>
                <a:gd name="textAreaRight" fmla="*/ 5474880 w 5474520"/>
                <a:gd name="textAreaTop" fmla="*/ 0 h 775080"/>
                <a:gd name="textAreaBottom" fmla="*/ 775440 h 77508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2" name="Freeform 26"/>
            <p:cNvSpPr/>
            <p:nvPr/>
          </p:nvSpPr>
          <p:spPr>
            <a:xfrm>
              <a:off x="5616360" y="5369760"/>
              <a:ext cx="3312000" cy="651960"/>
            </a:xfrm>
            <a:custGeom>
              <a:avLst/>
              <a:gdLst>
                <a:gd name="textAreaLeft" fmla="*/ 0 w 3312000"/>
                <a:gd name="textAreaRight" fmla="*/ 3312360 w 3312000"/>
                <a:gd name="textAreaTop" fmla="*/ 0 h 651960"/>
                <a:gd name="textAreaBottom" fmla="*/ 652320 h 65196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 useBgFill="1">
          <p:nvSpPr>
            <p:cNvPr id="13" name="Freeform 10"/>
            <p:cNvSpPr/>
            <p:nvPr/>
          </p:nvSpPr>
          <p:spPr>
            <a:xfrm>
              <a:off x="211680" y="5353920"/>
              <a:ext cx="8723160" cy="13312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31280"/>
                <a:gd name="textAreaBottom" fmla="*/ 1331640 h 13312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dt" idx="1"/>
          </p:nvPr>
        </p:nvSpPr>
        <p:spPr>
          <a:xfrm>
            <a:off x="516384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ftr" idx="2"/>
          </p:nvPr>
        </p:nvSpPr>
        <p:spPr>
          <a:xfrm>
            <a:off x="19368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sldNum" idx="3"/>
          </p:nvPr>
        </p:nvSpPr>
        <p:spPr>
          <a:xfrm>
            <a:off x="3990960" y="6250320"/>
            <a:ext cx="1161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E9A37CF-C2C3-4F78-AA2F-21E1985D154D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ru-RU" sz="1600" spc="-1" strike="noStrike">
              <a:solidFill>
                <a:srgbClr val="073e87"/>
              </a:solidFill>
              <a:latin typeface="Candar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ounded Rectangle 13" hidden="1"/>
          <p:cNvSpPr/>
          <p:nvPr/>
        </p:nvSpPr>
        <p:spPr>
          <a:xfrm>
            <a:off x="228600" y="228600"/>
            <a:ext cx="8695440" cy="2468520"/>
          </a:xfrm>
          <a:prstGeom prst="roundRect">
            <a:avLst>
              <a:gd name="adj" fmla="val 3362"/>
            </a:avLst>
          </a:prstGeom>
          <a:gradFill rotWithShape="0">
            <a:gsLst>
              <a:gs pos="10000">
                <a:srgbClr val="83d3fe"/>
              </a:gs>
              <a:gs pos="100000">
                <a:srgbClr val="0293e0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ndara"/>
            </a:endParaRPr>
          </a:p>
        </p:txBody>
      </p:sp>
      <p:grpSp>
        <p:nvGrpSpPr>
          <p:cNvPr id="56" name="Group 15"/>
          <p:cNvGrpSpPr/>
          <p:nvPr/>
        </p:nvGrpSpPr>
        <p:grpSpPr>
          <a:xfrm>
            <a:off x="211680" y="1679400"/>
            <a:ext cx="8723160" cy="1329480"/>
            <a:chOff x="211680" y="1679400"/>
            <a:chExt cx="8723160" cy="1329480"/>
          </a:xfrm>
        </p:grpSpPr>
        <p:sp>
          <p:nvSpPr>
            <p:cNvPr id="57" name="Freeform 14"/>
            <p:cNvSpPr/>
            <p:nvPr/>
          </p:nvSpPr>
          <p:spPr>
            <a:xfrm>
              <a:off x="6047280" y="1824480"/>
              <a:ext cx="2876040" cy="713520"/>
            </a:xfrm>
            <a:custGeom>
              <a:avLst/>
              <a:gdLst>
                <a:gd name="textAreaLeft" fmla="*/ 0 w 2876040"/>
                <a:gd name="textAreaRight" fmla="*/ 2876400 w 2876040"/>
                <a:gd name="textAreaTop" fmla="*/ 0 h 713520"/>
                <a:gd name="textAreaBottom" fmla="*/ 713880 h 7135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8" name="Freeform 18"/>
            <p:cNvSpPr/>
            <p:nvPr/>
          </p:nvSpPr>
          <p:spPr>
            <a:xfrm>
              <a:off x="2619360" y="1696320"/>
              <a:ext cx="5544000" cy="849600"/>
            </a:xfrm>
            <a:custGeom>
              <a:avLst/>
              <a:gdLst>
                <a:gd name="textAreaLeft" fmla="*/ 0 w 5544000"/>
                <a:gd name="textAreaRight" fmla="*/ 5544360 w 554400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2828880" y="1708560"/>
              <a:ext cx="5467680" cy="77400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000"/>
                <a:gd name="textAreaBottom" fmla="*/ 774360 h 77400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0" name="Freeform 26"/>
            <p:cNvSpPr/>
            <p:nvPr/>
          </p:nvSpPr>
          <p:spPr>
            <a:xfrm>
              <a:off x="5609520" y="1694880"/>
              <a:ext cx="3307680" cy="651240"/>
            </a:xfrm>
            <a:custGeom>
              <a:avLst/>
              <a:gdLst>
                <a:gd name="textAreaLeft" fmla="*/ 0 w 3307680"/>
                <a:gd name="textAreaRight" fmla="*/ 3308040 w 3307680"/>
                <a:gd name="textAreaTop" fmla="*/ 0 h 651240"/>
                <a:gd name="textAreaBottom" fmla="*/ 651600 h 65124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 useBgFill="1">
          <p:nvSpPr>
            <p:cNvPr id="61" name="Freeform 10"/>
            <p:cNvSpPr/>
            <p:nvPr/>
          </p:nvSpPr>
          <p:spPr>
            <a:xfrm>
              <a:off x="211680" y="1679400"/>
              <a:ext cx="8723160" cy="13294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29480"/>
                <a:gd name="textAreaBottom" fmla="*/ 1329840 h 13294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62" name="Rounded Rectangle 14"/>
          <p:cNvSpPr/>
          <p:nvPr/>
        </p:nvSpPr>
        <p:spPr>
          <a:xfrm>
            <a:off x="228600" y="228600"/>
            <a:ext cx="8695440" cy="1425960"/>
          </a:xfrm>
          <a:prstGeom prst="roundRect">
            <a:avLst>
              <a:gd name="adj" fmla="val 7136"/>
            </a:avLst>
          </a:prstGeom>
          <a:gradFill rotWithShape="0">
            <a:gsLst>
              <a:gs pos="10000">
                <a:srgbClr val="83d3fe"/>
              </a:gs>
              <a:gs pos="100000">
                <a:srgbClr val="0293e0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ndar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dt" idx="4"/>
          </p:nvPr>
        </p:nvSpPr>
        <p:spPr>
          <a:xfrm>
            <a:off x="516384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ftr" idx="5"/>
          </p:nvPr>
        </p:nvSpPr>
        <p:spPr>
          <a:xfrm>
            <a:off x="19368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sldNum" idx="6"/>
          </p:nvPr>
        </p:nvSpPr>
        <p:spPr>
          <a:xfrm>
            <a:off x="3990960" y="6250320"/>
            <a:ext cx="1161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4CFD15E-AC48-414C-B760-8ED8DFD99618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body"/>
          </p:nvPr>
        </p:nvSpPr>
        <p:spPr>
          <a:xfrm>
            <a:off x="914400" y="3581280"/>
            <a:ext cx="335232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Образец текста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</p:txBody>
      </p:sp>
      <p:grpSp>
        <p:nvGrpSpPr>
          <p:cNvPr id="67" name="Group 23"/>
          <p:cNvGrpSpPr/>
          <p:nvPr/>
        </p:nvGrpSpPr>
        <p:grpSpPr>
          <a:xfrm>
            <a:off x="211680" y="714240"/>
            <a:ext cx="8723160" cy="1331280"/>
            <a:chOff x="211680" y="714240"/>
            <a:chExt cx="8723160" cy="1331280"/>
          </a:xfrm>
        </p:grpSpPr>
        <p:sp>
          <p:nvSpPr>
            <p:cNvPr id="68" name="Freeform 14"/>
            <p:cNvSpPr/>
            <p:nvPr/>
          </p:nvSpPr>
          <p:spPr>
            <a:xfrm>
              <a:off x="6054840" y="85932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9" name="Freeform 18"/>
            <p:cNvSpPr/>
            <p:nvPr/>
          </p:nvSpPr>
          <p:spPr>
            <a:xfrm>
              <a:off x="2622240" y="730800"/>
              <a:ext cx="5551200" cy="851040"/>
            </a:xfrm>
            <a:custGeom>
              <a:avLst/>
              <a:gdLst>
                <a:gd name="textAreaLeft" fmla="*/ 0 w 5551200"/>
                <a:gd name="textAreaRight" fmla="*/ 5551560 w 555120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0" name="Freeform 22"/>
            <p:cNvSpPr/>
            <p:nvPr/>
          </p:nvSpPr>
          <p:spPr>
            <a:xfrm>
              <a:off x="2832120" y="743400"/>
              <a:ext cx="5474520" cy="775080"/>
            </a:xfrm>
            <a:custGeom>
              <a:avLst/>
              <a:gdLst>
                <a:gd name="textAreaLeft" fmla="*/ 0 w 5474520"/>
                <a:gd name="textAreaRight" fmla="*/ 5474880 w 5474520"/>
                <a:gd name="textAreaTop" fmla="*/ 0 h 775080"/>
                <a:gd name="textAreaBottom" fmla="*/ 775440 h 77508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1" name="Freeform 26"/>
            <p:cNvSpPr/>
            <p:nvPr/>
          </p:nvSpPr>
          <p:spPr>
            <a:xfrm>
              <a:off x="5616360" y="729720"/>
              <a:ext cx="3312000" cy="651960"/>
            </a:xfrm>
            <a:custGeom>
              <a:avLst/>
              <a:gdLst>
                <a:gd name="textAreaLeft" fmla="*/ 0 w 3312000"/>
                <a:gd name="textAreaRight" fmla="*/ 3312360 w 3312000"/>
                <a:gd name="textAreaTop" fmla="*/ 0 h 651960"/>
                <a:gd name="textAreaBottom" fmla="*/ 652320 h 65196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 useBgFill="1">
          <p:nvSpPr>
            <p:cNvPr id="72" name="Freeform 28"/>
            <p:cNvSpPr/>
            <p:nvPr/>
          </p:nvSpPr>
          <p:spPr>
            <a:xfrm>
              <a:off x="211680" y="714240"/>
              <a:ext cx="8723160" cy="13312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31280"/>
                <a:gd name="textAreaBottom" fmla="*/ 1331640 h 13312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3" name="PlaceHolder 5"/>
          <p:cNvSpPr>
            <a:spLocks noGrp="1"/>
          </p:cNvSpPr>
          <p:nvPr>
            <p:ph type="title"/>
          </p:nvPr>
        </p:nvSpPr>
        <p:spPr>
          <a:xfrm>
            <a:off x="914400" y="2286000"/>
            <a:ext cx="3352320" cy="125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 type="body"/>
          </p:nvPr>
        </p:nvSpPr>
        <p:spPr>
          <a:xfrm>
            <a:off x="4651920" y="1828800"/>
            <a:ext cx="3903840" cy="380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4320" indent="-274320">
              <a:lnSpc>
                <a:spcPct val="100000"/>
              </a:lnSpc>
              <a:spcBef>
                <a:spcPts val="439"/>
              </a:spcBef>
              <a:buClr>
                <a:srgbClr val="ffffff"/>
              </a:buClr>
              <a:buFont typeface="Symbol"/>
              <a:buChar char=""/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Образец текста</a:t>
            </a:r>
            <a:endParaRPr b="0" lang="ru-RU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43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Второй уровень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Symbol"/>
              <a:buChar char=""/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Третий уровень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lnSpc>
                <a:spcPct val="100000"/>
              </a:lnSpc>
              <a:spcBef>
                <a:spcPts val="320"/>
              </a:spcBef>
              <a:buClr>
                <a:srgbClr val="ffffff"/>
              </a:buClr>
              <a:buFont typeface="Symbol"/>
              <a:buChar char=""/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Четвертый уровень</a:t>
            </a:r>
            <a:endParaRPr b="0" lang="ru-RU" sz="1600" spc="-1" strike="noStrike">
              <a:solidFill>
                <a:srgbClr val="073e87"/>
              </a:solidFill>
              <a:latin typeface="Candara"/>
            </a:endParaRPr>
          </a:p>
          <a:p>
            <a:pPr lvl="4" marL="1463040" indent="-228600">
              <a:lnSpc>
                <a:spcPct val="100000"/>
              </a:lnSpc>
              <a:spcBef>
                <a:spcPts val="320"/>
              </a:spcBef>
              <a:buClr>
                <a:srgbClr val="ffffff"/>
              </a:buClr>
              <a:buFont typeface="Symbol"/>
              <a:buChar char=""/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Пятый уровень</a:t>
            </a:r>
            <a:endParaRPr b="0" lang="ru-RU" sz="16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0;&#1072;&#1088;&#1077;&#1083;&#1080;&#1085;,_&#1040;&#1083;&#1077;&#1082;&#1089;&#1072;&#1085;&#1076;&#1088;_&#1040;&#1083;&#1077;&#1082;&#1089;&#1072;&#1085;&#1076;&#1088;&#1086;&#1074;&#1080;&#1095;#cite_note-2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2;&#1080;&#1088;&#1086;&#1074;&#1099;&#1077;_&#1088;&#1077;&#1082;&#1086;&#1088;&#1076;&#1099;_&#1074;_&#1082;&#1086;&#1085;&#1100;&#1082;&#1086;&#1073;&#1077;&#1078;&#1085;&#1086;&#1084;_&#1089;&#1087;&#1086;&#1088;&#1090;&#1077;" TargetMode="External"/><Relationship Id="rId2" Type="http://schemas.openxmlformats.org/officeDocument/2006/relationships/hyperlink" Target="https://ru.wikipedia.org/wiki/&#1050;&#1091;&#1083;&#1080;&#1078;&#1085;&#1080;&#1082;&#1086;&#1074;,_&#1055;&#1072;&#1074;&#1077;&#1083;_&#1040;&#1083;&#1077;&#1082;&#1089;&#1072;&#1085;&#1076;&#1088;&#1086;&#1074;&#1080;&#1095;#cite_note-1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276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6600" spc="-1" strike="noStrike">
                <a:solidFill>
                  <a:srgbClr val="ffffff"/>
                </a:solidFill>
                <a:latin typeface="Candara"/>
              </a:rPr>
              <a:t>Российские </a:t>
            </a:r>
            <a:br>
              <a:rPr sz="6600"/>
            </a:br>
            <a:r>
              <a:rPr b="0" lang="ru-RU" sz="6600" spc="-1" strike="noStrike">
                <a:solidFill>
                  <a:srgbClr val="ffffff"/>
                </a:solidFill>
                <a:latin typeface="Candara"/>
              </a:rPr>
              <a:t>рекордсмены мира</a:t>
            </a:r>
            <a:endParaRPr b="0" lang="ru-RU" sz="66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043640" y="2709000"/>
            <a:ext cx="3297240" cy="273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0000"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ndara"/>
              </a:rPr>
              <a:t>Советский и российский спортсмен, борец классического  (греко-римского) стиля, государственный и политический деятель, депутат Государственной Думы пяти созывов. Заслуженный мастер спорта СССР (1988),  Герой Российской Федерации(1996).</a:t>
            </a:r>
            <a:endParaRPr b="0" lang="ru-RU" sz="3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ndara"/>
              </a:rPr>
              <a:t>Трёхкратный победитель Олимпийских игр (1988 года, 1992 года, 1996 года, в категории до 130 кг), девятикратный чемпион мира (1989—1991, 1993—1995, 1997—1999), 12-кратный чемпион Европы (1987—1991, 1993—1996, 1998—2000), серебряный призёр Олимпийских игр 2000 года, чемпион мира среди юниоров 1988 года, 13-кратный чемпион СССР , СНГ и России (1988—2000). Победитель Кубка «Абсолютный чемпион мира» 1989. Четыре раза награждён «Золотым поясом», как лучший борец планеты — в 1989, 1990, 1992, 1994 гг. Победитель IV международного турнира «На призы Александра Карелина» (1995). Шестикратный победитель международного турнира памяти Ивана Поддубного. Был признан лучшим спортсменом года в мире. Два раза был признан лучшим спортсменом России. За всю спортивную карьеру выиграл 888 поединков (887 в борьбе и 1 в ММА) и потерпел два поражения</a:t>
            </a:r>
            <a:r>
              <a:rPr b="0" lang="ru-RU" sz="3600" spc="-1" strike="noStrike" u="sng" baseline="30000">
                <a:solidFill>
                  <a:srgbClr val="0080ff"/>
                </a:solidFill>
                <a:uFillTx/>
                <a:latin typeface="Candara"/>
                <a:hlinkClick r:id="rId1"/>
              </a:rPr>
              <a:t>[2]</a:t>
            </a:r>
            <a:r>
              <a:rPr b="0" lang="ru-RU" sz="3600" spc="-1" strike="noStrike">
                <a:solidFill>
                  <a:srgbClr val="000000"/>
                </a:solidFill>
                <a:latin typeface="Candara"/>
              </a:rPr>
              <a:t>. Включён в число 25 лучших атлетов мира XX столетия. Занесен в  Книгу рекордов Гиннесса как спортсмен, в течение тринадцати лет не проигравший ни одной схватки. И в течение 6 лет не проиграл ни одного балла во всех официальных поединках. Известны случаи, когда соперники отказывались бороться с ним.</a:t>
            </a:r>
            <a:endParaRPr b="0" lang="ru-RU" sz="3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043640" y="1484640"/>
            <a:ext cx="3352320" cy="125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Александр Карелин</a:t>
            </a:r>
            <a:endParaRPr b="0" lang="ru-RU" sz="32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45" name="Объект 4" descr=""/>
          <p:cNvPicPr/>
          <p:nvPr/>
        </p:nvPicPr>
        <p:blipFill>
          <a:blip r:embed="rId2"/>
          <a:stretch/>
        </p:blipFill>
        <p:spPr>
          <a:xfrm>
            <a:off x="4892760" y="1828800"/>
            <a:ext cx="3422160" cy="38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716000" y="2493000"/>
            <a:ext cx="4072680" cy="38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ndara"/>
              </a:rPr>
              <a:t>Галина Чистякова, родилась в июле 1962 года в Измаиле, Украинская ССР. В Измаильской спортивной школе Галя быстро стала выделяться среды сверстников. После переезда в Москву, Чистякова тренировалась в Буревестнике, одном из старейших стадионов Москвы у тренера Вячеслава Соколова. Представляла на турнирах Советский Союз, а затем Словакию. Она считается ведущим мировым рекордсменом в прыжках в длину. Галина Чистякова единственная женщина в Советском Союзе и в Европе, которая начала первой осваивать тройной прыжок.</a:t>
            </a:r>
            <a:endParaRPr b="0" lang="ru-RU" sz="12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ndara"/>
              </a:rPr>
              <a:t>Она стала олимпийским бронзовым призером 1988 года в Сеуле и чемпионом мира 1989 года. Галина - бывший рекордсмен мира (до ИААФ) в тройном прыжке с 14,52 метрами в 1989 году, который проходил в Европе в закрытых помещениях. </a:t>
            </a:r>
            <a:endParaRPr b="0" lang="ru-RU" sz="1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4860000" y="1340640"/>
            <a:ext cx="3352320" cy="125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Галина Чистякова</a:t>
            </a:r>
            <a:endParaRPr b="0" lang="ru-RU" sz="32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20" name="Объект 4" descr=""/>
          <p:cNvPicPr/>
          <p:nvPr/>
        </p:nvPicPr>
        <p:blipFill>
          <a:blip r:embed="rId1"/>
          <a:srcRect l="6236" t="4252" r="6685" b="0"/>
          <a:stretch/>
        </p:blipFill>
        <p:spPr>
          <a:xfrm>
            <a:off x="683640" y="2205000"/>
            <a:ext cx="3852000" cy="28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996000" y="2853000"/>
            <a:ext cx="3928680" cy="295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Леони́д Арка́дьевич Таране́нко</a:t>
            </a: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 - советский и белорусский тяжелоатлет.</a:t>
            </a:r>
            <a:endParaRPr b="0" lang="ru-RU" sz="2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Олимпийский чемпион 1980 года, многократный чемпион мира, Европы и СССР. Обладатель 19 мировых  рекордов, причём два из них — 266 кг в толчке и 475 кг в двоеборье – занесены в  Книгу рекордов Гиннеса, а первый остаётся непревзойдённым и сегодня (из-за изменения весовых категорий данные рекорды не являются официальными). Заслуженный мастер спорта СССР (1980). Награждён орденами  Дружбы народов и Трудового Красного знамени.</a:t>
            </a:r>
            <a:endParaRPr b="0" lang="ru-RU" sz="2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3924000" y="1556640"/>
            <a:ext cx="3352320" cy="125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Леонид Тараненко</a:t>
            </a:r>
            <a:endParaRPr b="0" lang="ru-RU" sz="32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23" name="Объект 4" descr=""/>
          <p:cNvPicPr/>
          <p:nvPr/>
        </p:nvPicPr>
        <p:blipFill>
          <a:blip r:embed="rId1"/>
          <a:stretch/>
        </p:blipFill>
        <p:spPr>
          <a:xfrm>
            <a:off x="611640" y="1772640"/>
            <a:ext cx="2723040" cy="38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788000" y="2925000"/>
            <a:ext cx="335232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Наталья Лисовская и её муж  Юрий Седых — единственная семейная пара, обладающие двумя из семи самых старых рекордов в истории лёгкой атлетики. Юрий Седых установил свой рекорд 30 августа 1986 года (метание молота, 86,74 метра), Наталья Лисовская — 7 июня 1987 года (толкание ядра, 22,63 метра).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Наталья Лисовская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, выступая за сборную СССР, победила на Олимпийских Играх в Сеуле (1988). Трижды била мировой рекорд — в 1984 году и два раза в 1987 году. 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В 1976 году практически никому неизвестный </a:t>
            </a: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Юрий Седых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 в Монреале завоевал золотую медаль. В 1978 году стал чемпионом Европы. На Олимпиаде в Москве в 1980 году стал чемпионом. В 1982 году вновь стал чемпионом Европы. В 1988 году на Олимпийских Играх  в Сеуле завоевал серебро.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30 августа 1986 года Седых установил при броске рекорд 86,74  м. на Чемпионате Европы в Штутгарте (ФРГ) , который не побит до сих пор. В том же году стал победителем  Игр доброй воли. В 1991 году на закате карьеры единственный раз стал чемпионом мира.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716000" y="1589400"/>
            <a:ext cx="3888000" cy="125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Наталья Лисовская </a:t>
            </a:r>
            <a:br>
              <a:rPr sz="3200"/>
            </a:b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и Юрий Седых</a:t>
            </a:r>
            <a:endParaRPr b="0" lang="ru-RU" sz="32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26" name="Picture 2" descr="C:\Users\I 3-2120\Desktop\Фото для презентации\Юрий Седых.jpg"/>
          <p:cNvPicPr/>
          <p:nvPr/>
        </p:nvPicPr>
        <p:blipFill>
          <a:blip r:embed="rId1"/>
          <a:stretch/>
        </p:blipFill>
        <p:spPr>
          <a:xfrm>
            <a:off x="2723400" y="2493000"/>
            <a:ext cx="1728000" cy="2714400"/>
          </a:xfrm>
          <a:prstGeom prst="rect">
            <a:avLst/>
          </a:prstGeom>
          <a:ln w="0">
            <a:noFill/>
          </a:ln>
        </p:spPr>
      </p:pic>
      <p:pic>
        <p:nvPicPr>
          <p:cNvPr id="127" name="Объект 7" descr=""/>
          <p:cNvPicPr/>
          <p:nvPr/>
        </p:nvPicPr>
        <p:blipFill>
          <a:blip r:embed="rId2"/>
          <a:stretch/>
        </p:blipFill>
        <p:spPr>
          <a:xfrm>
            <a:off x="683640" y="2133000"/>
            <a:ext cx="1844640" cy="27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5220000" y="2781000"/>
            <a:ext cx="335232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Сергей Бубка – советский и украинский спортсмен -легкоатлет по пружкам с  шестом. Первый в мире человек, прыгнувший выше шести метров. Чемпион Олимпийских игр 1988 года. 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Единственный легкоатлет, победивший на шести чемпионатах мира. Заслуженный мастер спорта СССР (1983).  Победитель Кубков мира и Европы (1985) в прыжках с шестом. Серебряный призёр международных соревнований  «Дружба-84»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Владел мировым рекордом в прыжке с шестом в закрытых помещениях (6,15 м) с 1993 по 2014 годы (на протяжении более чем двух десятилетий, вплоть до 15 февраля 2014 года. Владеет мировым рекордом в прыжке с шестом на открытых аренах (6,14 м) с 1994 года. 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5220000" y="1268640"/>
            <a:ext cx="3352320" cy="125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Сергей Бубка</a:t>
            </a:r>
            <a:endParaRPr b="0" lang="ru-RU" sz="32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30" name="Объект 4" descr=""/>
          <p:cNvPicPr/>
          <p:nvPr/>
        </p:nvPicPr>
        <p:blipFill>
          <a:blip r:embed="rId1"/>
          <a:stretch/>
        </p:blipFill>
        <p:spPr>
          <a:xfrm>
            <a:off x="827640" y="2349000"/>
            <a:ext cx="3904920" cy="262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55640" y="2997000"/>
            <a:ext cx="3352320" cy="21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ndara"/>
              </a:rPr>
              <a:t>Советская и российская легкоатлетка , специализировавшаяся в беге на средние дистанции. Двукратная Олимпийская чемпионка  и чемпионка мира.</a:t>
            </a:r>
            <a:endParaRPr b="0" lang="ru-RU" sz="12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ndara"/>
              </a:rPr>
              <a:t>14 августа 1996 года установила  мировой рекорд в беге на 1 милю  — 4.12,56, а через девять дней, 23 августа 1996 года, — мировой рекорд в беге на 1000 м  — 2.28,98. В течение 23 лет являлась мировой рекордсменкой в беге на милю в открытых помещениях.</a:t>
            </a:r>
            <a:r>
              <a:rPr b="0" lang="ru-RU" sz="12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ru-RU" sz="1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755640" y="1628640"/>
            <a:ext cx="3352320" cy="125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Светлана Мастеркова</a:t>
            </a:r>
            <a:endParaRPr b="0" lang="ru-RU" sz="32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33" name="Объект 4" descr=""/>
          <p:cNvPicPr/>
          <p:nvPr/>
        </p:nvPicPr>
        <p:blipFill>
          <a:blip r:embed="rId1"/>
          <a:stretch/>
        </p:blipFill>
        <p:spPr>
          <a:xfrm>
            <a:off x="4651200" y="2385360"/>
            <a:ext cx="3904920" cy="26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99640" y="2637000"/>
            <a:ext cx="36000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ndara"/>
              </a:rPr>
              <a:t>Российская прыгунья с шестом. Двукратная олимпийская чемпионка (2004,2008), бронзовый призёр Олимпийских игр  2012  года. Трёхкратная чемпионка мира на открытом воздухе и 4-кратная чемпионка мира в помещении, чемпионка Европы как на открытом воздухе, так и в помещении. Обладательница 28 мировых рекордов</a:t>
            </a:r>
            <a:r>
              <a:rPr b="0" lang="ru-RU" sz="1000" spc="-1" strike="noStrike" baseline="30000">
                <a:solidFill>
                  <a:srgbClr val="000000"/>
                </a:solidFill>
                <a:latin typeface="Candara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andara"/>
              </a:rPr>
              <a:t>в прыжках с шестом. Заслуженный мастер спорта России.</a:t>
            </a:r>
            <a:endParaRPr b="0" lang="ru-RU" sz="1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ndara"/>
              </a:rPr>
              <a:t>22 июля 2005 года на соревнованиях в Лондоне впервые в истории женских прыжков с шестом взяла высоту пять метров. 18 августа 2008 года на пекинской Олимпиаде Елена Исинбаева установила мировой рекорд — 5,05 м.</a:t>
            </a:r>
            <a:endParaRPr b="0" lang="ru-RU" sz="1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ndara"/>
              </a:rPr>
              <a:t>18 августа 2016 года была избрана в комиссию спортсменов Международного олимпийского комитета (МОК), войдя в четвёрку, отобранную из 24 кандидатов, получив 1365 голосов из 11 тысяч голосовавших атлетов, со сроком полномочий 8 лет. До неё спортсменом из России в комиссии был  Александр Попов.</a:t>
            </a:r>
            <a:endParaRPr b="0" lang="ru-RU" sz="1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endParaRPr b="0" lang="ru-RU" sz="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899640" y="1268640"/>
            <a:ext cx="3352320" cy="125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Елена Исинбаева</a:t>
            </a:r>
            <a:endParaRPr b="0" lang="ru-RU" sz="32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36" name="Объект 4" descr=""/>
          <p:cNvPicPr/>
          <p:nvPr/>
        </p:nvPicPr>
        <p:blipFill>
          <a:blip r:embed="rId1"/>
          <a:stretch/>
        </p:blipFill>
        <p:spPr>
          <a:xfrm>
            <a:off x="5335200" y="1828800"/>
            <a:ext cx="2537280" cy="38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971640" y="2997000"/>
            <a:ext cx="335232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1000"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ndara"/>
              </a:rPr>
              <a:t>Российский конькобежец, трёхкратный чемпион мира в спринтерском многоборье, пятикратный чемпион мира на отдельных дистанциях. Обладатель Кубка мира 2015 года по конькобежному спорту в общем зачёте и 2 малых глобусов на дистанциях 500 и 1000 м. Стал первым в истории россиянином, выигравшим большой Хрустальный глобус в коньках. С 14 ноября 2015 является мировым рекордсменом</a:t>
            </a:r>
            <a:r>
              <a:rPr b="0" lang="ru-RU" sz="4400" spc="-1" strike="noStrike" u="sng">
                <a:solidFill>
                  <a:srgbClr val="0080ff"/>
                </a:solidFill>
                <a:uFillTx/>
                <a:latin typeface="Candara"/>
                <a:hlinkClick r:id="rId1"/>
              </a:rPr>
              <a:t>м</a:t>
            </a:r>
            <a:r>
              <a:rPr b="0" lang="ru-RU" sz="4400" spc="-1" strike="noStrike">
                <a:solidFill>
                  <a:srgbClr val="000000"/>
                </a:solidFill>
                <a:latin typeface="Candara"/>
              </a:rPr>
              <a:t> в беге на 500 м (сначала результат был 34,00 с., затем 20 ноября обновил собственный рекорд — 33,98 с.)</a:t>
            </a:r>
            <a:r>
              <a:rPr b="0" lang="ru-RU" sz="4400" spc="-1" strike="noStrike" u="sng" baseline="30000">
                <a:solidFill>
                  <a:srgbClr val="0080ff"/>
                </a:solidFill>
                <a:uFillTx/>
                <a:latin typeface="Candara"/>
                <a:hlinkClick r:id="rId2"/>
              </a:rPr>
              <a:t>[1]</a:t>
            </a:r>
            <a:r>
              <a:rPr b="0" lang="ru-RU" sz="4400" spc="-1" strike="noStrike">
                <a:solidFill>
                  <a:srgbClr val="000000"/>
                </a:solidFill>
                <a:latin typeface="Candara"/>
              </a:rPr>
              <a:t>. В финале Кубка Мира 9 марта 2019 сначала Тацуя Синама пробежал 33,835 с., однако позже Кулижников установил новый мировой рекорд 33,616 с. 16 февраля 2020 года Павел установил мировой рекорд на дистанции 1000 м (1:05,69) и стал первым человеком, выбежавшим из 1 минуты 6 секунд.</a:t>
            </a:r>
            <a:endParaRPr b="0" lang="ru-RU" sz="4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971640" y="1700640"/>
            <a:ext cx="3352320" cy="125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Павел Кулижников</a:t>
            </a:r>
            <a:endParaRPr b="0" lang="ru-RU" sz="32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39" name="Объект 4" descr=""/>
          <p:cNvPicPr/>
          <p:nvPr/>
        </p:nvPicPr>
        <p:blipFill>
          <a:blip r:embed="rId3"/>
          <a:stretch/>
        </p:blipFill>
        <p:spPr>
          <a:xfrm>
            <a:off x="5175360" y="1828800"/>
            <a:ext cx="2857320" cy="38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971640" y="3069000"/>
            <a:ext cx="335232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Советский и российский пловец, 4-кратный олимпийский чемпион, 6-кратный чемпион мира, 21-кратный чемпион Европы, многократный рекордсмен мира и Европы, заслуженный мастер спорта СССР (1992), кавалер и почётный член Международного олимпийского комитета.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Один из доминирующих пловцов на мировом уровне в 1990-х годах . 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971640" y="1628640"/>
            <a:ext cx="3352320" cy="125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Александр Попов</a:t>
            </a:r>
            <a:endParaRPr b="0" lang="ru-RU" sz="32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42" name="Объект 4" descr=""/>
          <p:cNvPicPr/>
          <p:nvPr/>
        </p:nvPicPr>
        <p:blipFill>
          <a:blip r:embed="rId1"/>
          <a:stretch/>
        </p:blipFill>
        <p:spPr>
          <a:xfrm>
            <a:off x="4651200" y="2435400"/>
            <a:ext cx="3904920" cy="259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Волна">
  <a:themeElements>
    <a:clrScheme name="Волна">
      <a:dk1>
        <a:srgbClr val="000000"/>
      </a:dk1>
      <a:lt1>
        <a:srgbClr val="ffffff"/>
      </a:lt1>
      <a:dk2>
        <a:srgbClr val="073e87"/>
      </a:dk2>
      <a:lt2>
        <a:srgbClr val="c6e7fc"/>
      </a:lt2>
      <a:accent1>
        <a:srgbClr val="31b6fd"/>
      </a:accent1>
      <a:accent2>
        <a:srgbClr val="4584d3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Волна">
  <a:themeElements>
    <a:clrScheme name="Волна">
      <a:dk1>
        <a:srgbClr val="000000"/>
      </a:dk1>
      <a:lt1>
        <a:srgbClr val="ffffff"/>
      </a:lt1>
      <a:dk2>
        <a:srgbClr val="073e87"/>
      </a:dk2>
      <a:lt2>
        <a:srgbClr val="c6e7fc"/>
      </a:lt2>
      <a:accent1>
        <a:srgbClr val="31b6fd"/>
      </a:accent1>
      <a:accent2>
        <a:srgbClr val="4584d3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73e87"/>
      </a:dk2>
      <a:lt2>
        <a:srgbClr val="c6e7fc"/>
      </a:lt2>
      <a:accent1>
        <a:srgbClr val="31b6fd"/>
      </a:accent1>
      <a:accent2>
        <a:srgbClr val="4584d3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Waveform</Template>
  <TotalTime>126</TotalTime>
  <Application>LibreOffice/7.4.7.2$Linux_X86_64 LibreOffice_project/40$Build-2</Application>
  <AppVersion>15.0000</AppVersion>
  <Words>313</Words>
  <Paragraphs>3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1T07:30:48Z</dcterms:created>
  <dc:creator>техно</dc:creator>
  <dc:description/>
  <dc:language>en-US</dc:language>
  <cp:lastModifiedBy>I 3-2120</cp:lastModifiedBy>
  <dcterms:modified xsi:type="dcterms:W3CDTF">2020-06-12T06:48:41Z</dcterms:modified>
  <cp:revision>11</cp:revision>
  <dc:subject/>
  <dc:title>Российские  рекордсмены мир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10</vt:r8>
  </property>
</Properties>
</file>