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5040-2724-46DD-8687-723AFF1D2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34287-D918-4A57-9D1D-4789AB9DD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C44FB-E2E8-4D7E-9823-FA8AEC9AE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4B404-8DCE-476E-B6C0-1B5CA6AF0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CAE57-FDBB-44A5-B176-C514B7263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4D813-7169-4E68-99FD-6AB17E90E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C6EA1-75B1-4535-9B67-836715A3C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F5ED-F4D0-4764-808A-4986F9556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67744-CB77-441F-BA9B-CC1CA2583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13B4D-5981-4338-A490-7C709C3B9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CCF3F-D91F-4991-9DA3-1C6BECBF9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573DA-6CCD-4A2C-8410-A4BCB8CB7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525E2-0D53-442A-B1D7-1064788D2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AFF80-EA02-4B07-9610-09E4B6F3A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CCCF6-815D-4382-9E40-5557B0825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0A639-EEE5-418C-BE51-2BE5DCA1F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705AF-4422-40E0-A133-CEC5FC74B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05D8-B53B-406A-9354-37AACD74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F880-2B2E-43C5-B92C-B9FEFAB2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5A5A-E22A-48DB-AD3E-46A43636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FC86-24E9-4300-91C9-84168B52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9DAC-1471-4447-AFF1-68E1C4C5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40A0-64A3-49B0-BB5E-70E594CE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5E70-A9A0-4D24-BDAD-A452AE6F2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06C4A75D-E829-47D4-8B22-CAEDDB57EBF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Calibri"/>
              </a:defRPr>
            </a:lvl1pPr>
          </a:lstStyle>
          <a:p>
            <a:pPr indent="0">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Calibri"/>
              </a:defRPr>
            </a:lvl1pPr>
          </a:lstStyle>
          <a:p>
            <a:pPr indent="0" algn="r">
              <a:lnSpc>
                <a:spcPct val="100000"/>
              </a:lnSpc>
              <a:buNone/>
            </a:pPr>
            <a:fld id="{E8E58438-07D6-4704-A4DD-A113CC50767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7772040" cy="533160"/>
          </a:xfrm>
          <a:prstGeom prst="rect">
            <a:avLst/>
          </a:prstGeom>
          <a:noFill/>
          <a:ln w="0">
            <a:noFill/>
          </a:ln>
        </p:spPr>
        <p:txBody>
          <a:bodyPr anchor="ctr">
            <a:normAutofit fontScale="64000"/>
          </a:bodyPr>
          <a:p>
            <a:pPr indent="0" algn="ctr">
              <a:lnSpc>
                <a:spcPct val="100000"/>
              </a:lnSpc>
              <a:buNone/>
            </a:pPr>
            <a:r>
              <a:rPr b="0" lang="ru-RU" sz="4400" spc="-1" strike="noStrike">
                <a:solidFill>
                  <a:srgbClr val="ffffff"/>
                </a:solidFill>
                <a:latin typeface="Times New Roman"/>
              </a:rPr>
              <a:t>Действие электрического тока на человека</a:t>
            </a:r>
            <a:endParaRPr b="0" lang="en-US" sz="4400" spc="-1" strike="noStrike">
              <a:solidFill>
                <a:srgbClr val="ffffff"/>
              </a:solidFill>
              <a:latin typeface="Calibri"/>
            </a:endParaRPr>
          </a:p>
        </p:txBody>
      </p:sp>
      <p:sp>
        <p:nvSpPr>
          <p:cNvPr id="83" name="PlaceHolder 2"/>
          <p:cNvSpPr>
            <a:spLocks noGrp="1"/>
          </p:cNvSpPr>
          <p:nvPr>
            <p:ph type="subTitle"/>
          </p:nvPr>
        </p:nvSpPr>
        <p:spPr>
          <a:xfrm>
            <a:off x="152280" y="1447920"/>
            <a:ext cx="8838720" cy="5257440"/>
          </a:xfrm>
          <a:prstGeom prst="rect">
            <a:avLst/>
          </a:prstGeom>
          <a:noFill/>
          <a:ln w="0">
            <a:noFill/>
          </a:ln>
        </p:spPr>
        <p:txBody>
          <a:bodyPr anchor="t">
            <a:normAutofit fontScale="21000"/>
          </a:bodyPr>
          <a:p>
            <a:pPr indent="0">
              <a:lnSpc>
                <a:spcPct val="100000"/>
              </a:lnSpc>
              <a:spcBef>
                <a:spcPts val="1599"/>
              </a:spcBef>
              <a:buNone/>
              <a:tabLst>
                <a:tab algn="l" pos="0"/>
              </a:tabLst>
            </a:pPr>
            <a:r>
              <a:rPr b="0" lang="ru-RU" sz="8000" spc="-1" strike="noStrike">
                <a:solidFill>
                  <a:srgbClr val="ffffff"/>
                </a:solidFill>
                <a:latin typeface="Times New Roman"/>
              </a:rPr>
              <a:t>Опасность действия электрического тока на организм человека в отличие от других опасных и вредных производственных факторов усугубляется тем, что человек не обнаруживает на расстоянии с помощью органов чувств грозящую опасность. Реакция человека на электрический ток возникает лишь при прохождении его через организм.</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Электрический ток, проходя через тело человека, оказывает:</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термическое (различные ожоги тканей, нагрев сосудов);</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литическое;</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биологическое воздействие на различные системы организма (раздражение и возбуждение живых тканей</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органов).</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При этом могут возникнуть нарушения деятельности жизненно важных органов человека: мозга, сердца, легких.</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Действие электрического тока на организм человека можно объединить в две основные группы:</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травмы;</a:t>
            </a:r>
            <a:endParaRPr b="0" lang="en-US" sz="8000" spc="-1" strike="noStrike">
              <a:solidFill>
                <a:srgbClr val="000000"/>
              </a:solidFill>
              <a:latin typeface="Arial"/>
            </a:endParaRPr>
          </a:p>
          <a:p>
            <a:pPr indent="0">
              <a:lnSpc>
                <a:spcPct val="100000"/>
              </a:lnSpc>
              <a:spcBef>
                <a:spcPts val="1599"/>
              </a:spcBef>
              <a:buNone/>
              <a:tabLst>
                <a:tab algn="l" pos="0"/>
              </a:tabLst>
            </a:pPr>
            <a:r>
              <a:rPr b="0" lang="ru-RU" sz="8000" spc="-1" strike="noStrike">
                <a:solidFill>
                  <a:srgbClr val="ffffff"/>
                </a:solidFill>
                <a:latin typeface="Times New Roman"/>
              </a:rPr>
              <a:t>— </a:t>
            </a:r>
            <a:r>
              <a:rPr b="0" lang="ru-RU" sz="8000" spc="-1" strike="noStrike">
                <a:solidFill>
                  <a:srgbClr val="ffffff"/>
                </a:solidFill>
                <a:latin typeface="Times New Roman"/>
              </a:rPr>
              <a:t>электроудары.</a:t>
            </a:r>
            <a:endParaRPr b="0" lang="en-US" sz="8000" spc="-1" strike="noStrike">
              <a:solidFill>
                <a:srgbClr val="000000"/>
              </a:solidFill>
              <a:latin typeface="Arial"/>
            </a:endParaRPr>
          </a:p>
          <a:p>
            <a:pPr indent="0">
              <a:lnSpc>
                <a:spcPct val="100000"/>
              </a:lnSpc>
              <a:spcBef>
                <a:spcPts val="1599"/>
              </a:spcBef>
              <a:buNone/>
              <a:tabLst>
                <a:tab algn="l" pos="0"/>
              </a:tabLst>
            </a:pPr>
            <a:r>
              <a:rPr b="0" i="1" lang="ru-RU" sz="8000" spc="-1" strike="noStrike">
                <a:solidFill>
                  <a:srgbClr val="ffff00"/>
                </a:solidFill>
                <a:latin typeface="Times New Roman"/>
              </a:rPr>
              <a:t>Упр.1. В чем коварность электрического тока? Какое воздействие оказывает электрический ток на тело человека?</a:t>
            </a:r>
            <a:r>
              <a:rPr b="0" lang="ru-RU" sz="8000" spc="-1" strike="noStrike">
                <a:solidFill>
                  <a:srgbClr val="ffff00"/>
                </a:solidFill>
                <a:latin typeface="Times New Roman"/>
              </a:rPr>
              <a:t> </a:t>
            </a:r>
            <a:endParaRPr b="0" lang="en-US" sz="8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52280" y="152280"/>
            <a:ext cx="8838720" cy="6552720"/>
          </a:xfrm>
          <a:prstGeom prst="rect">
            <a:avLst/>
          </a:prstGeom>
          <a:noFill/>
          <a:ln w="0">
            <a:noFill/>
          </a:ln>
        </p:spPr>
        <p:txBody>
          <a:bodyPr anchor="t">
            <a:normAutofit fontScale="59000"/>
          </a:bodyPr>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Электротравмы - это местные поражения тела (ожоги, металлизация кожи, механическое повреждение организ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Ожог — непосредственным воздействием тока через тело или от электрической дуги. Металлизация кожи возникает вследствие проникновения в верхние слои кожи мельчайших частиц металла, испарившегося или расплавившегося под воздействием электрического ток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Механические повреждения являются следствием непроизвольных сокращений мышц организма под действие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тока (возможны разрывы кожи, кровеносных сосудов, вывихи, переломы).</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Разновидностью электрических травм является электроофтальмия - поражение глаз, вызванное интенсивны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излучением от электрической дуги (ультрафиолетовые или инфракрасные лучи).</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Электрический удар вызывает возбуждение живых тканей организма проходящим через него электрически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током, сопровождающееся непроизвольными судорожными сокращениями мышц, в том числе мышц сердца и легких. В результате могут возникнуть различные нарушения жизнедеятельности организма, и даже полное прекращение работы органов дыхания и кровообращения. </a:t>
            </a:r>
            <a:endParaRPr b="0" lang="en-US" sz="3200" spc="-1" strike="noStrike">
              <a:solidFill>
                <a:srgbClr val="ffffff"/>
              </a:solidFill>
              <a:latin typeface="Calibri"/>
            </a:endParaRPr>
          </a:p>
          <a:p>
            <a:pPr marL="323640" indent="-323640">
              <a:lnSpc>
                <a:spcPct val="100000"/>
              </a:lnSpc>
              <a:spcBef>
                <a:spcPts val="641"/>
              </a:spcBef>
              <a:buClr>
                <a:srgbClr val="ffff00"/>
              </a:buClr>
              <a:buFont typeface="Arial"/>
              <a:buChar char="•"/>
            </a:pPr>
            <a:r>
              <a:rPr b="0" i="1" lang="ru-RU" sz="3200" spc="-1" strike="noStrike">
                <a:solidFill>
                  <a:srgbClr val="ffff00"/>
                </a:solidFill>
                <a:latin typeface="Times New Roman"/>
              </a:rPr>
              <a:t>Упр.2. Чем выражаются электротравмы?  Вследствие чего появляется ожог при электротравме?  Вследствие чего появляется металлизация кожи при электротравме?  Какие последствия влечет за собой электроудар?  </a:t>
            </a:r>
            <a:endParaRPr b="0" lang="en-US" sz="3200" spc="-1" strike="noStrike">
              <a:solidFill>
                <a:srgbClr val="ffffff"/>
              </a:solidFill>
              <a:latin typeface="Calibri"/>
            </a:endParaRPr>
          </a:p>
          <a:p>
            <a:pPr indent="0">
              <a:lnSpc>
                <a:spcPct val="100000"/>
              </a:lnSpc>
              <a:spcBef>
                <a:spcPts val="641"/>
              </a:spcBef>
              <a:buNone/>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152280"/>
            <a:ext cx="9143640" cy="6552720"/>
          </a:xfrm>
          <a:prstGeom prst="rect">
            <a:avLst/>
          </a:prstGeom>
          <a:noFill/>
          <a:ln w="0">
            <a:noFill/>
          </a:ln>
        </p:spPr>
        <p:txBody>
          <a:bodyPr anchor="t">
            <a:normAutofit fontScale="60000"/>
          </a:bodyPr>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Характер и последствия поражения человека электрическим током зависят от ряда факторов:</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1. Электрического сопротивления тела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2. Величины и длительности воздействия протекающего</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через него то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3. Рода и частоты то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4. Пути прохождения тока в теле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5. Индивидуальных свойств организма человек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Электрическое сопротивление тела человека неоднородно. Кости, жировая ткань имеют большое сопротивление.</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Кровь, спинной и головной мозг, мышечная ткань обладают наибольшим удельным сопротивлением. При</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увлажнении и загрязнении, а также повреждении кожи сопротивление тела резко снижается. Сила электрического тока, проходящего через тело человека, является основным фактором, определяющим исход поражения. Чем больше сила, тем опаснее его действие. По последствиям физиологического воздействия на организм человека электрический ток можно подразделить на:</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ощутимый (0,6-1,5 мА (50Гц));</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неотпускающий (10-15 мА (50Гц);</a:t>
            </a:r>
            <a:endParaRPr b="0" lang="en-US" sz="3200" spc="-1" strike="noStrike">
              <a:solidFill>
                <a:srgbClr val="ffffff"/>
              </a:solidFill>
              <a:latin typeface="Calibri"/>
            </a:endParaRPr>
          </a:p>
          <a:p>
            <a:pPr marL="293760" indent="-293760">
              <a:lnSpc>
                <a:spcPct val="100000"/>
              </a:lnSpc>
              <a:spcBef>
                <a:spcPts val="641"/>
              </a:spcBef>
              <a:buClr>
                <a:srgbClr val="ffffff"/>
              </a:buClr>
              <a:buFont typeface="Arial"/>
              <a:buChar char="•"/>
            </a:pPr>
            <a:r>
              <a:rPr b="0" lang="ru-RU" sz="3200" spc="-1" strike="noStrike">
                <a:solidFill>
                  <a:srgbClr val="ffffff"/>
                </a:solidFill>
                <a:latin typeface="Times New Roman"/>
              </a:rPr>
              <a:t>- пороговый фибрилляционный (100 мА).</a:t>
            </a:r>
            <a:endParaRPr b="0" lang="en-US" sz="3200" spc="-1" strike="noStrike">
              <a:solidFill>
                <a:srgbClr val="ffffff"/>
              </a:solidFill>
              <a:latin typeface="Calibri"/>
            </a:endParaRPr>
          </a:p>
          <a:p>
            <a:pPr indent="0">
              <a:lnSpc>
                <a:spcPct val="100000"/>
              </a:lnSpc>
              <a:spcBef>
                <a:spcPts val="641"/>
              </a:spcBef>
              <a:buNone/>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52280" y="152280"/>
            <a:ext cx="8838720" cy="6552720"/>
          </a:xfrm>
          <a:prstGeom prst="rect">
            <a:avLst/>
          </a:prstGeom>
          <a:noFill/>
          <a:ln w="0">
            <a:noFill/>
          </a:ln>
        </p:spPr>
        <p:txBody>
          <a:bodyPr anchor="t">
            <a:normAutofit fontScale="59000"/>
          </a:bodyPr>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Пороговый ощутимый, имеющий малые значения (0,6-1,5 мА), вызывает первые ощутимые воздействия, но не травмирует. Пороговый неотпускающий (10-15 мА), при его действии практически исключается возможность самостоятельного отрыва человека от токоведущих установок. Смертельно опасным считается ток более 100 мА, который вызывает паралич органов дыхания и фибрилляцию сердца и называется пороговым фибрилляционным.</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Род и частота тока также влияют на тяжесть поражения. Наиболее опасен переменный ток частотой 50 Гц.</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При постоянном токе пороговые значения повышаются:</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 для ощутимого порога 6-7 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 неотпускающего тока до 50-70 мА.</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Его воздействие в основном тепловое, однако ожоги могут быть очень тяжелыми и даже смертельными. Меньшая</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lang="ru-RU" sz="3200" spc="-1" strike="noStrike">
                <a:solidFill>
                  <a:srgbClr val="ffffff"/>
                </a:solidFill>
                <a:latin typeface="Times New Roman"/>
              </a:rPr>
              <a:t>опасность постоянного тока ограничивается величиной напряжения 250-300 В. Ток по телу человека проходит по тем органам, которые обладают наибольшей электропроводностью. Наибольшую опасность представляет прохождение тока через жизненно важные органы: сердце, головной мозг, спинной мозг.</a:t>
            </a:r>
            <a:endParaRPr b="0" lang="en-US" sz="3200" spc="-1" strike="noStrike">
              <a:solidFill>
                <a:srgbClr val="ffffff"/>
              </a:solidFill>
              <a:latin typeface="Calibri"/>
            </a:endParaRPr>
          </a:p>
          <a:p>
            <a:pPr marL="323640" indent="-323640">
              <a:lnSpc>
                <a:spcPct val="100000"/>
              </a:lnSpc>
              <a:spcBef>
                <a:spcPts val="641"/>
              </a:spcBef>
              <a:buClr>
                <a:srgbClr val="ffffff"/>
              </a:buClr>
              <a:buFont typeface="Arial"/>
              <a:buChar char="•"/>
            </a:pPr>
            <a:r>
              <a:rPr b="0" i="1" lang="ru-RU" sz="3200" spc="-1" strike="noStrike">
                <a:solidFill>
                  <a:srgbClr val="ffffff"/>
                </a:solidFill>
                <a:latin typeface="Times New Roman"/>
              </a:rPr>
              <a:t> </a:t>
            </a:r>
            <a:r>
              <a:rPr b="0" i="1" lang="ru-RU" sz="3200" spc="-1" strike="noStrike">
                <a:solidFill>
                  <a:srgbClr val="ffff00"/>
                </a:solidFill>
                <a:latin typeface="Times New Roman"/>
              </a:rPr>
              <a:t>Упр.3. От чего зависят характер и последствия поражения человека электрическим током? Каково сопротивление тела человека?  Как сила тока ощущается организмом человека ? Как род и частота тока влияют  на тяжесть поражения током?</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Words>660</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1-16T13:22:32Z</dcterms:created>
  <dc:creator>Валерий</dc:creator>
  <dc:description/>
  <dc:language>en-US</dc:language>
  <cp:lastModifiedBy>Пользователь</cp:lastModifiedBy>
  <dcterms:modified xsi:type="dcterms:W3CDTF">2022-01-16T13:29:41Z</dcterms:modified>
  <cp:revision>7</cp:revision>
  <dc:subject/>
  <dc:title>Действие электрического тока на челове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4</vt:r8>
  </property>
</Properties>
</file>