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570-83C7-4130-B17C-95C9B7C7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FD0-E8D8-4C07-9628-C0C7428E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D64-B6B8-47D4-A29A-49859D5A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18F-19C0-43E5-8052-0E1F8D94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E53B-3E30-4BD5-B17E-7B2F9B45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5B2E-42EC-4F0C-B1F2-FE2570CE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1BB0-EB73-463A-9E9D-985F92D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BB6F-7E75-4943-AFED-8CA3558F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C739-B5FF-45F4-A162-C4DF29A7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4154-0358-4254-8BB3-8494F71F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0C96-759B-4F61-A279-EE5B8D72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357-D165-4DA8-9BF0-B73FFA5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B8FF-ECF0-4275-8928-D50CB102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E64B-D06F-4CA0-98EF-1F08165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3807-BA54-4866-B3F9-100162E7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A86-489C-4019-BA53-AF746CF3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2688-8167-41FF-8BAB-333E3AA2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5F38-AFC5-45DB-B2FF-BC6FB7D8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2D14-0244-4BAE-86FD-B48D0350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3DC4F-9265-455D-9C95-63483E01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5B7C-A32C-4B5B-BF8D-C54B6D4E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F37C-B017-4CC6-831E-01035D84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F66-DB56-40E3-9189-D005BB4B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ED55-6185-428C-99A7-CEE7E6C9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CF16-F12E-43F5-B87F-66DF11A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9515-4B40-4D6E-B46C-15FC971F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0467-5C2B-46F0-86A7-00DC7E1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9D0D-712B-4C92-BEDE-69114C95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E2DA-73E4-4F9E-8700-10A4D866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8C03-BAD7-42F2-9B6E-028C266E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76B-F4DE-4ED6-A59C-90214279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413-9342-4C49-92DE-0EB8975D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9AE-0E0F-436A-AA9B-312D7696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4ED-939C-42C3-9204-4ED299FE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8DF-C802-4C75-A9A5-5855832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1AE-327E-43B9-A110-03803842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819349-E3FB-4895-BA07-FC1DDE9E73C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91FB17-1556-4C88-9D2C-61C7BAE60CE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850D8C-E35C-4A5E-9930-CF6B30637C5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971640" y="4941000"/>
            <a:ext cx="75603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 cap="all">
              <a:solidFill>
                <a:schemeClr val="accent4"/>
              </a:solidFill>
              <a:latin typeface="Times New Roman"/>
            </a:endParaRPr>
          </a:p>
        </p:txBody>
      </p:sp>
      <p:pic>
        <p:nvPicPr>
          <p:cNvPr id="126" name="Рисунок 12" descr=""/>
          <p:cNvPicPr/>
          <p:nvPr/>
        </p:nvPicPr>
        <p:blipFill>
          <a:blip r:embed="rId1"/>
          <a:stretch/>
        </p:blipFill>
        <p:spPr>
          <a:xfrm>
            <a:off x="2133720" y="1895400"/>
            <a:ext cx="48765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6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!!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179640" y="1412640"/>
            <a:ext cx="3783240" cy="25477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4150800" y="1845000"/>
            <a:ext cx="4798080" cy="4032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"/>
          <p:cNvPicPr/>
          <p:nvPr/>
        </p:nvPicPr>
        <p:blipFill>
          <a:blip r:embed="rId3"/>
          <a:stretch/>
        </p:blipFill>
        <p:spPr>
          <a:xfrm>
            <a:off x="989280" y="4077000"/>
            <a:ext cx="2160000" cy="26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152280" y="260640"/>
            <a:ext cx="441936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"/>
          <p:cNvPicPr/>
          <p:nvPr/>
        </p:nvPicPr>
        <p:blipFill>
          <a:blip r:embed="rId2"/>
          <a:stretch/>
        </p:blipFill>
        <p:spPr>
          <a:xfrm>
            <a:off x="4644000" y="72720"/>
            <a:ext cx="4408920" cy="649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"/>
          <p:cNvPicPr/>
          <p:nvPr/>
        </p:nvPicPr>
        <p:blipFill>
          <a:blip r:embed="rId3"/>
          <a:stretch/>
        </p:blipFill>
        <p:spPr>
          <a:xfrm>
            <a:off x="107640" y="3141000"/>
            <a:ext cx="4431240" cy="30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КОШ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3" descr=""/>
          <p:cNvPicPr/>
          <p:nvPr/>
        </p:nvPicPr>
        <p:blipFill>
          <a:blip r:embed="rId1"/>
          <a:stretch/>
        </p:blipFill>
        <p:spPr>
          <a:xfrm>
            <a:off x="539640" y="1412640"/>
            <a:ext cx="4038480" cy="51123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"/>
          <p:cNvPicPr/>
          <p:nvPr/>
        </p:nvPicPr>
        <p:blipFill>
          <a:blip r:embed="rId2"/>
          <a:stretch/>
        </p:blipFill>
        <p:spPr>
          <a:xfrm>
            <a:off x="4932000" y="1340640"/>
            <a:ext cx="3647880" cy="535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КОШ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107640" y="1700640"/>
            <a:ext cx="5544360" cy="3168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"/>
          <p:cNvPicPr/>
          <p:nvPr/>
        </p:nvPicPr>
        <p:blipFill>
          <a:blip r:embed="rId2"/>
          <a:stretch/>
        </p:blipFill>
        <p:spPr>
          <a:xfrm>
            <a:off x="5796000" y="1268640"/>
            <a:ext cx="3218760" cy="41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443520" y="332640"/>
            <a:ext cx="7938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Объект 4" descr=""/>
          <p:cNvPicPr/>
          <p:nvPr/>
        </p:nvPicPr>
        <p:blipFill>
          <a:blip r:embed="rId1"/>
          <a:stretch/>
        </p:blipFill>
        <p:spPr>
          <a:xfrm>
            <a:off x="107640" y="332640"/>
            <a:ext cx="4141440" cy="3097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2"/>
          <a:stretch/>
        </p:blipFill>
        <p:spPr>
          <a:xfrm>
            <a:off x="4428000" y="332640"/>
            <a:ext cx="4663440" cy="3097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"/>
          <p:cNvPicPr/>
          <p:nvPr/>
        </p:nvPicPr>
        <p:blipFill>
          <a:blip r:embed="rId3"/>
          <a:stretch/>
        </p:blipFill>
        <p:spPr>
          <a:xfrm>
            <a:off x="107640" y="3789000"/>
            <a:ext cx="4375440" cy="27525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7" descr=""/>
          <p:cNvPicPr/>
          <p:nvPr/>
        </p:nvPicPr>
        <p:blipFill>
          <a:blip r:embed="rId4"/>
          <a:stretch/>
        </p:blipFill>
        <p:spPr>
          <a:xfrm>
            <a:off x="4852080" y="3809160"/>
            <a:ext cx="3814920" cy="28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Объект 3" descr=""/>
          <p:cNvPicPr/>
          <p:nvPr/>
        </p:nvPicPr>
        <p:blipFill>
          <a:blip r:embed="rId1"/>
          <a:stretch/>
        </p:blipFill>
        <p:spPr>
          <a:xfrm>
            <a:off x="323640" y="188640"/>
            <a:ext cx="853056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3" descr=""/>
          <p:cNvPicPr/>
          <p:nvPr/>
        </p:nvPicPr>
        <p:blipFill>
          <a:blip r:embed="rId1"/>
          <a:stretch/>
        </p:blipFill>
        <p:spPr>
          <a:xfrm>
            <a:off x="179640" y="188640"/>
            <a:ext cx="86889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107640" y="80640"/>
            <a:ext cx="8880480" cy="66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Объект 3" descr=""/>
          <p:cNvPicPr/>
          <p:nvPr/>
        </p:nvPicPr>
        <p:blipFill>
          <a:blip r:embed="rId1"/>
          <a:srcRect l="2425" t="13514" r="0" b="12616"/>
          <a:stretch/>
        </p:blipFill>
        <p:spPr>
          <a:xfrm>
            <a:off x="5652000" y="116640"/>
            <a:ext cx="3260520" cy="3323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rcRect l="3298" t="6211" r="9685" b="3597"/>
          <a:stretch/>
        </p:blipFill>
        <p:spPr>
          <a:xfrm>
            <a:off x="107640" y="1268640"/>
            <a:ext cx="5332680" cy="4145400"/>
          </a:xfrm>
          <a:prstGeom prst="rect">
            <a:avLst/>
          </a:prstGeom>
          <a:ln w="0">
            <a:noFill/>
          </a:ln>
        </p:spPr>
      </p:pic>
      <p:pic>
        <p:nvPicPr>
          <p:cNvPr id="173" name="Объект 4" descr=""/>
          <p:cNvPicPr/>
          <p:nvPr/>
        </p:nvPicPr>
        <p:blipFill>
          <a:blip r:embed="rId3"/>
          <a:srcRect l="59193" t="57610" r="-127" b="0"/>
          <a:stretch/>
        </p:blipFill>
        <p:spPr>
          <a:xfrm>
            <a:off x="5631120" y="3857760"/>
            <a:ext cx="3331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ОБА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"/>
          <p:cNvPicPr/>
          <p:nvPr/>
        </p:nvPicPr>
        <p:blipFill>
          <a:blip r:embed="rId1"/>
          <a:stretch/>
        </p:blipFill>
        <p:spPr>
          <a:xfrm>
            <a:off x="276120" y="908640"/>
            <a:ext cx="3999240" cy="29120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2"/>
          <a:stretch/>
        </p:blipFill>
        <p:spPr>
          <a:xfrm>
            <a:off x="4512600" y="881640"/>
            <a:ext cx="4405320" cy="29390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"/>
          <p:cNvPicPr/>
          <p:nvPr/>
        </p:nvPicPr>
        <p:blipFill>
          <a:blip r:embed="rId3"/>
          <a:stretch/>
        </p:blipFill>
        <p:spPr>
          <a:xfrm>
            <a:off x="4512600" y="3855960"/>
            <a:ext cx="4466520" cy="30088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"/>
          <p:cNvPicPr/>
          <p:nvPr/>
        </p:nvPicPr>
        <p:blipFill>
          <a:blip r:embed="rId4"/>
          <a:srcRect l="0" t="24713" r="3763" b="0"/>
          <a:stretch/>
        </p:blipFill>
        <p:spPr>
          <a:xfrm>
            <a:off x="424080" y="3942720"/>
            <a:ext cx="37036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254520" y="38160"/>
            <a:ext cx="856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"/>
          <p:cNvPicPr/>
          <p:nvPr/>
        </p:nvPicPr>
        <p:blipFill>
          <a:blip r:embed="rId1"/>
          <a:stretch/>
        </p:blipFill>
        <p:spPr>
          <a:xfrm>
            <a:off x="899640" y="1556640"/>
            <a:ext cx="7524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539640" y="188640"/>
            <a:ext cx="552600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ех, кого мы забыли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ех, кого мы ласкали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Даже если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 обещали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и любви. Ни даже простого участья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о ожидание счастья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Даже если при этом совс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 любили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2" descr=""/>
          <p:cNvPicPr/>
          <p:nvPr/>
        </p:nvPicPr>
        <p:blipFill>
          <a:blip r:embed="rId1"/>
          <a:stretch/>
        </p:blipFill>
        <p:spPr>
          <a:xfrm>
            <a:off x="5580000" y="188640"/>
            <a:ext cx="3391560" cy="1800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" descr=""/>
          <p:cNvPicPr/>
          <p:nvPr/>
        </p:nvPicPr>
        <p:blipFill>
          <a:blip r:embed="rId2"/>
          <a:srcRect l="1866" t="0" r="0" b="18316"/>
          <a:stretch/>
        </p:blipFill>
        <p:spPr>
          <a:xfrm>
            <a:off x="5477400" y="2277000"/>
            <a:ext cx="3597480" cy="42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7640" y="35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ОБА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4" descr=""/>
          <p:cNvPicPr/>
          <p:nvPr/>
        </p:nvPicPr>
        <p:blipFill>
          <a:blip r:embed="rId1"/>
          <a:stretch/>
        </p:blipFill>
        <p:spPr>
          <a:xfrm>
            <a:off x="138960" y="1135440"/>
            <a:ext cx="4267440" cy="27766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"/>
          <p:cNvPicPr/>
          <p:nvPr/>
        </p:nvPicPr>
        <p:blipFill>
          <a:blip r:embed="rId2"/>
          <a:stretch/>
        </p:blipFill>
        <p:spPr>
          <a:xfrm>
            <a:off x="251640" y="4209480"/>
            <a:ext cx="4042800" cy="2313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"/>
          <p:cNvPicPr/>
          <p:nvPr/>
        </p:nvPicPr>
        <p:blipFill>
          <a:blip r:embed="rId3"/>
          <a:srcRect l="30226" t="0" r="21139" b="3336"/>
          <a:stretch/>
        </p:blipFill>
        <p:spPr>
          <a:xfrm>
            <a:off x="4500000" y="1073160"/>
            <a:ext cx="43232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762120" y="507960"/>
            <a:ext cx="761976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ОБА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Объект 3" descr=""/>
          <p:cNvPicPr/>
          <p:nvPr/>
        </p:nvPicPr>
        <p:blipFill>
          <a:blip r:embed="rId1"/>
          <a:stretch/>
        </p:blipFill>
        <p:spPr>
          <a:xfrm>
            <a:off x="539640" y="1181160"/>
            <a:ext cx="7776360" cy="55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140000" y="260640"/>
            <a:ext cx="453600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аки на улице тоже ведь вол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их только смог человек прируч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если вернуться к природы исток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и без нас могли счастливо ж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чем же вмешался в течение жиз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жестокой и злобной душой человек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чем он бросает без всякой прич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о, кто был предан ему много лет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C:\Users\DOM\Desktop\343edfc8a20ct.jpg"/>
          <p:cNvPicPr/>
          <p:nvPr/>
        </p:nvPicPr>
        <p:blipFill>
          <a:blip r:embed="rId1"/>
          <a:srcRect l="5532" t="6144" r="5702" b="7851"/>
          <a:stretch/>
        </p:blipFill>
        <p:spPr>
          <a:xfrm>
            <a:off x="107640" y="2954520"/>
            <a:ext cx="3829320" cy="38494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" descr=""/>
          <p:cNvPicPr/>
          <p:nvPr/>
        </p:nvPicPr>
        <p:blipFill>
          <a:blip r:embed="rId2"/>
          <a:srcRect l="17433" t="33197" r="37252" b="15957"/>
          <a:stretch/>
        </p:blipFill>
        <p:spPr>
          <a:xfrm>
            <a:off x="181800" y="116640"/>
            <a:ext cx="3754800" cy="26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DOM\Desktop\12198.jpg"/>
          <p:cNvPicPr/>
          <p:nvPr/>
        </p:nvPicPr>
        <p:blipFill>
          <a:blip r:embed="rId1"/>
          <a:srcRect l="-605" t="27793" r="33" b="0"/>
          <a:stretch/>
        </p:blipFill>
        <p:spPr>
          <a:xfrm>
            <a:off x="217080" y="188640"/>
            <a:ext cx="4637880" cy="2970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4860000" y="764640"/>
            <a:ext cx="408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Безнадзорные домашние собаки. Имеют владельцев, но регулярно могут находиться вне квартиры или двора. Центром участка обитания является дом хозяина, в котором в основном кормят животное, но при этом собаки посещают близлежащие мусорные контейнеры. Пик активности приходится на светлое время суток, постоянных стай не образуют, но при этом активно участвуют во временных стаях — так называемых «собачьих свадьба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:\Users\DOM\Desktop\sobaka2.jpg"/>
          <p:cNvPicPr/>
          <p:nvPr/>
        </p:nvPicPr>
        <p:blipFill>
          <a:blip r:embed="rId2"/>
          <a:stretch/>
        </p:blipFill>
        <p:spPr>
          <a:xfrm>
            <a:off x="247680" y="3213000"/>
            <a:ext cx="460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"/>
          <p:cNvPicPr/>
          <p:nvPr/>
        </p:nvPicPr>
        <p:blipFill>
          <a:blip r:embed="rId1"/>
          <a:stretch/>
        </p:blipFill>
        <p:spPr>
          <a:xfrm>
            <a:off x="251640" y="188640"/>
            <a:ext cx="86407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4" descr=""/>
          <p:cNvPicPr/>
          <p:nvPr/>
        </p:nvPicPr>
        <p:blipFill>
          <a:blip r:embed="rId1"/>
          <a:srcRect l="9098" t="0" r="9098" b="0"/>
          <a:stretch/>
        </p:blipFill>
        <p:spPr>
          <a:xfrm>
            <a:off x="251640" y="92880"/>
            <a:ext cx="878472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  <Words>114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9:15:41Z</dcterms:created>
  <dc:creator>DOM</dc:creator>
  <dc:description/>
  <dc:language>en-US</dc:language>
  <cp:lastModifiedBy>User</cp:lastModifiedBy>
  <dcterms:modified xsi:type="dcterms:W3CDTF">2020-11-12T13:43:21Z</dcterms:modified>
  <cp:revision>16</cp:revision>
  <dc:subject/>
  <dc:title>Мы в ответе за тех, кого приручи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