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EEA-11EA-4ACD-8276-2D3352E1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5FA-178D-4B97-8EE0-4C59C2A0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79D-5B14-42AE-A486-3B97FF74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3E5-498B-48B8-8CC9-2F30CE15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AD30-6DF2-4D11-93B4-A4E07B52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1B4F-3D40-4BC3-A2B3-26F0F051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884C-055B-4061-84B2-B40B88B8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EA7D-C97C-49C2-AC60-8BC3DE2D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11A1-B23E-4349-9613-BE8ECFE5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E16C-A9A6-4ECC-B300-BF054201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C895-BED6-4C34-ABDD-D2E2F31A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A2D-5D9E-4C2B-8C60-6ECBB6F1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199A-BC41-4171-8DD3-7A4BFAA7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FE58-8258-4FC9-9114-6CF732E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C4DA-2E60-426F-93CE-5072C994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C6EF-B106-444A-BBF4-E2BD4FC3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A843-1375-4DB8-B7AC-9C082FE3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B3913-13E2-4A55-8BBB-ADA8904E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C14E-32A0-4CFE-A913-C7BD4295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71B7-75B6-4415-AB06-D80D6ACC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BAC0-C6A5-40BD-BFA8-B1242429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240E-E7BC-40BC-95DC-F81B947F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1B8-891F-4C5E-A8AA-636C5B09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CE985-B932-4DB7-BB24-725910EB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35AD7-1213-442D-9128-48DC476F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4F8C-40E3-4CFE-A0C3-C44F6B8B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EACBE-B40A-48D7-8AF3-09E6685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BE4F-8934-4573-9215-BADD71C8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376BE-4E79-4487-824F-2A27837C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A326-2B27-487C-94B2-FD48CA03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317-147F-44B9-AD13-08C30226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1BF-66BA-4F65-86AC-65A0B8E3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5FC-27B3-4697-B24B-0A1D876F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D52-1A58-4CC7-8A7A-16D152BF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39D-BA31-49EF-8215-191C30E6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C2F-A102-45EF-998F-3828604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C6E32E-6CB3-442B-AB4E-4E9F9076571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5495BE-6412-4444-9BBC-8CE925F373D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1792440" y="5367240"/>
            <a:ext cx="54860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018B48-D332-4C0F-BF41-88D0987C3BF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Мы в ответе за тех, кого приручили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971640" y="4941000"/>
            <a:ext cx="75603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 cap="all">
              <a:solidFill>
                <a:schemeClr val="accent4"/>
              </a:solidFill>
              <a:latin typeface="Times New Roman"/>
            </a:endParaRPr>
          </a:p>
        </p:txBody>
      </p:sp>
      <p:pic>
        <p:nvPicPr>
          <p:cNvPr id="126" name="Рисунок 12" descr=""/>
          <p:cNvPicPr/>
          <p:nvPr/>
        </p:nvPicPr>
        <p:blipFill>
          <a:blip r:embed="rId1"/>
          <a:stretch/>
        </p:blipFill>
        <p:spPr>
          <a:xfrm>
            <a:off x="2133720" y="1895400"/>
            <a:ext cx="48765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6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МЫ В ОТВЕТЕ ЗА ТЕХ, КОГО ПРИРУЧИЛИ!!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179640" y="1412640"/>
            <a:ext cx="3783240" cy="25477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"/>
          <p:cNvPicPr/>
          <p:nvPr/>
        </p:nvPicPr>
        <p:blipFill>
          <a:blip r:embed="rId2"/>
          <a:stretch/>
        </p:blipFill>
        <p:spPr>
          <a:xfrm>
            <a:off x="4150800" y="1845000"/>
            <a:ext cx="4798080" cy="4032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"/>
          <p:cNvPicPr/>
          <p:nvPr/>
        </p:nvPicPr>
        <p:blipFill>
          <a:blip r:embed="rId3"/>
          <a:stretch/>
        </p:blipFill>
        <p:spPr>
          <a:xfrm>
            <a:off x="989280" y="4077000"/>
            <a:ext cx="2160000" cy="26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Объект 3" descr=""/>
          <p:cNvPicPr/>
          <p:nvPr/>
        </p:nvPicPr>
        <p:blipFill>
          <a:blip r:embed="rId1"/>
          <a:stretch/>
        </p:blipFill>
        <p:spPr>
          <a:xfrm>
            <a:off x="152280" y="260640"/>
            <a:ext cx="441936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"/>
          <p:cNvPicPr/>
          <p:nvPr/>
        </p:nvPicPr>
        <p:blipFill>
          <a:blip r:embed="rId2"/>
          <a:stretch/>
        </p:blipFill>
        <p:spPr>
          <a:xfrm>
            <a:off x="4644000" y="72720"/>
            <a:ext cx="4408920" cy="649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"/>
          <p:cNvPicPr/>
          <p:nvPr/>
        </p:nvPicPr>
        <p:blipFill>
          <a:blip r:embed="rId3"/>
          <a:stretch/>
        </p:blipFill>
        <p:spPr>
          <a:xfrm>
            <a:off x="107640" y="3141000"/>
            <a:ext cx="4431240" cy="309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КОШ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3" descr=""/>
          <p:cNvPicPr/>
          <p:nvPr/>
        </p:nvPicPr>
        <p:blipFill>
          <a:blip r:embed="rId1"/>
          <a:stretch/>
        </p:blipFill>
        <p:spPr>
          <a:xfrm>
            <a:off x="539640" y="1412640"/>
            <a:ext cx="4038480" cy="51123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"/>
          <p:cNvPicPr/>
          <p:nvPr/>
        </p:nvPicPr>
        <p:blipFill>
          <a:blip r:embed="rId2"/>
          <a:stretch/>
        </p:blipFill>
        <p:spPr>
          <a:xfrm>
            <a:off x="4932000" y="1340640"/>
            <a:ext cx="3647880" cy="535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КОШ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107640" y="1700640"/>
            <a:ext cx="5544360" cy="3168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7" descr=""/>
          <p:cNvPicPr/>
          <p:nvPr/>
        </p:nvPicPr>
        <p:blipFill>
          <a:blip r:embed="rId2"/>
          <a:stretch/>
        </p:blipFill>
        <p:spPr>
          <a:xfrm>
            <a:off x="5796000" y="1268640"/>
            <a:ext cx="3218760" cy="41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"/>
          <p:cNvPicPr/>
          <p:nvPr/>
        </p:nvPicPr>
        <p:blipFill>
          <a:blip r:embed="rId1"/>
          <a:stretch/>
        </p:blipFill>
        <p:spPr>
          <a:xfrm>
            <a:off x="443520" y="332640"/>
            <a:ext cx="79380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Объект 4" descr=""/>
          <p:cNvPicPr/>
          <p:nvPr/>
        </p:nvPicPr>
        <p:blipFill>
          <a:blip r:embed="rId1"/>
          <a:stretch/>
        </p:blipFill>
        <p:spPr>
          <a:xfrm>
            <a:off x="107640" y="332640"/>
            <a:ext cx="4141440" cy="3097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"/>
          <p:cNvPicPr/>
          <p:nvPr/>
        </p:nvPicPr>
        <p:blipFill>
          <a:blip r:embed="rId2"/>
          <a:stretch/>
        </p:blipFill>
        <p:spPr>
          <a:xfrm>
            <a:off x="4428000" y="332640"/>
            <a:ext cx="4663440" cy="3097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6" descr=""/>
          <p:cNvPicPr/>
          <p:nvPr/>
        </p:nvPicPr>
        <p:blipFill>
          <a:blip r:embed="rId3"/>
          <a:stretch/>
        </p:blipFill>
        <p:spPr>
          <a:xfrm>
            <a:off x="107640" y="3789000"/>
            <a:ext cx="4375440" cy="27525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7" descr=""/>
          <p:cNvPicPr/>
          <p:nvPr/>
        </p:nvPicPr>
        <p:blipFill>
          <a:blip r:embed="rId4"/>
          <a:stretch/>
        </p:blipFill>
        <p:spPr>
          <a:xfrm>
            <a:off x="4852080" y="3809160"/>
            <a:ext cx="3814920" cy="28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Объект 3" descr=""/>
          <p:cNvPicPr/>
          <p:nvPr/>
        </p:nvPicPr>
        <p:blipFill>
          <a:blip r:embed="rId1"/>
          <a:stretch/>
        </p:blipFill>
        <p:spPr>
          <a:xfrm>
            <a:off x="323640" y="188640"/>
            <a:ext cx="853056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3" descr=""/>
          <p:cNvPicPr/>
          <p:nvPr/>
        </p:nvPicPr>
        <p:blipFill>
          <a:blip r:embed="rId1"/>
          <a:stretch/>
        </p:blipFill>
        <p:spPr>
          <a:xfrm>
            <a:off x="179640" y="188640"/>
            <a:ext cx="86889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"/>
          <p:cNvPicPr/>
          <p:nvPr/>
        </p:nvPicPr>
        <p:blipFill>
          <a:blip r:embed="rId1"/>
          <a:stretch/>
        </p:blipFill>
        <p:spPr>
          <a:xfrm>
            <a:off x="107640" y="80640"/>
            <a:ext cx="8880480" cy="66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Объект 3" descr=""/>
          <p:cNvPicPr/>
          <p:nvPr/>
        </p:nvPicPr>
        <p:blipFill>
          <a:blip r:embed="rId1"/>
          <a:srcRect l="2425" t="13514" r="0" b="12616"/>
          <a:stretch/>
        </p:blipFill>
        <p:spPr>
          <a:xfrm>
            <a:off x="5652000" y="116640"/>
            <a:ext cx="3260520" cy="33238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2"/>
          <a:srcRect l="3298" t="6211" r="9685" b="3597"/>
          <a:stretch/>
        </p:blipFill>
        <p:spPr>
          <a:xfrm>
            <a:off x="107640" y="1268640"/>
            <a:ext cx="5332680" cy="4145400"/>
          </a:xfrm>
          <a:prstGeom prst="rect">
            <a:avLst/>
          </a:prstGeom>
          <a:ln w="0">
            <a:noFill/>
          </a:ln>
        </p:spPr>
      </p:pic>
      <p:pic>
        <p:nvPicPr>
          <p:cNvPr id="173" name="Объект 4" descr=""/>
          <p:cNvPicPr/>
          <p:nvPr/>
        </p:nvPicPr>
        <p:blipFill>
          <a:blip r:embed="rId3"/>
          <a:srcRect l="59193" t="57610" r="-127" b="0"/>
          <a:stretch/>
        </p:blipFill>
        <p:spPr>
          <a:xfrm>
            <a:off x="5631120" y="3857760"/>
            <a:ext cx="33318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СОБА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3" descr=""/>
          <p:cNvPicPr/>
          <p:nvPr/>
        </p:nvPicPr>
        <p:blipFill>
          <a:blip r:embed="rId1"/>
          <a:stretch/>
        </p:blipFill>
        <p:spPr>
          <a:xfrm>
            <a:off x="276120" y="908640"/>
            <a:ext cx="3999240" cy="29120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"/>
          <p:cNvPicPr/>
          <p:nvPr/>
        </p:nvPicPr>
        <p:blipFill>
          <a:blip r:embed="rId2"/>
          <a:stretch/>
        </p:blipFill>
        <p:spPr>
          <a:xfrm>
            <a:off x="4512600" y="881640"/>
            <a:ext cx="4405320" cy="29390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"/>
          <p:cNvPicPr/>
          <p:nvPr/>
        </p:nvPicPr>
        <p:blipFill>
          <a:blip r:embed="rId3"/>
          <a:stretch/>
        </p:blipFill>
        <p:spPr>
          <a:xfrm>
            <a:off x="4512600" y="3855960"/>
            <a:ext cx="4466520" cy="30088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9" descr=""/>
          <p:cNvPicPr/>
          <p:nvPr/>
        </p:nvPicPr>
        <p:blipFill>
          <a:blip r:embed="rId4"/>
          <a:srcRect l="0" t="24713" r="3763" b="0"/>
          <a:stretch/>
        </p:blipFill>
        <p:spPr>
          <a:xfrm>
            <a:off x="424080" y="3942720"/>
            <a:ext cx="37036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3"/>
          <p:cNvSpPr/>
          <p:nvPr/>
        </p:nvSpPr>
        <p:spPr>
          <a:xfrm>
            <a:off x="254520" y="38160"/>
            <a:ext cx="856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МЫ В ОТВЕТЕ ЗА ТЕХ, КОГО ПРИРУЧИЛИ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"/>
          <p:cNvPicPr/>
          <p:nvPr/>
        </p:nvPicPr>
        <p:blipFill>
          <a:blip r:embed="rId1"/>
          <a:stretch/>
        </p:blipFill>
        <p:spPr>
          <a:xfrm>
            <a:off x="899640" y="1556640"/>
            <a:ext cx="7524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539640" y="188640"/>
            <a:ext cx="552600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ы в ответе за тех, кого приручили..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ы в ответе за тех, кого мы забыли..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ы в ответе за тех, кого мы ласкали..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Даже если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 обещали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и любви. Ни даже простого участья..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ы в ответе за то ожидание счастья..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Даже если при этом совс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 любили..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Мы в ответе за тех, кого прируч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2" descr=""/>
          <p:cNvPicPr/>
          <p:nvPr/>
        </p:nvPicPr>
        <p:blipFill>
          <a:blip r:embed="rId1"/>
          <a:stretch/>
        </p:blipFill>
        <p:spPr>
          <a:xfrm>
            <a:off x="5580000" y="188640"/>
            <a:ext cx="3391560" cy="18000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3" descr=""/>
          <p:cNvPicPr/>
          <p:nvPr/>
        </p:nvPicPr>
        <p:blipFill>
          <a:blip r:embed="rId2"/>
          <a:srcRect l="1866" t="0" r="0" b="18316"/>
          <a:stretch/>
        </p:blipFill>
        <p:spPr>
          <a:xfrm>
            <a:off x="5477400" y="2277000"/>
            <a:ext cx="3597480" cy="42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7640" y="35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СОБА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4" descr=""/>
          <p:cNvPicPr/>
          <p:nvPr/>
        </p:nvPicPr>
        <p:blipFill>
          <a:blip r:embed="rId1"/>
          <a:stretch/>
        </p:blipFill>
        <p:spPr>
          <a:xfrm>
            <a:off x="138960" y="1135440"/>
            <a:ext cx="4267440" cy="27766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"/>
          <p:cNvPicPr/>
          <p:nvPr/>
        </p:nvPicPr>
        <p:blipFill>
          <a:blip r:embed="rId2"/>
          <a:stretch/>
        </p:blipFill>
        <p:spPr>
          <a:xfrm>
            <a:off x="251640" y="4209480"/>
            <a:ext cx="4042800" cy="23133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"/>
          <p:cNvPicPr/>
          <p:nvPr/>
        </p:nvPicPr>
        <p:blipFill>
          <a:blip r:embed="rId3"/>
          <a:srcRect l="30226" t="0" r="21139" b="3336"/>
          <a:stretch/>
        </p:blipFill>
        <p:spPr>
          <a:xfrm>
            <a:off x="4500000" y="1073160"/>
            <a:ext cx="43232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762120" y="507960"/>
            <a:ext cx="761976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СОБА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Объект 3" descr=""/>
          <p:cNvPicPr/>
          <p:nvPr/>
        </p:nvPicPr>
        <p:blipFill>
          <a:blip r:embed="rId1"/>
          <a:stretch/>
        </p:blipFill>
        <p:spPr>
          <a:xfrm>
            <a:off x="539640" y="1181160"/>
            <a:ext cx="7776360" cy="55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140000" y="260640"/>
            <a:ext cx="453600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аки на улице тоже ведь вол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их только смог человек прируч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если вернуться к природы исток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и без нас могли счастливо жи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чем же вмешался в течение жиз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жестокой и злобной душой человек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чем он бросает без всякой прич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о, кто был предан ему много лет?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C:\Users\DOM\Desktop\343edfc8a20ct.jpg"/>
          <p:cNvPicPr/>
          <p:nvPr/>
        </p:nvPicPr>
        <p:blipFill>
          <a:blip r:embed="rId1"/>
          <a:srcRect l="5532" t="6144" r="5702" b="7851"/>
          <a:stretch/>
        </p:blipFill>
        <p:spPr>
          <a:xfrm>
            <a:off x="107640" y="2954520"/>
            <a:ext cx="3829320" cy="38494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" descr=""/>
          <p:cNvPicPr/>
          <p:nvPr/>
        </p:nvPicPr>
        <p:blipFill>
          <a:blip r:embed="rId2"/>
          <a:srcRect l="17433" t="33197" r="37252" b="15957"/>
          <a:stretch/>
        </p:blipFill>
        <p:spPr>
          <a:xfrm>
            <a:off x="181800" y="116640"/>
            <a:ext cx="3754800" cy="26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DOM\Desktop\12198.jpg"/>
          <p:cNvPicPr/>
          <p:nvPr/>
        </p:nvPicPr>
        <p:blipFill>
          <a:blip r:embed="rId1"/>
          <a:srcRect l="-605" t="27793" r="33" b="0"/>
          <a:stretch/>
        </p:blipFill>
        <p:spPr>
          <a:xfrm>
            <a:off x="217080" y="188640"/>
            <a:ext cx="4637880" cy="2970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4860000" y="764640"/>
            <a:ext cx="408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Безнадзорные домашние собаки. Имеют владельцев, но регулярно могут находиться вне квартиры или двора. Центром участка обитания является дом хозяина, в котором в основном кормят животное, но при этом собаки посещают близлежащие мусорные контейнеры. Пик активности приходится на светлое время суток, постоянных стай не образуют, но при этом активно участвуют во временных стаях — так называемых «собачьих свадьба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C:\Users\DOM\Desktop\sobaka2.jpg"/>
          <p:cNvPicPr/>
          <p:nvPr/>
        </p:nvPicPr>
        <p:blipFill>
          <a:blip r:embed="rId2"/>
          <a:stretch/>
        </p:blipFill>
        <p:spPr>
          <a:xfrm>
            <a:off x="247680" y="3213000"/>
            <a:ext cx="460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"/>
          <p:cNvPicPr/>
          <p:nvPr/>
        </p:nvPicPr>
        <p:blipFill>
          <a:blip r:embed="rId1"/>
          <a:stretch/>
        </p:blipFill>
        <p:spPr>
          <a:xfrm>
            <a:off x="251640" y="188640"/>
            <a:ext cx="86407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4" descr=""/>
          <p:cNvPicPr/>
          <p:nvPr/>
        </p:nvPicPr>
        <p:blipFill>
          <a:blip r:embed="rId1"/>
          <a:srcRect l="9098" t="0" r="9098" b="0"/>
          <a:stretch/>
        </p:blipFill>
        <p:spPr>
          <a:xfrm>
            <a:off x="251640" y="92880"/>
            <a:ext cx="878472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  <Words>114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9:15:41Z</dcterms:created>
  <dc:creator>DOM</dc:creator>
  <dc:description/>
  <dc:language>en-US</dc:language>
  <cp:lastModifiedBy>User</cp:lastModifiedBy>
  <dcterms:modified xsi:type="dcterms:W3CDTF">2020-11-12T13:43:21Z</dcterms:modified>
  <cp:revision>16</cp:revision>
  <dc:subject/>
  <dc:title>Мы в ответе за тех, кого приручи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