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CCC2D0-1302-4097-A3C5-AE7E55D01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8914E7-B565-46D7-902B-6D5E060A4F2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080-850A-4814-90FD-320EDFDC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815-56E1-484A-9B5B-76222E36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DA3-C4A5-421E-8264-109F64B6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C9D3-014F-4FC9-A090-96E8D5A4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2057-6D2F-4C74-BEAD-FA40D528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31F5-C781-4289-8A5E-ECB9FCE7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9BCC-99FB-476B-9536-CE04CF19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26A3-DCC5-4187-8C25-51E16F02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8ED9-6847-4E1A-AA6F-444E81A3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3412-F0CD-44B2-AEAE-0408D093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8C38-250B-44B4-A588-EE1376FA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3B8F-61EA-4D2B-9361-D57F57A6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8D05-51EE-48A5-B992-EA84BB1B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B071-030D-4E6B-BF8D-5574A7D5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A200-2D79-4DB9-B7B6-E958F83E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4408-02B7-42B4-8FC9-177E56CB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924E-E5B7-4AB1-9A6A-EE653260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676-CF4A-4BA1-9C67-237083B2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A3F-61E5-465F-895B-CE0E9DDC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8CD7-D689-4320-B824-954B8718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0A0-7DD6-4CAC-966C-03714958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E355-2732-49E3-A42F-6D15EA76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7D8-B63C-4499-9C4B-EB67F54D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64F-478A-4BD5-BC70-CE761F4C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>
                <a:alpha val="54117"/>
              </a:srgbClr>
            </a:gs>
            <a:gs pos="100000">
              <a:srgbClr val="dce6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F102FA-5BED-4EDE-821B-E6681267756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>
                <a:alpha val="54117"/>
              </a:srgbClr>
            </a:gs>
            <a:gs pos="100000">
              <a:srgbClr val="dce6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86C941-E4EC-454B-91D9-2A399DBE6CD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755640" y="260640"/>
            <a:ext cx="7416360" cy="11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Недел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«Игры и игрушк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</a:rPr>
              <a:t>6 груп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2020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1"/>
          <p:cNvSpPr/>
          <p:nvPr/>
        </p:nvSpPr>
        <p:spPr>
          <a:xfrm>
            <a:off x="0" y="142920"/>
            <a:ext cx="9143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укольный теат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каз сказки «Заюшкина избуш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835640" y="46530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395640" y="4999680"/>
            <a:ext cx="8208720" cy="79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6" descr="IMG_20201026_122420.jpg"/>
          <p:cNvPicPr/>
          <p:nvPr/>
        </p:nvPicPr>
        <p:blipFill>
          <a:blip r:embed="rId1"/>
          <a:stretch/>
        </p:blipFill>
        <p:spPr>
          <a:xfrm>
            <a:off x="107640" y="2349000"/>
            <a:ext cx="2376000" cy="316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" descr="IMG_20201026_122321.jpg"/>
          <p:cNvPicPr/>
          <p:nvPr/>
        </p:nvPicPr>
        <p:blipFill>
          <a:blip r:embed="rId2"/>
          <a:stretch/>
        </p:blipFill>
        <p:spPr>
          <a:xfrm>
            <a:off x="6660360" y="2205000"/>
            <a:ext cx="2445480" cy="32605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8" descr="IMG_20201026_122046.jpg"/>
          <p:cNvPicPr/>
          <p:nvPr/>
        </p:nvPicPr>
        <p:blipFill>
          <a:blip r:embed="rId3"/>
          <a:stretch/>
        </p:blipFill>
        <p:spPr>
          <a:xfrm>
            <a:off x="2843640" y="1196640"/>
            <a:ext cx="3312000" cy="2484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9" descr="IMG_20201026_122350.jpg"/>
          <p:cNvPicPr/>
          <p:nvPr/>
        </p:nvPicPr>
        <p:blipFill>
          <a:blip r:embed="rId4"/>
          <a:stretch/>
        </p:blipFill>
        <p:spPr>
          <a:xfrm>
            <a:off x="2771640" y="3861000"/>
            <a:ext cx="3672000" cy="27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7"/>
          <p:cNvSpPr/>
          <p:nvPr/>
        </p:nvSpPr>
        <p:spPr>
          <a:xfrm>
            <a:off x="539640" y="5157360"/>
            <a:ext cx="806436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395640" y="260640"/>
            <a:ext cx="8568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идактическая игра «Зимующие и перелётные пт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6" descr="IMG_20201027_113737.jpg"/>
          <p:cNvPicPr/>
          <p:nvPr/>
        </p:nvPicPr>
        <p:blipFill>
          <a:blip r:embed="rId1"/>
          <a:stretch/>
        </p:blipFill>
        <p:spPr>
          <a:xfrm>
            <a:off x="3348000" y="1340640"/>
            <a:ext cx="2805480" cy="37407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8" descr="IMG_20201027_113833.jpg"/>
          <p:cNvPicPr/>
          <p:nvPr/>
        </p:nvPicPr>
        <p:blipFill>
          <a:blip r:embed="rId2"/>
          <a:stretch/>
        </p:blipFill>
        <p:spPr>
          <a:xfrm>
            <a:off x="6228360" y="2277000"/>
            <a:ext cx="2625480" cy="35006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9" descr="IMG_20201027_114256.jpg"/>
          <p:cNvPicPr/>
          <p:nvPr/>
        </p:nvPicPr>
        <p:blipFill>
          <a:blip r:embed="rId3"/>
          <a:stretch/>
        </p:blipFill>
        <p:spPr>
          <a:xfrm>
            <a:off x="539640" y="836640"/>
            <a:ext cx="2664000" cy="28728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0" descr="IMG_20201027_114755.jpg"/>
          <p:cNvPicPr/>
          <p:nvPr/>
        </p:nvPicPr>
        <p:blipFill>
          <a:blip r:embed="rId4"/>
          <a:stretch/>
        </p:blipFill>
        <p:spPr>
          <a:xfrm>
            <a:off x="827640" y="3785760"/>
            <a:ext cx="2304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7"/>
          <p:cNvSpPr/>
          <p:nvPr/>
        </p:nvSpPr>
        <p:spPr>
          <a:xfrm>
            <a:off x="1187640" y="548640"/>
            <a:ext cx="360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395640" y="332640"/>
            <a:ext cx="8496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звлечение на улице «Береги здоровье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8" descr="IMG_8419.JPG"/>
          <p:cNvPicPr/>
          <p:nvPr/>
        </p:nvPicPr>
        <p:blipFill>
          <a:blip r:embed="rId1"/>
          <a:stretch/>
        </p:blipFill>
        <p:spPr>
          <a:xfrm>
            <a:off x="467640" y="1052640"/>
            <a:ext cx="3600000" cy="2700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9" descr="IMG_8421.JPG"/>
          <p:cNvPicPr/>
          <p:nvPr/>
        </p:nvPicPr>
        <p:blipFill>
          <a:blip r:embed="rId2"/>
          <a:stretch/>
        </p:blipFill>
        <p:spPr>
          <a:xfrm>
            <a:off x="467640" y="3933000"/>
            <a:ext cx="3611520" cy="27086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1" descr="IMG_8424.JPG"/>
          <p:cNvPicPr/>
          <p:nvPr/>
        </p:nvPicPr>
        <p:blipFill>
          <a:blip r:embed="rId3"/>
          <a:stretch/>
        </p:blipFill>
        <p:spPr>
          <a:xfrm>
            <a:off x="4428000" y="1556640"/>
            <a:ext cx="4536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865800" y="548640"/>
            <a:ext cx="7747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ень толерантности. Знакомство со страной  ИНД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3" descr="IMG_20201029_084849.jpg"/>
          <p:cNvPicPr/>
          <p:nvPr/>
        </p:nvPicPr>
        <p:blipFill>
          <a:blip r:embed="rId1"/>
          <a:stretch/>
        </p:blipFill>
        <p:spPr>
          <a:xfrm>
            <a:off x="323640" y="1124640"/>
            <a:ext cx="3611520" cy="27086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IMG_20201029_122555.jpg"/>
          <p:cNvPicPr/>
          <p:nvPr/>
        </p:nvPicPr>
        <p:blipFill>
          <a:blip r:embed="rId2"/>
          <a:stretch/>
        </p:blipFill>
        <p:spPr>
          <a:xfrm>
            <a:off x="4428000" y="1340640"/>
            <a:ext cx="3518280" cy="2164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IMG_20201029_123100.jpg"/>
          <p:cNvPicPr/>
          <p:nvPr/>
        </p:nvPicPr>
        <p:blipFill>
          <a:blip r:embed="rId3"/>
          <a:stretch/>
        </p:blipFill>
        <p:spPr>
          <a:xfrm>
            <a:off x="611640" y="4077000"/>
            <a:ext cx="325152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IMG_20201029_123135.jpg"/>
          <p:cNvPicPr/>
          <p:nvPr/>
        </p:nvPicPr>
        <p:blipFill>
          <a:blip r:embed="rId4"/>
          <a:stretch/>
        </p:blipFill>
        <p:spPr>
          <a:xfrm>
            <a:off x="4644000" y="3645000"/>
            <a:ext cx="3899520" cy="29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611640" y="548640"/>
            <a:ext cx="8395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вижная игра на улице «Гори, гори яс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" descr="IMG_8504.JPG"/>
          <p:cNvPicPr/>
          <p:nvPr/>
        </p:nvPicPr>
        <p:blipFill>
          <a:blip r:embed="rId1"/>
          <a:stretch/>
        </p:blipFill>
        <p:spPr>
          <a:xfrm>
            <a:off x="755640" y="1268640"/>
            <a:ext cx="3456000" cy="2592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IMG_8517.JPG"/>
          <p:cNvPicPr/>
          <p:nvPr/>
        </p:nvPicPr>
        <p:blipFill>
          <a:blip r:embed="rId2"/>
          <a:stretch/>
        </p:blipFill>
        <p:spPr>
          <a:xfrm>
            <a:off x="683640" y="4005000"/>
            <a:ext cx="3528000" cy="2646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8" descr="IMG_8485.JPG"/>
          <p:cNvPicPr/>
          <p:nvPr/>
        </p:nvPicPr>
        <p:blipFill>
          <a:blip r:embed="rId3"/>
          <a:stretch/>
        </p:blipFill>
        <p:spPr>
          <a:xfrm rot="5400000">
            <a:off x="4366080" y="2050920"/>
            <a:ext cx="4530960" cy="339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  <Words>54</Words>
  <Paragraphs>2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7T08:28:09Z</dcterms:created>
  <dc:creator>Александра</dc:creator>
  <dc:description/>
  <dc:language>en-US</dc:language>
  <cp:lastModifiedBy>user</cp:lastModifiedBy>
  <dcterms:modified xsi:type="dcterms:W3CDTF">2020-10-30T12:51:47Z</dcterms:modified>
  <cp:revision>12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6</vt:r8>
  </property>
</Properties>
</file>