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C71182-AE73-4B78-BB99-020D07F8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042AE3-7FC5-4698-9456-6C472FE802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AE1-97D1-4579-AD76-9EFBB4F5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782-76FF-4DA2-97A8-EFAE6682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181-C25B-4FB6-A63C-8FEFF888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C1F-B88B-4E94-9303-D8BDA0E8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1D5A-34E3-4A8F-8A8E-B3BF369D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0857-20D7-493B-A7EE-62F7DF10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2AC7-D4AA-4C99-8039-6858BE44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95FF-0C89-43A6-B918-07745A71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A5BF-1C9A-4222-BBD1-2DF0EBAD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D34F-9C88-4035-ACCF-0995B60A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7936-F087-4938-A1BF-3CC4498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345-5A65-49AF-B02B-5FED138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CB19-D32C-49F8-9186-465B869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0155-394A-43E6-BB38-6CCFC8C7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409B-871D-4347-BDC6-825FFE7F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12C-36BE-4756-A326-1026C04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0C1C-DD58-41AC-A5EC-1D7BE5A4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33F-D453-45E9-AC39-22B2496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2E0-1C42-4046-890B-D0DA609C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53F-B613-4778-9571-D5E9D1A1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4F4-A7FB-4A90-BFB4-E939063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B13-1887-468F-B9AD-4E859ED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0FB-2C8A-4D9A-BE4B-7643A72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E3D-8D54-4F90-8B96-736DBD8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>
                <a:alpha val="54117"/>
              </a:srgbClr>
            </a:gs>
            <a:gs pos="100000">
              <a:srgbClr val="dce6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C3EAFF-9504-467E-9D31-0D34F4F67F4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>
                <a:alpha val="54117"/>
              </a:srgbClr>
            </a:gs>
            <a:gs pos="100000">
              <a:srgbClr val="dce6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8C1C82-8D75-42C7-9CA4-42453C7A8C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755640" y="260640"/>
            <a:ext cx="7416360" cy="11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Недел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«Игры и игруш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6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2020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1"/>
          <p:cNvSpPr/>
          <p:nvPr/>
        </p:nvSpPr>
        <p:spPr>
          <a:xfrm>
            <a:off x="0" y="142920"/>
            <a:ext cx="9143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укольный теат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каз сказки «Заюшкина изб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835640" y="465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95640" y="4999680"/>
            <a:ext cx="8208720" cy="79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IMG_20201026_122420.jpg"/>
          <p:cNvPicPr/>
          <p:nvPr/>
        </p:nvPicPr>
        <p:blipFill>
          <a:blip r:embed="rId1"/>
          <a:stretch/>
        </p:blipFill>
        <p:spPr>
          <a:xfrm>
            <a:off x="107640" y="2349000"/>
            <a:ext cx="2376000" cy="316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IMG_20201026_122321.jpg"/>
          <p:cNvPicPr/>
          <p:nvPr/>
        </p:nvPicPr>
        <p:blipFill>
          <a:blip r:embed="rId2"/>
          <a:stretch/>
        </p:blipFill>
        <p:spPr>
          <a:xfrm>
            <a:off x="6660360" y="2205000"/>
            <a:ext cx="2445480" cy="3260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IMG_20201026_122046.jpg"/>
          <p:cNvPicPr/>
          <p:nvPr/>
        </p:nvPicPr>
        <p:blipFill>
          <a:blip r:embed="rId3"/>
          <a:stretch/>
        </p:blipFill>
        <p:spPr>
          <a:xfrm>
            <a:off x="2843640" y="1196640"/>
            <a:ext cx="3312000" cy="2484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IMG_20201026_122350.jpg"/>
          <p:cNvPicPr/>
          <p:nvPr/>
        </p:nvPicPr>
        <p:blipFill>
          <a:blip r:embed="rId4"/>
          <a:stretch/>
        </p:blipFill>
        <p:spPr>
          <a:xfrm>
            <a:off x="2771640" y="3861000"/>
            <a:ext cx="367200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7"/>
          <p:cNvSpPr/>
          <p:nvPr/>
        </p:nvSpPr>
        <p:spPr>
          <a:xfrm>
            <a:off x="539640" y="5157360"/>
            <a:ext cx="8064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95640" y="260640"/>
            <a:ext cx="856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идактическая игра «Зимующие и перелёт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IMG_20201027_113737.jpg"/>
          <p:cNvPicPr/>
          <p:nvPr/>
        </p:nvPicPr>
        <p:blipFill>
          <a:blip r:embed="rId1"/>
          <a:stretch/>
        </p:blipFill>
        <p:spPr>
          <a:xfrm>
            <a:off x="3348000" y="1340640"/>
            <a:ext cx="2805480" cy="3740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IMG_20201027_113833.jpg"/>
          <p:cNvPicPr/>
          <p:nvPr/>
        </p:nvPicPr>
        <p:blipFill>
          <a:blip r:embed="rId2"/>
          <a:stretch/>
        </p:blipFill>
        <p:spPr>
          <a:xfrm>
            <a:off x="6228360" y="2277000"/>
            <a:ext cx="2625480" cy="3500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IMG_20201027_114256.jpg"/>
          <p:cNvPicPr/>
          <p:nvPr/>
        </p:nvPicPr>
        <p:blipFill>
          <a:blip r:embed="rId3"/>
          <a:stretch/>
        </p:blipFill>
        <p:spPr>
          <a:xfrm>
            <a:off x="539640" y="836640"/>
            <a:ext cx="2664000" cy="2872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IMG_20201027_114755.jpg"/>
          <p:cNvPicPr/>
          <p:nvPr/>
        </p:nvPicPr>
        <p:blipFill>
          <a:blip r:embed="rId4"/>
          <a:stretch/>
        </p:blipFill>
        <p:spPr>
          <a:xfrm>
            <a:off x="827640" y="3785760"/>
            <a:ext cx="2304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7"/>
          <p:cNvSpPr/>
          <p:nvPr/>
        </p:nvSpPr>
        <p:spPr>
          <a:xfrm>
            <a:off x="1187640" y="548640"/>
            <a:ext cx="36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395640" y="332640"/>
            <a:ext cx="849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звлечение на улице «Береги здоровь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8" descr="IMG_8419.JPG"/>
          <p:cNvPicPr/>
          <p:nvPr/>
        </p:nvPicPr>
        <p:blipFill>
          <a:blip r:embed="rId1"/>
          <a:stretch/>
        </p:blipFill>
        <p:spPr>
          <a:xfrm>
            <a:off x="467640" y="1052640"/>
            <a:ext cx="3600000" cy="2700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9" descr="IMG_8421.JPG"/>
          <p:cNvPicPr/>
          <p:nvPr/>
        </p:nvPicPr>
        <p:blipFill>
          <a:blip r:embed="rId2"/>
          <a:stretch/>
        </p:blipFill>
        <p:spPr>
          <a:xfrm>
            <a:off x="467640" y="3933000"/>
            <a:ext cx="3611520" cy="2708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IMG_8424.JPG"/>
          <p:cNvPicPr/>
          <p:nvPr/>
        </p:nvPicPr>
        <p:blipFill>
          <a:blip r:embed="rId3"/>
          <a:stretch/>
        </p:blipFill>
        <p:spPr>
          <a:xfrm>
            <a:off x="4428000" y="1556640"/>
            <a:ext cx="4536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865800" y="548640"/>
            <a:ext cx="7747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ень толерантности. Знакомство со страной  ИНД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IMG_20201029_084849.jpg"/>
          <p:cNvPicPr/>
          <p:nvPr/>
        </p:nvPicPr>
        <p:blipFill>
          <a:blip r:embed="rId1"/>
          <a:stretch/>
        </p:blipFill>
        <p:spPr>
          <a:xfrm>
            <a:off x="323640" y="1124640"/>
            <a:ext cx="3611520" cy="2708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IMG_20201029_122555.jpg"/>
          <p:cNvPicPr/>
          <p:nvPr/>
        </p:nvPicPr>
        <p:blipFill>
          <a:blip r:embed="rId2"/>
          <a:stretch/>
        </p:blipFill>
        <p:spPr>
          <a:xfrm>
            <a:off x="4428000" y="1340640"/>
            <a:ext cx="3518280" cy="2164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20201029_123100.jpg"/>
          <p:cNvPicPr/>
          <p:nvPr/>
        </p:nvPicPr>
        <p:blipFill>
          <a:blip r:embed="rId3"/>
          <a:stretch/>
        </p:blipFill>
        <p:spPr>
          <a:xfrm>
            <a:off x="611640" y="407700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IMG_20201029_123135.jpg"/>
          <p:cNvPicPr/>
          <p:nvPr/>
        </p:nvPicPr>
        <p:blipFill>
          <a:blip r:embed="rId4"/>
          <a:stretch/>
        </p:blipFill>
        <p:spPr>
          <a:xfrm>
            <a:off x="4644000" y="3645000"/>
            <a:ext cx="3899520" cy="29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11640" y="548640"/>
            <a:ext cx="839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вижная игра на улице «Гори, гори яс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IMG_8504.JPG"/>
          <p:cNvPicPr/>
          <p:nvPr/>
        </p:nvPicPr>
        <p:blipFill>
          <a:blip r:embed="rId1"/>
          <a:stretch/>
        </p:blipFill>
        <p:spPr>
          <a:xfrm>
            <a:off x="755640" y="1268640"/>
            <a:ext cx="3456000" cy="2592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IMG_8517.JPG"/>
          <p:cNvPicPr/>
          <p:nvPr/>
        </p:nvPicPr>
        <p:blipFill>
          <a:blip r:embed="rId2"/>
          <a:stretch/>
        </p:blipFill>
        <p:spPr>
          <a:xfrm>
            <a:off x="683640" y="4005000"/>
            <a:ext cx="3528000" cy="2646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IMG_8485.JPG"/>
          <p:cNvPicPr/>
          <p:nvPr/>
        </p:nvPicPr>
        <p:blipFill>
          <a:blip r:embed="rId3"/>
          <a:stretch/>
        </p:blipFill>
        <p:spPr>
          <a:xfrm rot="5400000">
            <a:off x="4366080" y="2050920"/>
            <a:ext cx="4530960" cy="33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  <Words>54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7T08:28:09Z</dcterms:created>
  <dc:creator>Александра</dc:creator>
  <dc:description/>
  <dc:language>en-US</dc:language>
  <cp:lastModifiedBy>user</cp:lastModifiedBy>
  <dcterms:modified xsi:type="dcterms:W3CDTF">2020-10-30T12:51:47Z</dcterms:modified>
  <cp:revision>12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