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83A-C587-45E6-87E2-8C99D84A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605-9F0F-4DDD-A1AA-1E8D73D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A4E-DA58-4FE7-BC7C-FEBDC9F9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A94-77B1-4F7F-89DA-81421820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339-D787-4F91-8164-F5F66162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D60-D932-453C-BBBD-127BC41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9ACB-2EB9-4EE5-9C75-723410E4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9378-3E5B-4FE3-8D5E-378A467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B880-53E2-41DC-94C8-B442691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61C9-6AD1-4578-9CC6-7BF7B0A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A64-9015-402E-B48C-4FE01C3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3ED-793E-4F3C-BD76-F3899DF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A02-B5C4-42E0-BCA0-F607521E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280-7F31-4978-AFCC-C0B2FB3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7786-EB4C-4A22-A7FF-D26F83B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6C98-1D67-4E67-82A8-C0629B28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076-571A-4913-80AC-C99844B2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47F1-4D07-4045-BCD4-DD625500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649F-B6B7-45E0-B0EA-F9CB6F87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799A-FCE2-4095-9BFA-A7D58768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E3EE-D71F-41DE-B292-DF6256A6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3712-6FDD-4E72-B35C-9CA2B0C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8CF-6F56-4368-B5EA-0EED35D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CE30-47EE-45D3-A826-F96E616A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3D73-C8EA-4150-B401-0008003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F7BD-B0DC-4E25-9A07-6EFCC8C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DA04-E61D-451F-AF71-D17F143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F8BA-60F5-44CF-9DFA-4555D53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9703-0665-400F-9915-1D65AC6B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4FEA-0400-4664-AF72-4E378496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4F1-CB05-4DFD-9EC8-F3F04C3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E57-9894-461F-9034-0B4A240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A20-E3A3-4E34-8E7B-7FA67AC8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349-EDC4-49E9-9C01-3484AD4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76B-FDBB-40BB-AC4D-E312398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922-8E53-4301-82EA-3FE0FA5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FFD94D-5D1F-415E-98CC-711C1C2A648D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7043A0-0880-4F8F-96C2-74CD0525D052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E99366-57A7-4571-9A32-6120261505AC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932000" y="4724280"/>
            <a:ext cx="39225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Verdana"/>
              </a:rPr>
              <a:t>Преподаватель: Бибичева О.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1052640"/>
            <a:ext cx="727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Основы методики  ее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55640" y="3141000"/>
            <a:ext cx="2198880" cy="32324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обственно 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являются: 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827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питание собственно силовы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может быть направлено на развитие максимальной силы (тяжелая атлетика, гиревой спорт, силовая акробатика, легкоатлетические метания  и др.); общее укрепление опорно-двигательного аппарата занимающихся, необходимое во всех видах спорта (общая сила) и строительства тела (бодибилдинг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коростно-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534520" cy="5238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ются непредельными напряжениями мышц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 Они проявляются в двигательных действиях, в которых наряду со значительной силой мышц требуется и быстрота движений (например, отталкивание в  прыжках в длину и в высоту с места и с разбега, финальное усилие при метании спортивных снарядов и т.п.). При этом чем значительнее внешнее отягощение, преодолеваемое спортсменом (например, при подъеме штанги на грудь), тем большую роль играет силовой компонент, а при меньшем отягощении (например, при метании копья) возрастает значимость скоростного компонента.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2"/>
          <p:cNvSpPr/>
          <p:nvPr/>
        </p:nvSpPr>
        <p:spPr>
          <a:xfrm>
            <a:off x="3071880" y="2500200"/>
            <a:ext cx="278568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"/>
          <p:cNvSpPr/>
          <p:nvPr/>
        </p:nvSpPr>
        <p:spPr>
          <a:xfrm>
            <a:off x="571680" y="500040"/>
            <a:ext cx="257148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ыстр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"/>
          <p:cNvSpPr/>
          <p:nvPr/>
        </p:nvSpPr>
        <p:spPr>
          <a:xfrm>
            <a:off x="5715000" y="4286160"/>
            <a:ext cx="292860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Взрывн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6"/>
          <p:cNvCxnSpPr>
            <a:stCxn id="166" idx="1"/>
            <a:endCxn id="167" idx="5"/>
          </p:cNvCxnSpPr>
          <p:nvPr/>
        </p:nvCxnSpPr>
        <p:spPr>
          <a:xfrm flipH="1" flipV="1">
            <a:off x="2766960" y="1780920"/>
            <a:ext cx="713160" cy="9496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70" name="Прямая со стрелкой 8"/>
          <p:cNvCxnSpPr>
            <a:stCxn id="166" idx="5"/>
            <a:endCxn id="168" idx="1"/>
          </p:cNvCxnSpPr>
          <p:nvPr/>
        </p:nvCxnSpPr>
        <p:spPr>
          <a:xfrm>
            <a:off x="5449680" y="3841560"/>
            <a:ext cx="694080" cy="675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Быстр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183160" cy="221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ельной величин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Рисунок 3" descr="0a2fsWtVy9Q.jpg"/>
          <p:cNvPicPr/>
          <p:nvPr/>
        </p:nvPicPr>
        <p:blipFill>
          <a:blip r:embed="rId1"/>
          <a:stretch/>
        </p:blipFill>
        <p:spPr>
          <a:xfrm>
            <a:off x="5000760" y="3639240"/>
            <a:ext cx="3459600" cy="2305800"/>
          </a:xfrm>
          <a:prstGeom prst="rect">
            <a:avLst/>
          </a:prstGeom>
          <a:ln w="9525">
            <a:noFill/>
          </a:ln>
        </p:spPr>
      </p:pic>
      <p:pic>
        <p:nvPicPr>
          <p:cNvPr id="174" name="Рисунок 4" descr="motivator-31663.jpg"/>
          <p:cNvPicPr/>
          <p:nvPr/>
        </p:nvPicPr>
        <p:blipFill>
          <a:blip r:embed="rId2"/>
          <a:stretch/>
        </p:blipFill>
        <p:spPr>
          <a:xfrm>
            <a:off x="683640" y="3717000"/>
            <a:ext cx="3639960" cy="2364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Взрывн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484640"/>
            <a:ext cx="846900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Взрывная сила характеризуется двумя компонентами: стартовой силой и ускоряющей сило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вынослив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18316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работы мышц выделяют статическую и динамическую силовую выносливость.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инамическая силовая выносливос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характерна для циклической и ациклической деятельности, а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татическая силовая вынослив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ична для деятельности, связанной с удержанием рабочего напряжения в определенной поз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ловк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там, где есть сменный характер режима работы мышц, меняющиеся и непредвиденные ситуации деятельности (регби, борьба,  хоккей с мячом  и др.). Ее можно определить как «способность точно дифференцировать мышечные усилия различной величины в условиях непредвиденных ситуаций и смешанных режимов работы мышц»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18316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ценки степени развития собственно-силовых способносте различают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олютную силу-это сила проявляемая человеком в каком-либо движ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носительная сила- это сила, проявляемая человеком в пересчете на 1 кг собственного веса. Она выражается отношением максимальной силы к массе тела челове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4000"/>
          </a:bodyPr>
          <a:p>
            <a:pPr marL="269280" indent="-2692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е гармоническое развитие всех мышечных групп опорно-двигательного аппарата человека. Она решается путем использования избирательных силовых упражнений. Здесь важное значение имеют их объем и содержание. Они должны обеспечить пропорциональное развитие различных мышечных групп. Внешне это выражается в соответствующих формах телосложения и осанк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581040" y="412920"/>
            <a:ext cx="8183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3100"/>
            </a:br>
            <a:r>
              <a:rPr b="1" lang="ru-RU" sz="4000" spc="-1" strike="noStrike">
                <a:solidFill>
                  <a:srgbClr val="ff9257"/>
                </a:solidFill>
                <a:latin typeface="Verdana"/>
              </a:rPr>
              <a:t>Задачи развития силовых способност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144280" cy="24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а-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original.jpeg"/>
          <p:cNvPicPr/>
          <p:nvPr/>
        </p:nvPicPr>
        <p:blipFill>
          <a:blip r:embed="rId1"/>
          <a:stretch/>
        </p:blipFill>
        <p:spPr>
          <a:xfrm>
            <a:off x="3204000" y="3141000"/>
            <a:ext cx="5033520" cy="2715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5130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стороннее развитие силовых способностей в единстве с освоением жизненно важных двигательных действий (умений и навыков). Данная задача предполагает развитие силовых способностей всех основных видов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и возможностей (базы) для дальнейшего совершенствования силовых способностей в рамках занятий конкретным видом спорта или в плане профессионально-прикладной физической подготов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1831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9257"/>
                </a:solidFill>
                <a:latin typeface="Verdana"/>
              </a:rPr>
              <a:t>Основные средства воспитания сил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0040" y="1340640"/>
            <a:ext cx="8183160" cy="508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0000"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весом внешних предметов: штанги с набором дисков разного веса, разборные гантели, гири, набивные мячи, вес партнера и т.д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, отягощенные весом собственного тела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пражнения, в которых собственный вес отягощается весом внешних предметов (например, специальные пояса, манжеты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упражнения, в которых собственный вес уменьшается за счет использования дополнительной опоры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183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вково-тормозные упражнения. Их особенность заключается в быстрой смене напряжений при работе мышц-синергистов и мышц-антагонистов во время локальных и региональных упражнений с дополнительным отягощением и без ни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ические упражнения в изометрическом режиме (изометрические упражнения)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в которых мышечное напряжение создается за счет волевых усилий с использованием внешних предметов (различные упоры, удержания, поддержания, противодействия и т.п.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в которых мышечное напряжение создается за счет волевых усилий без использования внешних предметов в самосопротивл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5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Дополнительные средства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316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6000"/>
          </a:bodyPr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внешней среды (бег и прыжки по рыхлому песку, бег и прыжки в гору, бег против ветра и т.д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сопротивления упругих предметов (эспандеры, резиновые жгуты, упругие мячи и т.п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противодействием партне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овые упражнения выбираются в зависимости от характера задач воспитания силы. Так, для специальной силовой подготовки пловца лучше подойдет упражнение с эластическими приспособлениями, чем с отягощениями типа гантелей. В регби для игроков линии нападения лучше применять упражнения с сопротивлением и т.п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2"/>
          <p:cNvSpPr/>
          <p:nvPr/>
        </p:nvSpPr>
        <p:spPr>
          <a:xfrm>
            <a:off x="3071880" y="1928880"/>
            <a:ext cx="271440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Verdana"/>
              </a:rPr>
              <a:t>Методы развития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3"/>
          <p:cNvSpPr/>
          <p:nvPr/>
        </p:nvSpPr>
        <p:spPr>
          <a:xfrm>
            <a:off x="428760" y="428760"/>
            <a:ext cx="2928600" cy="17143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максимальных ус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4"/>
          <p:cNvSpPr/>
          <p:nvPr/>
        </p:nvSpPr>
        <p:spPr>
          <a:xfrm>
            <a:off x="5500800" y="571680"/>
            <a:ext cx="2999880" cy="19285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епредельных усилий с нормированным кол-вом повт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5"/>
          <p:cNvSpPr/>
          <p:nvPr/>
        </p:nvSpPr>
        <p:spPr>
          <a:xfrm>
            <a:off x="1071720" y="3643200"/>
            <a:ext cx="3571560" cy="20714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непредельных усилий с 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MAX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количеством повто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7"/>
          <p:cNvCxnSpPr>
            <a:stCxn id="190" idx="1"/>
            <a:endCxn id="191" idx="5"/>
          </p:cNvCxnSpPr>
          <p:nvPr/>
        </p:nvCxnSpPr>
        <p:spPr>
          <a:xfrm flipH="1" flipV="1">
            <a:off x="2928600" y="1892160"/>
            <a:ext cx="540360" cy="2559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5" name="Прямая со стрелкой 9"/>
          <p:cNvCxnSpPr>
            <a:stCxn id="190" idx="6"/>
          </p:cNvCxnSpPr>
          <p:nvPr/>
        </p:nvCxnSpPr>
        <p:spPr>
          <a:xfrm flipV="1">
            <a:off x="5786280" y="2500200"/>
            <a:ext cx="857520" cy="1782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6" name="Прямая со стрелкой 11"/>
          <p:cNvCxnSpPr>
            <a:stCxn id="190" idx="3"/>
            <a:endCxn id="193" idx="0"/>
          </p:cNvCxnSpPr>
          <p:nvPr/>
        </p:nvCxnSpPr>
        <p:spPr>
          <a:xfrm flipH="1">
            <a:off x="2857320" y="3209760"/>
            <a:ext cx="611640" cy="4338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максимальных усил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183160" cy="4642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Вес до 100% и более кол-во повторений 1-3 раза,кол-во подходов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ы с незначительным приростом мышечной массы.Вес 90-95%,повторений 5-6,подходы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временное увеличение силы и мышечной массы.Вес 85-90%,повторений 5-6,подходов 3-6,отдых 2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476640"/>
            <a:ext cx="8183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Метод</a:t>
            </a:r>
            <a:r>
              <a:rPr b="1" lang="en-US" sz="31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непредельных усилий с нормированным кол-вом повторений</a:t>
            </a:r>
            <a:br>
              <a:rPr sz="36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2000"/>
          </a:bodyPr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увеличение массы с одновременным приросто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 Вес 80-85%,повторений 8-10,серий 3-6,отдых 2-8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ьшение жирового компонента и совершенствование силовой выносливости.Вес 50-70%,повторений 15-30,серий 3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и рельефа мышц.Вес 30-60%,повторений 50-100,серий 2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3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непредельных усилий с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X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количеством повторен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397360" cy="4659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анаэробная производительность. Вес 30-70%,повторений до отказа,подходов 2-4,отдых 5-10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(гликолитической емкости).Вес 20-60%,повторений до отказа,серий 2-4,отдых 1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818316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ые способности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 — это комплекс различных проявлений человека в определенной двигательной деятельности, в основе которых лежит понятие «сила»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how-to-buy-pull-up-bar.jpg"/>
          <p:cNvPicPr/>
          <p:nvPr/>
        </p:nvPicPr>
        <p:blipFill>
          <a:blip r:embed="rId1"/>
          <a:stretch/>
        </p:blipFill>
        <p:spPr>
          <a:xfrm>
            <a:off x="3852000" y="3501000"/>
            <a:ext cx="4217400" cy="242640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Овал 2"/>
          <p:cNvSpPr/>
          <p:nvPr/>
        </p:nvSpPr>
        <p:spPr>
          <a:xfrm>
            <a:off x="2857680" y="2709000"/>
            <a:ext cx="3370320" cy="17197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кторы влияющие на проявление силовых спосо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3"/>
          <p:cNvSpPr/>
          <p:nvPr/>
        </p:nvSpPr>
        <p:spPr>
          <a:xfrm>
            <a:off x="2357280" y="642960"/>
            <a:ext cx="2571480" cy="12855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обственно мыше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715000" y="785880"/>
            <a:ext cx="2571480" cy="13568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центрально-нер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643800" y="2565000"/>
            <a:ext cx="1888560" cy="1149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мех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6"/>
          <p:cNvSpPr/>
          <p:nvPr/>
        </p:nvSpPr>
        <p:spPr>
          <a:xfrm>
            <a:off x="1071720" y="4429080"/>
            <a:ext cx="2571480" cy="1428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личностно-псих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755640" y="2214720"/>
            <a:ext cx="1672920" cy="99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6143760" y="4429080"/>
            <a:ext cx="2388600" cy="144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физиолог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12"/>
          <p:cNvCxnSpPr>
            <a:stCxn id="137" idx="0"/>
            <a:endCxn id="138" idx="4"/>
          </p:cNvCxnSpPr>
          <p:nvPr/>
        </p:nvCxnSpPr>
        <p:spPr>
          <a:xfrm flipH="1" flipV="1">
            <a:off x="3643200" y="1928520"/>
            <a:ext cx="900000" cy="7804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5" name="Прямая со стрелкой 14"/>
          <p:cNvCxnSpPr>
            <a:stCxn id="137" idx="7"/>
            <a:endCxn id="139" idx="3"/>
          </p:cNvCxnSpPr>
          <p:nvPr/>
        </p:nvCxnSpPr>
        <p:spPr>
          <a:xfrm flipV="1">
            <a:off x="5734440" y="1944000"/>
            <a:ext cx="357480" cy="1017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6" name="Прямая со стрелкой 16"/>
          <p:cNvCxnSpPr>
            <a:stCxn id="137" idx="6"/>
            <a:endCxn id="140" idx="3"/>
          </p:cNvCxnSpPr>
          <p:nvPr/>
        </p:nvCxnSpPr>
        <p:spPr>
          <a:xfrm flipV="1">
            <a:off x="6228000" y="3546000"/>
            <a:ext cx="692640" cy="230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7" name="Прямая со стрелкой 18"/>
          <p:cNvCxnSpPr>
            <a:endCxn id="143" idx="1"/>
          </p:cNvCxnSpPr>
          <p:nvPr/>
        </p:nvCxnSpPr>
        <p:spPr>
          <a:xfrm>
            <a:off x="5715000" y="4143240"/>
            <a:ext cx="778680" cy="4982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8" name="Прямая со стрелкой 20"/>
          <p:cNvCxnSpPr>
            <a:stCxn id="137" idx="3"/>
            <a:endCxn id="141" idx="0"/>
          </p:cNvCxnSpPr>
          <p:nvPr/>
        </p:nvCxnSpPr>
        <p:spPr>
          <a:xfrm flipH="1">
            <a:off x="2357280" y="4177080"/>
            <a:ext cx="993960" cy="2523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9" name="Прямая со стрелкой 22"/>
          <p:cNvCxnSpPr>
            <a:stCxn id="137" idx="2"/>
            <a:endCxn id="142" idx="5"/>
          </p:cNvCxnSpPr>
          <p:nvPr/>
        </p:nvCxnSpPr>
        <p:spPr>
          <a:xfrm flipH="1" flipV="1">
            <a:off x="2183760" y="3066480"/>
            <a:ext cx="673920" cy="5025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92036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1.Собственно мышечны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340640"/>
            <a:ext cx="7704360" cy="427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49120" indent="-249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собственно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ышечным фактора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относят: сократительные свойства мышц, которые зависят от соотношения белых (относительно быстро сокращающихся) и красных (относительно медленно сокращающихся) мышечных волокон; активность ферментов мышечного сокращения; мощность механизмов анаэробного энергообеспечения мышечной работы; физиологический поперечник и массу мышц; качество межмышечной координа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2.Центрально-нервны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412640"/>
            <a:ext cx="6519960" cy="45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центрально-нер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состоит в интенсивности (частоте) эффекторных импульсов, посылаемых к мышцам, в координации их сокращений и расслаблений, трофическом влиянии центральной нервной системы на их функ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4" descr="8aab490301.jpg"/>
          <p:cNvPicPr/>
          <p:nvPr/>
        </p:nvPicPr>
        <p:blipFill>
          <a:blip r:embed="rId1"/>
          <a:stretch/>
        </p:blipFill>
        <p:spPr>
          <a:xfrm>
            <a:off x="7008120" y="4365000"/>
            <a:ext cx="1563840" cy="1563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04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3.Биомеханические,биохимичес-кие и физиологические факторы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3.Биомеханические,биохимичес-кие и физиологические факторы. 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ное влияние на проявление силовых способностей 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механ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расположение тела и его частей в пространстве, прочность звеньев опорно-двигательного аппарата, величина перемещаемых масс и др.),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хим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ормональные) и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изиолог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особенности функционирования периферического и центрального кровообращения, дыхания и др.)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ак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4.Личностно-психические.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340640"/>
            <a:ext cx="8183160" cy="391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ичностно-психически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зависит готовность человека к проявлению мышечных усилий. Они включают в себя мотивационные и волевые компоненты, а также эмоциональные процессы, способствующие проявлению максимальных либо интенсивных и длительных мышечных напряжен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15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Различают собственно силовые способности и их соединение с другими физическими способностями (скоростно-силовые, силовая ловкость, силовая выносливость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1291321391_creative_graphic_in_wallpapers_10_26.jpg"/>
          <p:cNvPicPr/>
          <p:nvPr/>
        </p:nvPicPr>
        <p:blipFill>
          <a:blip r:embed="rId1"/>
          <a:stretch/>
        </p:blipFill>
        <p:spPr>
          <a:xfrm>
            <a:off x="2617200" y="3429000"/>
            <a:ext cx="4383360" cy="242856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40</TotalTime>
  <Application>LibreOffice/7.4.7.2$Linux_X86_64 LibreOffice_project/40$Build-2</Application>
  <AppVersion>15.0000</AppVersion>
  <Words>859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1T12:19:47Z</dcterms:created>
  <dc:creator>Nastya</dc:creator>
  <dc:description/>
  <dc:language>en-US</dc:language>
  <cp:lastModifiedBy>ASER</cp:lastModifiedBy>
  <dcterms:modified xsi:type="dcterms:W3CDTF">2020-11-15T08:31:3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