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9AD-96BF-4B1A-922C-A4A73B20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4A7-1E93-42EE-8EF9-6138993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832-0E00-4BF2-8D61-A5FF556F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9DF-EB79-4AEC-B700-A1DC578F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EFCC-6246-4A37-8756-AFD3331B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732E-425D-40BF-A455-973DD4F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584-6A59-41EE-946B-152CB2D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EC4E-54DE-4BAD-ADFD-22BA1FF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0FA-548B-41A2-8936-7FF5C7C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1CC-7C83-4386-A8F6-C0FEEC9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9DA-1792-463E-9FD9-7FF57FC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8A7-F133-477A-AB0B-0074389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E5A4-5828-4880-B404-43EA23C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0AB-D567-4F8C-B232-9CEA577F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97EB-E3B5-47DE-A485-9424E5FC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DD5E-59BF-4E81-88D5-818B174D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553-D737-41F2-A35D-71A5A968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28E7-3930-4365-B9CF-C1B39D52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A31A-5350-4761-B5A2-EC10273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79EE-8B65-45ED-8BF3-82F62B9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CCC9-8660-479F-B858-B21358C1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9D74-93A9-4E71-A6F4-C4C8A425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DD5-64E6-4D95-8A7F-54B636C1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A874-7D04-442F-8ECB-99AE8D8B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86F9-9E6B-4544-B280-4536B47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47AE-805F-4F7E-90AB-F06278F4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4104-4892-4FEA-AABD-58C2FB76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F8D7-D910-4987-AE52-BA2BEB7B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017C-EA31-494A-A954-ACF0F578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46C2-2B5E-4528-9E10-BEFA6730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B08-1D7A-4A80-8901-AFCCAE13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352-7E67-4DCD-A007-34CF7212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17A-C1F2-4B16-A970-D197B950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82A-E3C0-469B-9394-2EF68A4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529-6CF1-40D6-B392-340F79F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6AD4-0D2E-4AA7-A942-294C4854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A58DFA-05B4-432F-BA80-15C6FC4FD827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360"/>
            <a:ext cx="818316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EDD990-7C3C-439B-8C72-6CE649ECFF29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6"/>
          <p:cNvSpPr/>
          <p:nvPr/>
        </p:nvSpPr>
        <p:spPr>
          <a:xfrm>
            <a:off x="304920" y="328680"/>
            <a:ext cx="8532360" cy="619740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001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100000"/>
              </a:lnSpc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66EAC3-83FC-40DD-9681-0F84B8B188FF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932000" y="4724280"/>
            <a:ext cx="39225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Verdana"/>
              </a:rPr>
              <a:t>Преподаватель: Бибичева О.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971640" y="1052640"/>
            <a:ext cx="7272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/>
                </a:solidFill>
                <a:latin typeface="Arial Black"/>
              </a:rPr>
              <a:t>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2"/>
                </a:solidFill>
                <a:latin typeface="Arial Black"/>
              </a:rPr>
              <a:t>Основы методики  ее вос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755640" y="3141000"/>
            <a:ext cx="2198880" cy="32324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обственно силовые способ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являются: 1) при относительно медленных сокращениях мышц, в упражнениях, выполняемых с околопредельными, предельными отягощениями (например, при приседаниях со штангой достаточно большого веса); 2) при мышечных напряжениях изометрического (статического) типа (без изменения длины мышцы). В соответствии с этим различают медленную силу и статическую силу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4827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питание собственно силовых способност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может быть направлено на развитие максимальной силы (тяжелая атлетика, гиревой спорт, силовая акробатика, легкоатлетические метания  и др.); общее укрепление опорно-двигательного аппарата занимающихся, необходимое во всех видах спорта (общая сила) и строительства тела (бодибилдинг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4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коростно-силовые способност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534520" cy="5238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арактеризуются непредельными напряжениями мышц, проявляемыми с необходимой, часто максимальной мощностью в упражнениях, выполняемых со значительной скоростью, но не достигающей, как правило, предельной величины. Они проявляются в двигательных действиях, в которых наряду со значительной силой мышц требуется и быстрота движений (например, отталкивание в  прыжках в длину и в высоту с места и с разбега, финальное усилие при метании спортивных снарядов и т.п.). При этом чем значительнее внешнее отягощение, преодолеваемое спортсменом (например, при подъеме штанги на грудь), тем большую роль играет силовой компонент, а при меньшем отягощении (например, при метании копья) возрастает значимость скоростного компонента.</a:t>
            </a:r>
            <a:endParaRPr b="0" lang="ru-RU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2"/>
          <p:cNvSpPr/>
          <p:nvPr/>
        </p:nvSpPr>
        <p:spPr>
          <a:xfrm>
            <a:off x="3071880" y="2500200"/>
            <a:ext cx="2785680" cy="157140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коростно-силов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"/>
          <p:cNvSpPr/>
          <p:nvPr/>
        </p:nvSpPr>
        <p:spPr>
          <a:xfrm>
            <a:off x="571680" y="500040"/>
            <a:ext cx="2571480" cy="14997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ыстр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"/>
          <p:cNvSpPr/>
          <p:nvPr/>
        </p:nvSpPr>
        <p:spPr>
          <a:xfrm>
            <a:off x="5715000" y="4286160"/>
            <a:ext cx="2928600" cy="157140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Взрывн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6"/>
          <p:cNvCxnSpPr>
            <a:stCxn id="166" idx="1"/>
            <a:endCxn id="167" idx="5"/>
          </p:cNvCxnSpPr>
          <p:nvPr/>
        </p:nvCxnSpPr>
        <p:spPr>
          <a:xfrm flipH="1" flipV="1">
            <a:off x="2766960" y="1780920"/>
            <a:ext cx="713160" cy="94968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70" name="Прямая со стрелкой 8"/>
          <p:cNvCxnSpPr>
            <a:stCxn id="166" idx="5"/>
            <a:endCxn id="168" idx="1"/>
          </p:cNvCxnSpPr>
          <p:nvPr/>
        </p:nvCxnSpPr>
        <p:spPr>
          <a:xfrm>
            <a:off x="5449680" y="3841560"/>
            <a:ext cx="694080" cy="6750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8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Быстрая сил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183160" cy="221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ся непредельным напряжением мышц, проявляемым в упражнениях, которые выполняются со значительной скоростью, не достигающей предельной величины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Рисунок 3" descr="0a2fsWtVy9Q.jpg"/>
          <p:cNvPicPr/>
          <p:nvPr/>
        </p:nvPicPr>
        <p:blipFill>
          <a:blip r:embed="rId1"/>
          <a:stretch/>
        </p:blipFill>
        <p:spPr>
          <a:xfrm>
            <a:off x="5000760" y="3639240"/>
            <a:ext cx="3459600" cy="2305800"/>
          </a:xfrm>
          <a:prstGeom prst="rect">
            <a:avLst/>
          </a:prstGeom>
          <a:ln w="9525">
            <a:noFill/>
          </a:ln>
        </p:spPr>
      </p:pic>
      <p:pic>
        <p:nvPicPr>
          <p:cNvPr id="174" name="Рисунок 4" descr="motivator-31663.jpg"/>
          <p:cNvPicPr/>
          <p:nvPr/>
        </p:nvPicPr>
        <p:blipFill>
          <a:blip r:embed="rId2"/>
          <a:stretch/>
        </p:blipFill>
        <p:spPr>
          <a:xfrm>
            <a:off x="683640" y="3717000"/>
            <a:ext cx="3639960" cy="2364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Взрывная сил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484640"/>
            <a:ext cx="846900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способность человека по ходу выполнения двигательного действия достигать максимальных показателей силы в возможно короткое время Взрывная сила характеризуется двумя компонентами: стартовой силой и ускоряющей сило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332640"/>
            <a:ext cx="81831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ая вынослив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183160" cy="45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7000"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пособность противостоять утомлению, вызываемому относительно продолжительными мышечными напряжениями значительной величины. В зависимости от режима работы мышц выделяют статическую и динамическую силовую выносливость. 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Динамическая силовая выносливос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характерна для циклической и ациклической деятельности, а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татическая силовая вынослив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ична для деятельности, связанной с удержанием рабочего напряжения в определенной поз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404640"/>
            <a:ext cx="818316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ая ловкость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там, где есть сменный характер режима работы мышц, меняющиеся и непредвиденные ситуации деятельности (регби, борьба,  хоккей с мячом  и др.). Ее можно определить как «способность точно дифференцировать мышечные усилия различной величины в условиях непредвиденных ситуаций и смешанных режимов работы мышц» 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18316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ценки степени развития собственно-силовых способносте различают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олютную силу-это сила проявляемая человеком в каком-либо движен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носительная сила- это сила, проявляемая человеком в пересчете на 1 кг собственного веса. Она выражается отношением максимальной силы к массе тела человек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4000"/>
          </a:bodyPr>
          <a:p>
            <a:pPr marL="269280" indent="-2692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е гармоническое развитие всех мышечных групп опорно-двигательного аппарата человека. Она решается путем использования избирательных силовых упражнений. Здесь важное значение имеют их объем и содержание. Они должны обеспечить пропорциональное развитие различных мышечных групп. Внешне это выражается в соответствующих формах телосложения и осанке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581040" y="412920"/>
            <a:ext cx="8183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3100"/>
            </a:br>
            <a:r>
              <a:rPr b="1" lang="ru-RU" sz="4000" spc="-1" strike="noStrike">
                <a:solidFill>
                  <a:srgbClr val="ff9257"/>
                </a:solidFill>
                <a:latin typeface="Verdana"/>
              </a:rPr>
              <a:t>Задачи развития силовых способност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144280" cy="24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а-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original.jpeg"/>
          <p:cNvPicPr/>
          <p:nvPr/>
        </p:nvPicPr>
        <p:blipFill>
          <a:blip r:embed="rId1"/>
          <a:stretch/>
        </p:blipFill>
        <p:spPr>
          <a:xfrm>
            <a:off x="3204000" y="3141000"/>
            <a:ext cx="5033520" cy="2715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160" cy="5130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7000"/>
          </a:bodyPr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ностороннее развитие силовых способностей в единстве с освоением жизненно важных двигательных действий (умений и навыков). Данная задача предполагает развитие силовых способностей всех основных видов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и возможностей (базы) для дальнейшего совершенствования силовых способностей в рамках занятий конкретным видом спорта или в плане профессионально-прикладной физической подготовк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1831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9257"/>
                </a:solidFill>
                <a:latin typeface="Verdana"/>
              </a:rPr>
              <a:t>Основные средства воспитания силы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0040" y="1340640"/>
            <a:ext cx="8183160" cy="508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70000"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весом внешних предметов: штанги с набором дисков разного веса, разборные гантели, гири, набивные мячи, вес партнера и т.д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, отягощенные весом собственного тела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упражнения, в которых мышечное напряжение создается за счет веса собственного тела (подтягивание в висе, отжимания в упоре, удержание равновесия в упоре, в висе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упражнения, в которых собственный вес отягощается весом внешних предметов (например, специальные пояса, манжеты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упражнения, в которых собственный вес уменьшается за счет использования дополнительной опоры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ударные упражнения, в которых собственный вес увеличивается за счет инерции свободно падающего тела (например, прыжки с возвышения 25—70 см и более с мгновенным последующим выпрыгиванием вверх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18316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ывково-тормозные упражнения. Их особенность заключается в быстрой смене напряжений при работе мышц-синергистов и мышц-антагонистов во время локальных и региональных упражнений с дополнительным отягощением и без них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тические упражнения в изометрическом режиме (изометрические упражнения)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в которых мышечное напряжение создается за счет волевых усилий с использованием внешних предметов (различные упоры, удержания, поддержания, противодействия и т.п.)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в которых мышечное напряжение создается за счет волевых усилий без использования внешних предметов в самосопротивлен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5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Дополнительные средства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183160" cy="47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76000"/>
          </a:bodyPr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использованием внешней среды (бег и прыжки по рыхлому песку, бег и прыжки в гору, бег против ветра и т.д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использованием сопротивления упругих предметов (эспандеры, резиновые жгуты, упругие мячи и т.п.)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59920" indent="-259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жнения с противодействием партне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овые упражнения выбираются в зависимости от характера задач воспитания силы. Так, для специальной силовой подготовки пловца лучше подойдет упражнение с эластическими приспособлениями, чем с отягощениями типа гантелей. В регби для игроков линии нападения лучше применять упражнения с сопротивлением и т.п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2"/>
          <p:cNvSpPr/>
          <p:nvPr/>
        </p:nvSpPr>
        <p:spPr>
          <a:xfrm>
            <a:off x="3071880" y="1928880"/>
            <a:ext cx="2714400" cy="14997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Verdana"/>
              </a:rPr>
              <a:t>Методы развития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3"/>
          <p:cNvSpPr/>
          <p:nvPr/>
        </p:nvSpPr>
        <p:spPr>
          <a:xfrm>
            <a:off x="428760" y="428760"/>
            <a:ext cx="2928600" cy="17143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 максимальных уси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4"/>
          <p:cNvSpPr/>
          <p:nvPr/>
        </p:nvSpPr>
        <p:spPr>
          <a:xfrm>
            <a:off x="5500800" y="571680"/>
            <a:ext cx="2999880" cy="19285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</a:t>
            </a:r>
            <a:r>
              <a:rPr b="0" lang="en-US" sz="1800" spc="-1" strike="noStrike">
                <a:solidFill>
                  <a:schemeClr val="lt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епредельных усилий с нормированным кол-вом повто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5"/>
          <p:cNvSpPr/>
          <p:nvPr/>
        </p:nvSpPr>
        <p:spPr>
          <a:xfrm>
            <a:off x="1071720" y="3643200"/>
            <a:ext cx="3571560" cy="207144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Метод непредельных усилий с </a:t>
            </a:r>
            <a:r>
              <a:rPr b="0" lang="en-US" sz="1800" spc="-1" strike="noStrike">
                <a:solidFill>
                  <a:schemeClr val="lt1"/>
                </a:solidFill>
                <a:latin typeface="Verdana"/>
              </a:rPr>
              <a:t>MAX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 количеством повто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7"/>
          <p:cNvCxnSpPr>
            <a:stCxn id="190" idx="1"/>
            <a:endCxn id="191" idx="5"/>
          </p:cNvCxnSpPr>
          <p:nvPr/>
        </p:nvCxnSpPr>
        <p:spPr>
          <a:xfrm flipH="1" flipV="1">
            <a:off x="2928600" y="1892160"/>
            <a:ext cx="540360" cy="2559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95" name="Прямая со стрелкой 9"/>
          <p:cNvCxnSpPr>
            <a:stCxn id="190" idx="6"/>
          </p:cNvCxnSpPr>
          <p:nvPr/>
        </p:nvCxnSpPr>
        <p:spPr>
          <a:xfrm flipV="1">
            <a:off x="5786280" y="2500200"/>
            <a:ext cx="857520" cy="1782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96" name="Прямая со стрелкой 11"/>
          <p:cNvCxnSpPr>
            <a:stCxn id="190" idx="3"/>
            <a:endCxn id="193" idx="0"/>
          </p:cNvCxnSpPr>
          <p:nvPr/>
        </p:nvCxnSpPr>
        <p:spPr>
          <a:xfrm flipH="1">
            <a:off x="2857320" y="3209760"/>
            <a:ext cx="611640" cy="4338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183160" cy="86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Метод максимальных усили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357200"/>
            <a:ext cx="8183160" cy="4642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7000"/>
          </a:bodyPr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енное развити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лы.Вес до 100% и более кол-во повторений 1-3 раза,кол-во подходов 2-5,отдых 2-5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ы с незначительным приростом мышечной массы.Вес 90-95%,повторений 5-6,подходы 2-5,отдых 2-5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77920" indent="-277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временное увеличение силы и мышечной массы.Вес 85-90%,повторений 5-6,подходов 3-6,отдых 2-3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476640"/>
            <a:ext cx="8183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>
                <a:solidFill>
                  <a:srgbClr val="ff9257"/>
                </a:solidFill>
                <a:latin typeface="Verdana"/>
              </a:rPr>
              <a:t>Метод</a:t>
            </a:r>
            <a:r>
              <a:rPr b="1" lang="en-US" sz="31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100" spc="-1" strike="noStrike">
                <a:solidFill>
                  <a:srgbClr val="ff9257"/>
                </a:solidFill>
                <a:latin typeface="Verdana"/>
              </a:rPr>
              <a:t>непредельных усилий с нормированным кол-вом повторений</a:t>
            </a:r>
            <a:br>
              <a:rPr sz="36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92000"/>
          </a:bodyPr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енное увеличение массы с одновременным приростом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илы. Вес 80-85%,повторений 8-10,серий 3-6,отдых 2-8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ьшение жирового компонента и совершенствование силовой выносливости.Вес 50-70%,повторений 15-30,серий 3-6,отдых 5-6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и рельефа мышц.Вес 30-60%,повторений 50-100,серий 2-6,отдых 5-6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3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Метод непредельных усилий с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X</a:t>
            </a: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 количеством повторени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1412640"/>
            <a:ext cx="8397360" cy="4659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анаэробная производительность. Вес 30-70%,повторений до отказа,подходов 2-4,отдых 5-10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ствование силовой выносливости (гликолитической емкости).Вес 20-60%,повторений до отказа,серий 2-4,отдых 1-3 мин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48640"/>
            <a:ext cx="818316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Силовые способности</a:t>
            </a: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 — это комплекс различных проявлений человека в определенной двигательной деятельности, в основе которых лежит понятие «сила»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how-to-buy-pull-up-bar.jpg"/>
          <p:cNvPicPr/>
          <p:nvPr/>
        </p:nvPicPr>
        <p:blipFill>
          <a:blip r:embed="rId1"/>
          <a:stretch/>
        </p:blipFill>
        <p:spPr>
          <a:xfrm>
            <a:off x="3852000" y="3501000"/>
            <a:ext cx="4217400" cy="242640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Овал 2"/>
          <p:cNvSpPr/>
          <p:nvPr/>
        </p:nvSpPr>
        <p:spPr>
          <a:xfrm>
            <a:off x="2857680" y="2709000"/>
            <a:ext cx="3370320" cy="17197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Факторы влияющие на проявление силовых способ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3"/>
          <p:cNvSpPr/>
          <p:nvPr/>
        </p:nvSpPr>
        <p:spPr>
          <a:xfrm>
            <a:off x="2357280" y="642960"/>
            <a:ext cx="2571480" cy="128556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собственно мыше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5715000" y="785880"/>
            <a:ext cx="2571480" cy="135684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центрально-нер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"/>
          <p:cNvSpPr/>
          <p:nvPr/>
        </p:nvSpPr>
        <p:spPr>
          <a:xfrm>
            <a:off x="6643800" y="2565000"/>
            <a:ext cx="1888560" cy="114948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иомеха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6"/>
          <p:cNvSpPr/>
          <p:nvPr/>
        </p:nvSpPr>
        <p:spPr>
          <a:xfrm>
            <a:off x="1071720" y="4429080"/>
            <a:ext cx="2571480" cy="142848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личностно-псих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755640" y="2214720"/>
            <a:ext cx="1672920" cy="9979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биохи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8"/>
          <p:cNvSpPr/>
          <p:nvPr/>
        </p:nvSpPr>
        <p:spPr>
          <a:xfrm>
            <a:off x="6143760" y="4429080"/>
            <a:ext cx="2388600" cy="1447920"/>
          </a:xfrm>
          <a:prstGeom prst="ellipse">
            <a:avLst/>
          </a:prstGeom>
          <a:solidFill>
            <a:srgbClr val="f07f09"/>
          </a:solidFill>
          <a:ln>
            <a:solidFill>
              <a:srgbClr val="b15d0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физиологическ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Прямая со стрелкой 12"/>
          <p:cNvCxnSpPr>
            <a:stCxn id="137" idx="0"/>
            <a:endCxn id="138" idx="4"/>
          </p:cNvCxnSpPr>
          <p:nvPr/>
        </p:nvCxnSpPr>
        <p:spPr>
          <a:xfrm flipH="1" flipV="1">
            <a:off x="3643200" y="1928520"/>
            <a:ext cx="900000" cy="78048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5" name="Прямая со стрелкой 14"/>
          <p:cNvCxnSpPr>
            <a:stCxn id="137" idx="7"/>
            <a:endCxn id="139" idx="3"/>
          </p:cNvCxnSpPr>
          <p:nvPr/>
        </p:nvCxnSpPr>
        <p:spPr>
          <a:xfrm flipV="1">
            <a:off x="5734440" y="1944000"/>
            <a:ext cx="357480" cy="101700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6" name="Прямая со стрелкой 16"/>
          <p:cNvCxnSpPr>
            <a:stCxn id="137" idx="6"/>
            <a:endCxn id="140" idx="3"/>
          </p:cNvCxnSpPr>
          <p:nvPr/>
        </p:nvCxnSpPr>
        <p:spPr>
          <a:xfrm flipV="1">
            <a:off x="6228000" y="3546000"/>
            <a:ext cx="692640" cy="2304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7" name="Прямая со стрелкой 18"/>
          <p:cNvCxnSpPr>
            <a:endCxn id="143" idx="1"/>
          </p:cNvCxnSpPr>
          <p:nvPr/>
        </p:nvCxnSpPr>
        <p:spPr>
          <a:xfrm>
            <a:off x="5715000" y="4143240"/>
            <a:ext cx="778680" cy="49824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8" name="Прямая со стрелкой 20"/>
          <p:cNvCxnSpPr>
            <a:stCxn id="137" idx="3"/>
            <a:endCxn id="141" idx="0"/>
          </p:cNvCxnSpPr>
          <p:nvPr/>
        </p:nvCxnSpPr>
        <p:spPr>
          <a:xfrm flipH="1">
            <a:off x="2357280" y="4177080"/>
            <a:ext cx="993960" cy="2523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  <p:cxnSp>
        <p:nvCxnSpPr>
          <p:cNvPr id="149" name="Прямая со стрелкой 22"/>
          <p:cNvCxnSpPr>
            <a:stCxn id="137" idx="2"/>
            <a:endCxn id="142" idx="5"/>
          </p:cNvCxnSpPr>
          <p:nvPr/>
        </p:nvCxnSpPr>
        <p:spPr>
          <a:xfrm flipH="1" flipV="1">
            <a:off x="2183760" y="3066480"/>
            <a:ext cx="673920" cy="502560"/>
          </a:xfrm>
          <a:prstGeom prst="straightConnector1">
            <a:avLst/>
          </a:prstGeom>
          <a:ln>
            <a:solidFill>
              <a:srgbClr val="f97f00"/>
            </a:solidFill>
            <a:round/>
            <a:tailEnd len="med" type="arrow" w="med"/>
          </a:ln>
        </p:spPr>
      </p:cxn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920360" cy="5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1.Собственно мышечны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340640"/>
            <a:ext cx="7704360" cy="427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7000"/>
          </a:bodyPr>
          <a:p>
            <a:pPr marL="249120" indent="-249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собственно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ышечным фактора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относят: сократительные свойства мышц, которые зависят от соотношения белых (относительно быстро сокращающихся) и красных (относительно медленно сокращающихся) мышечных волокон; активность ферментов мышечного сокращения; мощность механизмов анаэробного энергообеспечения мышечной работы; физиологический поперечник и массу мышц; качество межмышечной координац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8316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2.Центрально-нервные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0040" y="1412640"/>
            <a:ext cx="6519960" cy="453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ть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центрально-нер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состоит в интенсивности (частоте) эффекторных импульсов, посылаемых к мышцам, в координации их сокращений и расслаблений, трофическом влиянии центральной нервной системы на их функции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Рисунок 4" descr="8aab490301.jpg"/>
          <p:cNvPicPr/>
          <p:nvPr/>
        </p:nvPicPr>
        <p:blipFill>
          <a:blip r:embed="rId1"/>
          <a:stretch/>
        </p:blipFill>
        <p:spPr>
          <a:xfrm>
            <a:off x="7008120" y="4365000"/>
            <a:ext cx="1563840" cy="156384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704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3.Биомеханические,биохимичес-кие и физиологические факторы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 </a:t>
            </a:r>
            <a:r>
              <a:rPr b="1" lang="ru-RU" sz="31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3.Биомеханические,биохимичес-кие и физиологические факторы. 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183160" cy="4187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ное влияние на проявление силовых способностей 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омехан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(расположение тела и его частей в пространстве, прочность звеньев опорно-двигательного аппарата, величина перемещаемых масс и др.),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иохим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ормональные) и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физиологическ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(особенности функционирования периферического и центрального кровообращения, дыхания и др.)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факто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476640"/>
            <a:ext cx="818316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7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100" spc="-1" strike="noStrike">
                <a:solidFill>
                  <a:schemeClr val="accent1">
                    <a:lumMod val="75000"/>
                  </a:schemeClr>
                </a:solidFill>
                <a:latin typeface="Verdana"/>
              </a:rPr>
              <a:t>4.Личностно-психические.</a:t>
            </a:r>
            <a:br>
              <a:rPr sz="31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340640"/>
            <a:ext cx="8183160" cy="391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2880" tIns="9144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 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личностно-психически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зависит готовность человека к проявлению мышечных усилий. Они включают в себя мотивационные и волевые компоненты, а также эмоциональные процессы, способствующие проявлению максимальных либо интенсивных и длительных мышечных напряжений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15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9257"/>
                </a:solidFill>
                <a:latin typeface="Verdana"/>
              </a:rPr>
              <a:t>Различают собственно силовые способности и их соединение с другими физическими способностями (скоростно-силовые, силовая ловкость, силовая выносливость)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1291321391_creative_graphic_in_wallpapers_10_26.jpg"/>
          <p:cNvPicPr/>
          <p:nvPr/>
        </p:nvPicPr>
        <p:blipFill>
          <a:blip r:embed="rId1"/>
          <a:stretch/>
        </p:blipFill>
        <p:spPr>
          <a:xfrm>
            <a:off x="2617200" y="3429000"/>
            <a:ext cx="4383360" cy="2428560"/>
          </a:xfrm>
          <a:prstGeom prst="rect">
            <a:avLst/>
          </a:prstGeom>
          <a:ln w="9525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40</TotalTime>
  <Application>LibreOffice/7.4.7.2$Linux_X86_64 LibreOffice_project/40$Build-2</Application>
  <AppVersion>15.0000</AppVersion>
  <Words>859</Words>
  <Paragraphs>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31T12:19:47Z</dcterms:created>
  <dc:creator>Nastya</dc:creator>
  <dc:description/>
  <dc:language>en-US</dc:language>
  <cp:lastModifiedBy>ASER</cp:lastModifiedBy>
  <dcterms:modified xsi:type="dcterms:W3CDTF">2020-11-15T08:31:3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7</vt:r8>
  </property>
</Properties>
</file>