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096A-9157-4F85-B1FE-5D155B22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539B-F600-4C56-AED9-5BC4364C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F3CC-8933-4BFC-8B42-5945A5E9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487-00A9-4EAA-B8CE-9062131C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AB8B-9B2D-4649-A482-B26CDC8C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B910-892C-4AF3-99BC-A612F44D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676F-9F7D-4194-B7B7-12756DAB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47C9-10F9-458D-BED1-FACDD200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700A-EE0F-40F0-997C-1201454A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E3C6-847F-4B69-9B19-04964DFA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2C8A-78F4-419A-AD53-285FC842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D4F7-04F1-46D3-A227-C51D88B4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76B1-F0D7-44BB-9F36-D26E4BB9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7F42-EA6C-4AFF-B7C9-34509E20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7532-10BD-47B5-8F92-239A4696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5F39-2CBD-46FE-8DAC-4A348006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7A11-9EA7-49DB-9DB6-EF4A5C9E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62A0-086D-4EA4-B25C-11805CD8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0C38-77CA-4496-83D3-4E42F697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2EDD-CF19-4CA4-9A0F-81469F8F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C889-AD74-4B54-A835-60C29B7C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E86D-A600-4364-A5C9-30BCEA7E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B4CB-D27C-4B4E-A7D6-DB1FF1A1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8DDC-E355-4769-A32C-1D89856D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14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89120" y="2514600"/>
            <a:ext cx="8915040" cy="226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dt" idx="1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ftr" idx="2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Freeform 6"/>
          <p:cNvSpPr/>
          <p:nvPr/>
        </p:nvSpPr>
        <p:spPr>
          <a:xfrm>
            <a:off x="0" y="4323960"/>
            <a:ext cx="1744200" cy="778320"/>
          </a:xfrm>
          <a:custGeom>
            <a:avLst/>
            <a:gdLst>
              <a:gd name="textAreaLeft" fmla="*/ 0 w 1744200"/>
              <a:gd name="textAreaRight" fmla="*/ 1744560 w 1744200"/>
              <a:gd name="textAreaTop" fmla="*/ 0 h 778320"/>
              <a:gd name="textAreaBottom" fmla="*/ 778680 h 77832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3"/>
          </p:nvPr>
        </p:nvSpPr>
        <p:spPr>
          <a:xfrm>
            <a:off x="531720" y="452952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9F589A-1A11-46E5-96B8-A8400F38E5DE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70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83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11"/>
          <p:cNvSpPr/>
          <p:nvPr/>
        </p:nvSpPr>
        <p:spPr>
          <a:xfrm flipV="1">
            <a:off x="-3960" y="713880"/>
            <a:ext cx="1588320" cy="506880"/>
          </a:xfrm>
          <a:custGeom>
            <a:avLst/>
            <a:gdLst>
              <a:gd name="textAreaLeft" fmla="*/ 0 w 1588320"/>
              <a:gd name="textAreaRight" fmla="*/ 1588680 w 1588320"/>
              <a:gd name="textAreaTop" fmla="*/ 360 h 506880"/>
              <a:gd name="textAreaBottom" fmla="*/ 507600 h 50688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531720" y="78768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17BD73-F550-4E02-B21F-FC40A59051FA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100ing.ru/category/krahmaly/" TargetMode="External"/><Relationship Id="rId2" Type="http://schemas.openxmlformats.org/officeDocument/2006/relationships/hyperlink" Target="https://100ing.ru/product/l-tsistein-kitai/8557/" TargetMode="External"/><Relationship Id="rId3" Type="http://schemas.openxmlformats.org/officeDocument/2006/relationships/hyperlink" Target="https://100ing.ru/category/askorbinovaya-kislota/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0;&#1086;&#1085;&#1092;&#1077;&#1090;&#1072;" TargetMode="External"/><Relationship Id="rId2" Type="http://schemas.openxmlformats.org/officeDocument/2006/relationships/hyperlink" Target="https://ru.wikipedia.org/wiki/&#1048;&#1075;&#1088;&#1091;&#1096;&#1082;&#1072;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22160" y="147960"/>
            <a:ext cx="8990280" cy="448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262626"/>
                </a:solidFill>
                <a:latin typeface="Times New Roman"/>
              </a:rPr>
              <a:t>НОВЫЕ ВИДЫ ТЕХНОЛОГИЧЕСКОГО ОБОРУДОВАНИЯ, ИНВЕНТАРЯ,</a:t>
            </a:r>
            <a:br>
              <a:rPr sz="3500"/>
            </a:br>
            <a:r>
              <a:rPr b="0" lang="ru-RU" sz="3500" spc="-1" strike="noStrike">
                <a:solidFill>
                  <a:srgbClr val="262626"/>
                </a:solidFill>
                <a:latin typeface="Times New Roman"/>
              </a:rPr>
              <a:t>ИНСТРУМЕНТОВ, ПОСУДЫ (КУХОННОЙ,СТОЛОВОЙ), НОВЫХ ВИДАХ СЫРЬЯ, ПРОДУКТОВ.</a:t>
            </a:r>
            <a:endParaRPr b="0" lang="ru-RU" sz="3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297240" y="5996520"/>
            <a:ext cx="8825400" cy="8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ыполнила студентка 2П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стомина С.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660640" y="165600"/>
            <a:ext cx="4850280" cy="456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Гастроемкости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это специальные лотки из металла или других материалов, предназначенные для приготовления пищи в печах, а для также хранения и презентации готовых блюд. Их основное преимущество заключается в том, что расфасованные и подготовленные продукты не нужно перекладывать из одних емкостей в другие на различных этапах приготовления.</a:t>
            </a:r>
            <a:br>
              <a:rPr sz="1800"/>
            </a:br>
            <a:br>
              <a:rPr sz="1800"/>
            </a:b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65" name="Рисунок 3" descr=""/>
          <p:cNvPicPr/>
          <p:nvPr/>
        </p:nvPicPr>
        <p:blipFill>
          <a:blip r:embed="rId1"/>
          <a:stretch/>
        </p:blipFill>
        <p:spPr>
          <a:xfrm>
            <a:off x="2257560" y="3447720"/>
            <a:ext cx="437400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52400" y="5108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Новые виды сырья и продукты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97760" y="1151280"/>
            <a:ext cx="5187240" cy="57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овременные тенденции в хлебобулочном производстве взяли ориентир на здоровье. Хлеб теперь должен быть не только вкусным, но и полезным, например, никаких ингредиентов, провоцирующих набор веса. Традиционный хлеб с румяной корочкой уже не так интересен покупателям, теперь это должен быть еще и здоровый продукт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2560" indent="-3225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Чтобы предложить безопасное и вкусное изделие, производители могут использовать хлебопекарные улучшители - специальные ферменты, улучшающие структуру теста и его органолептические свойства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сего выделяют пять видов: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2560" indent="-3225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комплексные улучшители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2560" indent="-3225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АВы - разнообразные эмульгаторы, которые представляют собой эфирные соединения лимонной, уксусной, молочной кислот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2560" indent="-3225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 u="sng">
                <a:solidFill>
                  <a:srgbClr val="fb4a18"/>
                </a:solidFill>
                <a:uFillTx/>
                <a:latin typeface="Century Gothic"/>
                <a:hlinkClick r:id="rId1"/>
              </a:rPr>
              <a:t>крахмалы модифицированные (Е1404)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2560" indent="-3225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осстановительного действия - тиосульфат натрия, </a:t>
            </a:r>
            <a:r>
              <a:rPr b="0" lang="ru-RU" sz="1800" spc="-1" strike="noStrike" u="sng">
                <a:solidFill>
                  <a:srgbClr val="fc7752"/>
                </a:solidFill>
                <a:uFillTx/>
                <a:latin typeface="Century Gothic"/>
                <a:hlinkClick r:id="rId2"/>
              </a:rPr>
              <a:t>L-цистеин (Е920)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2560" indent="-3225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кислительные - </a:t>
            </a:r>
            <a:r>
              <a:rPr b="0" lang="ru-RU" sz="1800" spc="-1" strike="noStrike" u="sng">
                <a:solidFill>
                  <a:srgbClr val="fc7752"/>
                </a:solidFill>
                <a:uFillTx/>
                <a:latin typeface="Century Gothic"/>
                <a:hlinkClick r:id="rId3"/>
              </a:rPr>
              <a:t>аскорбиновая кислота (Е300)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, перекись кальция (Е930), перекись бензоила (Е928)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68" name="Рисунок 3" descr=""/>
          <p:cNvPicPr/>
          <p:nvPr/>
        </p:nvPicPr>
        <p:blipFill>
          <a:blip r:embed="rId4"/>
          <a:stretch/>
        </p:blipFill>
        <p:spPr>
          <a:xfrm>
            <a:off x="7785360" y="2241720"/>
            <a:ext cx="4416120" cy="292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Новые виды технологического оборудования.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42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10680" indent="-310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500" spc="-1" strike="noStrike">
                <a:solidFill>
                  <a:srgbClr val="404040"/>
                </a:solidFill>
                <a:latin typeface="Century Gothic"/>
              </a:rPr>
              <a:t>Инновационным оборудованием сферы общественного питания является оборудование, отличающееся уникальными, новыми свойствами и качественными характеристиками, позволяющими предприятию достигать желаемых результатов деятельности за счет экономии ресурсов и времени, а также за счет совершенствования технологии производства продукции и обслуживания клиентов.</a:t>
            </a:r>
            <a:endParaRPr b="0" lang="ru-RU" sz="35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>
                <a:solidFill>
                  <a:srgbClr val="262626"/>
                </a:solidFill>
                <a:latin typeface="Century Gothic"/>
              </a:rPr>
              <a:t>Рассмотрим наиболее полезное инновационное оборудование, применяемое в организациях-кафе.</a:t>
            </a:r>
            <a:endParaRPr b="0" lang="ru-RU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Sous-Vide (Сувид)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- представляет собой кулинарную технику, а так же форму медленного приготовления пищи на основе использования точных температур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44" name="Рисунок 3" descr=""/>
          <p:cNvPicPr/>
          <p:nvPr/>
        </p:nvPicPr>
        <p:blipFill>
          <a:blip r:embed="rId1"/>
          <a:stretch/>
        </p:blipFill>
        <p:spPr>
          <a:xfrm>
            <a:off x="10106280" y="3681720"/>
            <a:ext cx="1503720" cy="26661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"/>
          <p:cNvPicPr/>
          <p:nvPr/>
        </p:nvPicPr>
        <p:blipFill>
          <a:blip r:embed="rId2"/>
          <a:stretch/>
        </p:blipFill>
        <p:spPr>
          <a:xfrm>
            <a:off x="4994280" y="3786480"/>
            <a:ext cx="4554360" cy="25603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5" descr=""/>
          <p:cNvPicPr/>
          <p:nvPr/>
        </p:nvPicPr>
        <p:blipFill>
          <a:blip r:embed="rId3"/>
          <a:stretch/>
        </p:blipFill>
        <p:spPr>
          <a:xfrm>
            <a:off x="2589120" y="3683160"/>
            <a:ext cx="1994400" cy="26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455920" y="226440"/>
            <a:ext cx="6916320" cy="63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Функции сувида: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Разогрев воды до нужной температуры;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акуумирует продукт;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иготовление блюда при точной температуре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еимущества технологии Сувид: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охраняется насыщенный и естественный вкус пищи;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цвет, внешний вид и свежесть сохраняются не именными до самой подачи;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охраняются питательные вещества;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ища не уваривается и не ужаривается, сохраняет сочность;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более продолжительный срок хранения;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начительная экономия при минимальных затратах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48" name="Рисунок 3" descr=""/>
          <p:cNvPicPr/>
          <p:nvPr/>
        </p:nvPicPr>
        <p:blipFill>
          <a:blip r:embed="rId1"/>
          <a:stretch/>
        </p:blipFill>
        <p:spPr>
          <a:xfrm>
            <a:off x="9372600" y="95760"/>
            <a:ext cx="2651400" cy="26514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4" descr=""/>
          <p:cNvPicPr/>
          <p:nvPr/>
        </p:nvPicPr>
        <p:blipFill>
          <a:blip r:embed="rId2"/>
          <a:stretch/>
        </p:blipFill>
        <p:spPr>
          <a:xfrm>
            <a:off x="9372600" y="3270240"/>
            <a:ext cx="265140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335400" y="775080"/>
            <a:ext cx="42408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    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Пакоджет (льдомиксер)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- представляет собой технологию молекулярной кухни, заключающуюся в том, что продукция подверженная глубокой заморозке (до – 22 °С) в течение суток, превращается в мелкотекстурированную и пюреобразную массу, которая хранится в таком виде при температуре от - 12 до -15 °С. Данная технология идеальна для замороженных десертов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51" name="Рисунок 3" descr=""/>
          <p:cNvPicPr/>
          <p:nvPr/>
        </p:nvPicPr>
        <p:blipFill>
          <a:blip r:embed="rId1"/>
          <a:stretch/>
        </p:blipFill>
        <p:spPr>
          <a:xfrm>
            <a:off x="7994520" y="63000"/>
            <a:ext cx="3213000" cy="32130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"/>
          <p:cNvPicPr/>
          <p:nvPr/>
        </p:nvPicPr>
        <p:blipFill>
          <a:blip r:embed="rId2"/>
          <a:stretch/>
        </p:blipFill>
        <p:spPr>
          <a:xfrm>
            <a:off x="7994520" y="3209040"/>
            <a:ext cx="3213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181240" y="217800"/>
            <a:ext cx="6078240" cy="807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никальность Пакоджета (льдомиксера)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Гомогенность многих видов продуктов достигается за счет добавления в них специальных химических агентов, оказывающих связующий адгезивный эффект. С помощью аппарата Пакоджет подобный эффект достигается по средствам дробления замороженных продуктов в мельчайшую фракцию без использования дополнительных добавок. Так, например, мясной фарш со специями и сухарями может быть заморожен на 24 часа, извлечен из морозильной камеры и измельчен в льдомиксере. После этого, получившаяся гомогенная масса помещается в герметично завязанный полимерный рукав, продукт отваривается при температуре 130-140С</a:t>
            </a:r>
            <a:r>
              <a:rPr b="0" lang="ru-RU" sz="1800" spc="-1" strike="noStrike" baseline="30000">
                <a:solidFill>
                  <a:srgbClr val="404040"/>
                </a:solidFill>
                <a:latin typeface="Century Gothic"/>
              </a:rPr>
              <a:t>0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на протяжении часа. После извлечения и охлаждения продукта получается «нежный» фарш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54" name="Рисунок 3" descr=""/>
          <p:cNvPicPr/>
          <p:nvPr/>
        </p:nvPicPr>
        <p:blipFill>
          <a:blip r:embed="rId1"/>
          <a:stretch/>
        </p:blipFill>
        <p:spPr>
          <a:xfrm>
            <a:off x="8259840" y="1471680"/>
            <a:ext cx="393192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6960" y="1419480"/>
            <a:ext cx="10983960" cy="323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Пароконвектомат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-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едставляет собой разновидность высокотехнологичного как профессионального, так и бытового теплового оборудования современной кухни сочетающего множество режимов пара и принудительной конвекции в процессе приготовления пищи. 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56" name="Рисунок 4" descr=""/>
          <p:cNvPicPr/>
          <p:nvPr/>
        </p:nvPicPr>
        <p:blipFill>
          <a:blip r:embed="rId1"/>
          <a:stretch/>
        </p:blipFill>
        <p:spPr>
          <a:xfrm>
            <a:off x="2261520" y="4376160"/>
            <a:ext cx="3479040" cy="21679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6" descr=""/>
          <p:cNvPicPr/>
          <p:nvPr/>
        </p:nvPicPr>
        <p:blipFill>
          <a:blip r:embed="rId2"/>
          <a:stretch/>
        </p:blipFill>
        <p:spPr>
          <a:xfrm>
            <a:off x="8155800" y="4376160"/>
            <a:ext cx="3348000" cy="219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368800" y="1184400"/>
            <a:ext cx="5425200" cy="544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дачей данного устройства является доведение результатов работы поваров до совершенства с минимальными временными затратами, низким энергопотреблением и затратами на сырье в процессе приготовления пищи (одного или нескольких блюд одновременно). В одной рабочей камере за счет пара и конвекции (отдельно или одновременно) возможно тушить, разогревать, обжаривать, выпекать, готовить на пару. Данное свойство обусловлено возможностью пара обволакивать продукт и препятствовать распространению ароматов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59" name="Рисунок 3" descr=""/>
          <p:cNvPicPr/>
          <p:nvPr/>
        </p:nvPicPr>
        <p:blipFill>
          <a:blip r:embed="rId1"/>
          <a:stretch/>
        </p:blipFill>
        <p:spPr>
          <a:xfrm>
            <a:off x="8250480" y="1514160"/>
            <a:ext cx="3575520" cy="35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5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Инструменты, посуда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(кухонная, столовая)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38520" y="1451880"/>
            <a:ext cx="7095600" cy="270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Карвинг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в кулинарии —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искусство художественной резки по овощам и фруктам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Фруктовый букет — это связка нарезанных фруктов, гармонично сочетающихся друг с другом. В нём могут быть собраны не только фрукты, овощи и </a:t>
            </a:r>
            <a:r>
              <a:rPr b="0" lang="ru-RU" sz="1800" spc="-1" strike="noStrike" u="sng">
                <a:solidFill>
                  <a:srgbClr val="fc7752"/>
                </a:solidFill>
                <a:uFillTx/>
                <a:latin typeface="Century Gothic"/>
                <a:hlinkClick r:id="rId1"/>
              </a:rPr>
              <a:t>конфеты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, но и цветы или другие лиственно-декоративные растения, а также </a:t>
            </a:r>
            <a:r>
              <a:rPr b="0" lang="ru-RU" sz="1800" spc="-1" strike="noStrike" u="sng">
                <a:solidFill>
                  <a:srgbClr val="fc7752"/>
                </a:solidFill>
                <a:uFillTx/>
                <a:latin typeface="Century Gothic"/>
                <a:hlinkClick r:id="rId2"/>
              </a:rPr>
              <a:t>игрушки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и прочие декоративные элементы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62" name="Рисунок 4" descr=""/>
          <p:cNvPicPr/>
          <p:nvPr/>
        </p:nvPicPr>
        <p:blipFill>
          <a:blip r:embed="rId3"/>
          <a:stretch/>
        </p:blipFill>
        <p:spPr>
          <a:xfrm>
            <a:off x="184320" y="1560960"/>
            <a:ext cx="3952080" cy="52956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5" descr=""/>
          <p:cNvPicPr/>
          <p:nvPr/>
        </p:nvPicPr>
        <p:blipFill>
          <a:blip r:embed="rId4"/>
          <a:stretch/>
        </p:blipFill>
        <p:spPr>
          <a:xfrm>
            <a:off x="6908040" y="3846600"/>
            <a:ext cx="281016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isp</Template>
  <TotalTime>92</TotalTime>
  <Application>LibreOffice/7.4.7.2$Linux_X86_64 LibreOffice_project/40$Build-2</Application>
  <AppVersion>15.0000</AppVersion>
  <Words>552</Words>
  <Paragraphs>39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7T11:02:26Z</dcterms:created>
  <dc:creator>Admin</dc:creator>
  <dc:description/>
  <dc:language>en-US</dc:language>
  <cp:lastModifiedBy>Admin</cp:lastModifiedBy>
  <dcterms:modified xsi:type="dcterms:W3CDTF">2021-10-07T12:34:42Z</dcterms:modified>
  <cp:revision>8</cp:revision>
  <dc:subject/>
  <dc:title>НОВЫЕ ВИДЫ ТЕХНОЛОГИЧЕСКОГО ОБОРУДОВАНИЯ, ИНВЕНТАРЯ, ИНСТРУМЕНТОВ, ПОСУДЫ (КУХОННОЙ,СТОЛОВОЙ), НОВЫХ ВИДАХ СЫРЬЯ, ПРОДУКТО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1</vt:r8>
  </property>
</Properties>
</file>