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DC7F-1408-4D34-B03B-6D2ACB75F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E7C-7A04-4039-A3CC-8089A428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B09A-8D2A-4F25-91BE-64DF1770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B704-6AC4-4C30-81DE-2137E88F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FB197-3833-4B8D-BFE2-7976711D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D112-1AAE-4A91-ACE4-8F1E4DA3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66B2-D8AE-45AD-8CD8-5C57474F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5CE7-B9E6-41B4-BA84-10B319AF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1784-D9C9-4B51-9854-F9BADC9A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C1BE-6107-4E23-ACFB-EF5F0C166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18E41-E574-4E09-80E1-3D744859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EDBB-7C28-48A1-B7C1-0ADEB71C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694D-11B1-4A31-B6FF-5C838E27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2703-DDD6-4B52-984F-B1D017C9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4C7E-F6B3-4D48-9EDC-29FD085E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E360-45DF-484E-94A0-55A14254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C9BF-738E-4A66-8FE2-B2CB81279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7D5-02AD-4E13-9D45-02EA9FCE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4DB6-69B5-4D2D-8731-3C60699A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1DF7-502A-4B11-B33B-A1A2AFBE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4EDA-8D22-414D-9F90-887EFD69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E70A-EFFE-42E5-B1D3-448A4D25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1FF-89B5-4298-AF52-DB9A4EE6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194E-A508-4930-B9AA-DC872137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4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18CC18-4117-466C-9376-370A9D8FC183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83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DB7BA0-3285-42E4-B0CA-1607D13B33BA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100ing.ru/category/krahmaly/" TargetMode="External"/><Relationship Id="rId2" Type="http://schemas.openxmlformats.org/officeDocument/2006/relationships/hyperlink" Target="https://100ing.ru/product/l-tsistein-kitai/8557/" TargetMode="External"/><Relationship Id="rId3" Type="http://schemas.openxmlformats.org/officeDocument/2006/relationships/hyperlink" Target="https://100ing.ru/category/askorbinovaya-kislota/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0;&#1086;&#1085;&#1092;&#1077;&#1090;&#1072;" TargetMode="External"/><Relationship Id="rId2" Type="http://schemas.openxmlformats.org/officeDocument/2006/relationships/hyperlink" Target="https://ru.wikipedia.org/wiki/&#1048;&#1075;&#1088;&#1091;&#1096;&#1082;&#1072;" TargetMode="External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22160" y="147960"/>
            <a:ext cx="8990280" cy="44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500" spc="-1" strike="noStrike">
                <a:solidFill>
                  <a:srgbClr val="262626"/>
                </a:solidFill>
                <a:latin typeface="Times New Roman"/>
              </a:rPr>
              <a:t>НОВЫЕ ВИДЫ ТЕХНОЛОГИЧЕСКОГО ОБОРУДОВАНИЯ, ИНВЕНТАРЯ,</a:t>
            </a:r>
            <a:br>
              <a:rPr sz="3500"/>
            </a:br>
            <a:r>
              <a:rPr b="0" lang="ru-RU" sz="3500" spc="-1" strike="noStrike">
                <a:solidFill>
                  <a:srgbClr val="262626"/>
                </a:solidFill>
                <a:latin typeface="Times New Roman"/>
              </a:rPr>
              <a:t>ИНСТРУМЕНТОВ, ПОСУДЫ (КУХОННОЙ,СТОЛОВОЙ), НОВЫХ ВИДАХ СЫРЬЯ, ПРОДУКТОВ.</a:t>
            </a:r>
            <a:endParaRPr b="0" lang="ru-RU" sz="3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297240" y="5996520"/>
            <a:ext cx="8825400" cy="8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ыполнила студентка 2П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Истомина С.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660640" y="165600"/>
            <a:ext cx="4850280" cy="456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астроемкости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–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это специальные лотки из металла или других материалов, предназначенные для приготовления пищи в печах, а для также хранения и презентации готовых блюд. Их основное преимущество заключается в том, что расфасованные и подготовленные продукты не нужно перекладывать из одних емкостей в другие на различных этапах приготовления.</a:t>
            </a: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65" name="Рисунок 3" descr=""/>
          <p:cNvPicPr/>
          <p:nvPr/>
        </p:nvPicPr>
        <p:blipFill>
          <a:blip r:embed="rId1"/>
          <a:stretch/>
        </p:blipFill>
        <p:spPr>
          <a:xfrm>
            <a:off x="2257560" y="3447720"/>
            <a:ext cx="437400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52400" y="5108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Новые виды сырья и продукты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97760" y="1151280"/>
            <a:ext cx="518724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временные тенденции в хлебобулочном производстве взяли ориентир на здоровье. Хлеб теперь должен быть не только вкусным, но и полезным, например, никаких ингредиентов, провоцирующих набор веса. Традиционный хлеб с румяной корочкой уже не так интересен покупателям, теперь это должен быть еще и здоровый продукт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тобы предложить безопасное и вкусное изделие, производители могут использовать хлебопекарные улучшители - специальные ферменты, улучшающие структуру теста и его органолептические свойства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сего выделяют пять видов: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комплексные улучшители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АВы - разнообразные эмульгаторы, которые представляют собой эфирные соединения лимонной, уксусной, молочной кислот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 u="sng">
                <a:solidFill>
                  <a:srgbClr val="fb4a18"/>
                </a:solidFill>
                <a:uFillTx/>
                <a:latin typeface="Century Gothic"/>
                <a:hlinkClick r:id="rId1"/>
              </a:rPr>
              <a:t>крахмалы модифицированные (Е1404)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осстановительного действия - тиосульфат натрия, </a:t>
            </a:r>
            <a:r>
              <a:rPr b="0" lang="ru-RU" sz="1800" spc="-1" strike="noStrike" u="sng">
                <a:solidFill>
                  <a:srgbClr val="fc7752"/>
                </a:solidFill>
                <a:uFillTx/>
                <a:latin typeface="Century Gothic"/>
                <a:hlinkClick r:id="rId2"/>
              </a:rPr>
              <a:t>L-цистеин (Е920)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-32256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кислительные - </a:t>
            </a:r>
            <a:r>
              <a:rPr b="0" lang="ru-RU" sz="1800" spc="-1" strike="noStrike" u="sng">
                <a:solidFill>
                  <a:srgbClr val="fc7752"/>
                </a:solidFill>
                <a:uFillTx/>
                <a:latin typeface="Century Gothic"/>
                <a:hlinkClick r:id="rId3"/>
              </a:rPr>
              <a:t>аскорбиновая кислота (Е300)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перекись кальция (Е930), перекись бензоила (Е928)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68" name="Рисунок 3" descr=""/>
          <p:cNvPicPr/>
          <p:nvPr/>
        </p:nvPicPr>
        <p:blipFill>
          <a:blip r:embed="rId4"/>
          <a:stretch/>
        </p:blipFill>
        <p:spPr>
          <a:xfrm>
            <a:off x="7785360" y="2241720"/>
            <a:ext cx="4416120" cy="29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Новые виды технологического оборудования.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03400" y="2053080"/>
            <a:ext cx="8946360" cy="42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10680" indent="-310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3500" spc="-1" strike="noStrike">
                <a:solidFill>
                  <a:srgbClr val="404040"/>
                </a:solidFill>
                <a:latin typeface="Century Gothic"/>
              </a:rPr>
              <a:t>Инновационным оборудованием сферы общественного питания является оборудование, отличающееся уникальными, новыми свойствами и качественными характеристиками, позволяющими предприятию достигать желаемых результатов деятельности за счет экономии ресурсов и времени, а также за счет совершенствования технологии производства продукции и обслуживания клиентов.</a:t>
            </a:r>
            <a:endParaRPr b="0" lang="ru-RU" sz="35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000" spc="-1" strike="noStrike">
                <a:solidFill>
                  <a:srgbClr val="262626"/>
                </a:solidFill>
                <a:latin typeface="Century Gothic"/>
              </a:rPr>
              <a:t>Рассмотрим наиболее полезное инновационное оборудование, применяемое в организациях-кафе.</a:t>
            </a:r>
            <a:endParaRPr b="0" lang="ru-RU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Sous-Vide (Сувид)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 представляет собой кулинарную технику, а так же форму медленного приготовления пищи на основе использования точных температур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4" name="Рисунок 3" descr=""/>
          <p:cNvPicPr/>
          <p:nvPr/>
        </p:nvPicPr>
        <p:blipFill>
          <a:blip r:embed="rId1"/>
          <a:stretch/>
        </p:blipFill>
        <p:spPr>
          <a:xfrm>
            <a:off x="10106280" y="3681720"/>
            <a:ext cx="1503720" cy="26661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"/>
          <p:cNvPicPr/>
          <p:nvPr/>
        </p:nvPicPr>
        <p:blipFill>
          <a:blip r:embed="rId2"/>
          <a:stretch/>
        </p:blipFill>
        <p:spPr>
          <a:xfrm>
            <a:off x="4994280" y="3786480"/>
            <a:ext cx="4554360" cy="256032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5" descr=""/>
          <p:cNvPicPr/>
          <p:nvPr/>
        </p:nvPicPr>
        <p:blipFill>
          <a:blip r:embed="rId3"/>
          <a:stretch/>
        </p:blipFill>
        <p:spPr>
          <a:xfrm>
            <a:off x="2589120" y="3683160"/>
            <a:ext cx="1994400" cy="26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2455920" y="226440"/>
            <a:ext cx="6916320" cy="63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ункции сувида: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Разогрев воды до нужной температуры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акуумирует продукт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иготовление блюда при точной температуре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еимущества технологии Сувид: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храняется насыщенный и естественный вкус пищи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цвет, внешний вид и свежесть сохраняются не именными до самой подачи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охраняются питательные вещества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ища не уваривается и не ужаривается, сохраняет сочность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более продолжительный срок хранения;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начительная экономия при минимальных затратах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1"/>
          <a:stretch/>
        </p:blipFill>
        <p:spPr>
          <a:xfrm>
            <a:off x="9372600" y="95760"/>
            <a:ext cx="2651400" cy="26514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"/>
          <p:cNvPicPr/>
          <p:nvPr/>
        </p:nvPicPr>
        <p:blipFill>
          <a:blip r:embed="rId2"/>
          <a:stretch/>
        </p:blipFill>
        <p:spPr>
          <a:xfrm>
            <a:off x="9372600" y="3270240"/>
            <a:ext cx="265140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335400" y="775080"/>
            <a:ext cx="4240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     </a:t>
            </a: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акоджет (льдомиксер)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- представляет собой технологию молекулярной кухни, заключающуюся в том, что продукция подверженная глубокой заморозке (до – 22 °С) в течение суток, превращается в мелкотекстурированную и пюреобразную массу, которая хранится в таком виде при температуре от - 12 до -15 °С. Данная технология идеальна для замороженных десертов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1" name="Рисунок 3" descr=""/>
          <p:cNvPicPr/>
          <p:nvPr/>
        </p:nvPicPr>
        <p:blipFill>
          <a:blip r:embed="rId1"/>
          <a:stretch/>
        </p:blipFill>
        <p:spPr>
          <a:xfrm>
            <a:off x="7994520" y="63000"/>
            <a:ext cx="3213000" cy="32130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"/>
          <p:cNvPicPr/>
          <p:nvPr/>
        </p:nvPicPr>
        <p:blipFill>
          <a:blip r:embed="rId2"/>
          <a:stretch/>
        </p:blipFill>
        <p:spPr>
          <a:xfrm>
            <a:off x="7994520" y="3209040"/>
            <a:ext cx="3213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181240" y="217800"/>
            <a:ext cx="6078240" cy="807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никальность Пакоджета (льдомиксера)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Гомогенность многих видов продуктов достигается за счет добавления в них специальных химических агентов, оказывающих связующий адгезивный эффект. С помощью аппарата Пакоджет подобный эффект достигается по средствам дробления замороженных продуктов в мельчайшую фракцию без использования дополнительных добавок. Так, например, мясной фарш со специями и сухарями может быть заморожен на 24 часа, извлечен из морозильной камеры и измельчен в льдомиксере. После этого, получившаяся гомогенная масса помещается в герметично завязанный полимерный рукав, продукт отваривается при температуре 130-140С</a:t>
            </a:r>
            <a:r>
              <a:rPr b="0" lang="ru-RU" sz="1800" spc="-1" strike="noStrike" baseline="30000">
                <a:solidFill>
                  <a:srgbClr val="404040"/>
                </a:solidFill>
                <a:latin typeface="Century Gothic"/>
              </a:rPr>
              <a:t>0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на протяжении часа. После извлечения и охлаждения продукта получается «нежный» фарш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4" name="Рисунок 3" descr=""/>
          <p:cNvPicPr/>
          <p:nvPr/>
        </p:nvPicPr>
        <p:blipFill>
          <a:blip r:embed="rId1"/>
          <a:stretch/>
        </p:blipFill>
        <p:spPr>
          <a:xfrm>
            <a:off x="8259840" y="1471680"/>
            <a:ext cx="393192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06960" y="1419480"/>
            <a:ext cx="10983960" cy="323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Пароконвектомат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-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редставляет собой разновидность высокотехнологичного как профессионального, так и бытового теплового оборудования современной кухни сочетающего множество режимов пара и принудительной конвекции в процессе приготовления пищи. 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6" name="Рисунок 4" descr=""/>
          <p:cNvPicPr/>
          <p:nvPr/>
        </p:nvPicPr>
        <p:blipFill>
          <a:blip r:embed="rId1"/>
          <a:stretch/>
        </p:blipFill>
        <p:spPr>
          <a:xfrm>
            <a:off x="2261520" y="4376160"/>
            <a:ext cx="3479040" cy="21679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6" descr=""/>
          <p:cNvPicPr/>
          <p:nvPr/>
        </p:nvPicPr>
        <p:blipFill>
          <a:blip r:embed="rId2"/>
          <a:stretch/>
        </p:blipFill>
        <p:spPr>
          <a:xfrm>
            <a:off x="8155800" y="4376160"/>
            <a:ext cx="3348000" cy="219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368800" y="1184400"/>
            <a:ext cx="5425200" cy="544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Задачей данного устройства является доведение результатов работы поваров до совершенства с минимальными временными затратами, низким энергопотреблением и затратами на сырье в процессе приготовления пищи (одного или нескольких блюд одновременно). В одной рабочей камере за счет пара и конвекции (отдельно или одновременно) возможно тушить, разогревать, обжаривать, выпекать, готовить на пару. Данное свойство обусловлено возможностью пара обволакивать продукт и препятствовать распространению ароматов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59" name="Рисунок 3" descr=""/>
          <p:cNvPicPr/>
          <p:nvPr/>
        </p:nvPicPr>
        <p:blipFill>
          <a:blip r:embed="rId1"/>
          <a:stretch/>
        </p:blipFill>
        <p:spPr>
          <a:xfrm>
            <a:off x="8250480" y="1514160"/>
            <a:ext cx="3575520" cy="35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35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Инструменты, посуда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(кухонная, столовая)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38520" y="1451880"/>
            <a:ext cx="7095600" cy="270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Карвинг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в кулинарии —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искусство художественной резки по овощам и фруктам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Фруктовый букет — это связка нарезанных фруктов, гармонично сочетающихся друг с другом. В нём могут быть собраны не только фрукты, овощи и </a:t>
            </a:r>
            <a:r>
              <a:rPr b="0" lang="ru-RU" sz="1800" spc="-1" strike="noStrike" u="sng">
                <a:solidFill>
                  <a:srgbClr val="fc7752"/>
                </a:solidFill>
                <a:uFillTx/>
                <a:latin typeface="Century Gothic"/>
                <a:hlinkClick r:id="rId1"/>
              </a:rPr>
              <a:t>конфеты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, но и цветы или другие лиственно-декоративные растения, а также </a:t>
            </a:r>
            <a:r>
              <a:rPr b="0" lang="ru-RU" sz="1800" spc="-1" strike="noStrike" u="sng">
                <a:solidFill>
                  <a:srgbClr val="fc7752"/>
                </a:solidFill>
                <a:uFillTx/>
                <a:latin typeface="Century Gothic"/>
                <a:hlinkClick r:id="rId2"/>
              </a:rPr>
              <a:t>игрушки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 и прочие декоративные элементы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62" name="Рисунок 4" descr=""/>
          <p:cNvPicPr/>
          <p:nvPr/>
        </p:nvPicPr>
        <p:blipFill>
          <a:blip r:embed="rId3"/>
          <a:stretch/>
        </p:blipFill>
        <p:spPr>
          <a:xfrm>
            <a:off x="184320" y="1560960"/>
            <a:ext cx="3952080" cy="52956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"/>
          <p:cNvPicPr/>
          <p:nvPr/>
        </p:nvPicPr>
        <p:blipFill>
          <a:blip r:embed="rId4"/>
          <a:stretch/>
        </p:blipFill>
        <p:spPr>
          <a:xfrm>
            <a:off x="6908040" y="3846600"/>
            <a:ext cx="281016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92</TotalTime>
  <Application>LibreOffice/7.4.7.2$Linux_X86_64 LibreOffice_project/40$Build-2</Application>
  <AppVersion>15.0000</AppVersion>
  <Words>552</Words>
  <Paragraphs>39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7T11:02:26Z</dcterms:created>
  <dc:creator>Admin</dc:creator>
  <dc:description/>
  <dc:language>en-US</dc:language>
  <cp:lastModifiedBy>Admin</cp:lastModifiedBy>
  <dcterms:modified xsi:type="dcterms:W3CDTF">2021-10-07T12:34:42Z</dcterms:modified>
  <cp:revision>8</cp:revision>
  <dc:subject/>
  <dc:title>НОВЫЕ ВИДЫ ТЕХНОЛОГИЧЕСКОГО ОБОРУДОВАНИЯ, ИНВЕНТАРЯ, ИНСТРУМЕНТОВ, ПОСУДЫ (КУХОННОЙ,СТОЛОВОЙ), НОВЫХ ВИДАХ СЫРЬЯ, ПРОДУКТОВ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1</vt:r8>
  </property>
</Properties>
</file>