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682-9ABB-42AE-A6BB-3EDFB4AC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0D7-48BE-4121-8798-06AE2A9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055-3003-4535-844A-1399C0EB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EB4-0578-4BA9-ADFE-E5E14FD4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55CF-C685-4D05-8869-41BBBD25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FAC6-FBC9-4F86-AF87-46E342B1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A4E5-F70B-4427-B92A-DCE8DCE2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075E-BBD0-48DC-9461-36134408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9C8D-CD14-4E66-BA6E-05BA385C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611E-E7A1-4B9A-ABE9-C9F87110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ED2C-DEAB-4B02-975E-72D895D8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591-ED1F-47F3-9902-30C089D0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02AA-5F12-4416-8DC6-6C2C8FB4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BC8B-245B-4CC0-8472-34F4BA36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C1D4-428C-4C4B-87B0-A2D85DB5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6649-1897-494B-A0BA-6F06462D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DAE5-4583-488C-9B8E-F62E748E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9CE-D95D-4563-AF65-7594D722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60B-4319-4752-AAA2-D5FA434C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23C-B264-4CF2-9195-9D4FF80A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3FD-47A0-40F9-A386-EEB77382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78B-B7B6-4595-BD47-46FF6177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CBD-4B48-4A80-9A3B-0067B3F7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D31-D0AC-4EEA-AB41-0CF74308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4FE6FE-D7B0-4B6B-A557-59DDE73A755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CD0447-2B7C-4A2C-83FB-B4AA4145C00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100ing.ru/category/krahmaly/" TargetMode="External"/><Relationship Id="rId2" Type="http://schemas.openxmlformats.org/officeDocument/2006/relationships/hyperlink" Target="https://100ing.ru/product/l-tsistein-kitai/8557/" TargetMode="External"/><Relationship Id="rId3" Type="http://schemas.openxmlformats.org/officeDocument/2006/relationships/hyperlink" Target="https://100ing.ru/category/askorbinovaya-kislota/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86;&#1085;&#1092;&#1077;&#1090;&#1072;" TargetMode="External"/><Relationship Id="rId2" Type="http://schemas.openxmlformats.org/officeDocument/2006/relationships/hyperlink" Target="https://ru.wikipedia.org/wiki/&#1048;&#1075;&#1088;&#1091;&#1096;&#1082;&#1072;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2160" y="147960"/>
            <a:ext cx="8990280" cy="44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262626"/>
                </a:solidFill>
                <a:latin typeface="Times New Roman"/>
              </a:rPr>
              <a:t>НОВЫЕ ВИДЫ ТЕХНОЛОГИЧЕСКОГО ОБОРУДОВАНИЯ, ИНВЕНТАРЯ,</a:t>
            </a:r>
            <a:br>
              <a:rPr sz="3500"/>
            </a:br>
            <a:r>
              <a:rPr b="0" lang="ru-RU" sz="3500" spc="-1" strike="noStrike">
                <a:solidFill>
                  <a:srgbClr val="262626"/>
                </a:solidFill>
                <a:latin typeface="Times New Roman"/>
              </a:rPr>
              <a:t>ИНСТРУМЕНТОВ, ПОСУДЫ (КУХОННОЙ,СТОЛОВОЙ), НОВЫХ ВИДАХ СЫРЬЯ, ПРОДУКТОВ.</a:t>
            </a:r>
            <a:endParaRPr b="0" lang="ru-RU" sz="3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297240" y="5996520"/>
            <a:ext cx="882540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ыполнила студентка 2П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стомина С.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660640" y="165600"/>
            <a:ext cx="4850280" cy="45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астроемкости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о специальные лотки из металла или других материалов, предназначенные для приготовления пищи в печах, а для также хранения и презентации готовых блюд. Их основное преимущество заключается в том, что расфасованные и подготовленные продукты не нужно перекладывать из одних емкостей в другие на различных этапах приготовления.</a:t>
            </a: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5" name="Рисунок 3" descr=""/>
          <p:cNvPicPr/>
          <p:nvPr/>
        </p:nvPicPr>
        <p:blipFill>
          <a:blip r:embed="rId1"/>
          <a:stretch/>
        </p:blipFill>
        <p:spPr>
          <a:xfrm>
            <a:off x="2257560" y="3447720"/>
            <a:ext cx="437400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52400" y="5108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овые виды сырья и продукты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97760" y="1151280"/>
            <a:ext cx="518724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временные тенденции в хлебобулочном производстве взяли ориентир на здоровье. Хлеб теперь должен быть не только вкусным, но и полезным, например, никаких ингредиентов, провоцирующих набор веса. Традиционный хлеб с румяной корочкой уже не так интересен покупателям, теперь это должен быть еще и здоровый продукт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тобы предложить безопасное и вкусное изделие, производители могут использовать хлебопекарные улучшители - специальные ферменты, улучшающие структуру теста и его органолептические свойств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сего выделяют пять видов: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мплексные улучшители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АВы - разнообразные эмульгаторы, которые представляют собой эфирные соединения лимонной, уксусной, молочной кислот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крахмалы модифицированные (Е1404)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сстановительного действия - тиосульфат натрия,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2"/>
              </a:rPr>
              <a:t>L-цистеин (Е920)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кислительные -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3"/>
              </a:rPr>
              <a:t>аскорбиновая кислота (Е300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перекись кальция (Е930), перекись бензоила (Е928)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4"/>
          <a:stretch/>
        </p:blipFill>
        <p:spPr>
          <a:xfrm>
            <a:off x="7785360" y="2241720"/>
            <a:ext cx="4416120" cy="29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овые виды технологического оборудования.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2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500" spc="-1" strike="noStrike">
                <a:solidFill>
                  <a:srgbClr val="404040"/>
                </a:solidFill>
                <a:latin typeface="Century Gothic"/>
              </a:rPr>
              <a:t>Инновационным оборудованием сферы общественного питания является оборудование, отличающееся уникальными, новыми свойствами и качественными характеристиками, позволяющими предприятию достигать желаемых результатов деятельности за счет экономии ресурсов и времени, а также за счет совершенствования технологии производства продукции и обслуживания клиентов.</a:t>
            </a:r>
            <a:endParaRPr b="0" lang="ru-RU" sz="3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>
                <a:solidFill>
                  <a:srgbClr val="262626"/>
                </a:solidFill>
                <a:latin typeface="Century Gothic"/>
              </a:rPr>
              <a:t>Рассмотрим наиболее полезное инновационное оборудование, применяемое в организациях-кафе.</a:t>
            </a:r>
            <a:endParaRPr b="0" lang="ru-RU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Sous-Vide (Сувид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 представляет собой кулинарную технику, а так же форму медленного приготовления пищи на основе использования точных температур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10106280" y="3681720"/>
            <a:ext cx="1503720" cy="26661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"/>
          <p:cNvPicPr/>
          <p:nvPr/>
        </p:nvPicPr>
        <p:blipFill>
          <a:blip r:embed="rId2"/>
          <a:stretch/>
        </p:blipFill>
        <p:spPr>
          <a:xfrm>
            <a:off x="4994280" y="3786480"/>
            <a:ext cx="4554360" cy="25603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"/>
          <p:cNvPicPr/>
          <p:nvPr/>
        </p:nvPicPr>
        <p:blipFill>
          <a:blip r:embed="rId3"/>
          <a:stretch/>
        </p:blipFill>
        <p:spPr>
          <a:xfrm>
            <a:off x="2589120" y="3683160"/>
            <a:ext cx="1994400" cy="26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455920" y="226440"/>
            <a:ext cx="6916320" cy="63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ункции сувида: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азогрев воды до нужной температуры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акуумирует продукт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готовление блюда при точной температур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еимущества технологии Сувид: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храняется насыщенный и естественный вкус пищи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цвет, внешний вид и свежесть сохраняются не именными до самой подачи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храняются питательные вещества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ища не уваривается и не ужаривается, сохраняет сочность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олее продолжительный срок хранения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начительная экономия при минимальных затратах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9372600" y="95760"/>
            <a:ext cx="2651400" cy="26514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"/>
          <p:cNvPicPr/>
          <p:nvPr/>
        </p:nvPicPr>
        <p:blipFill>
          <a:blip r:embed="rId2"/>
          <a:stretch/>
        </p:blipFill>
        <p:spPr>
          <a:xfrm>
            <a:off x="9372600" y="3270240"/>
            <a:ext cx="26514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335400" y="775080"/>
            <a:ext cx="4240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   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акоджет (льдомиксер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 представляет собой технологию молекулярной кухни, заключающуюся в том, что продукция подверженная глубокой заморозке (до – 22 °С) в течение суток, превращается в мелкотекстурированную и пюреобразную массу, которая хранится в таком виде при температуре от - 12 до -15 °С. Данная технология идеальна для замороженных десертов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1" name="Рисунок 3" descr=""/>
          <p:cNvPicPr/>
          <p:nvPr/>
        </p:nvPicPr>
        <p:blipFill>
          <a:blip r:embed="rId1"/>
          <a:stretch/>
        </p:blipFill>
        <p:spPr>
          <a:xfrm>
            <a:off x="7994520" y="6300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"/>
          <p:cNvPicPr/>
          <p:nvPr/>
        </p:nvPicPr>
        <p:blipFill>
          <a:blip r:embed="rId2"/>
          <a:stretch/>
        </p:blipFill>
        <p:spPr>
          <a:xfrm>
            <a:off x="7994520" y="320904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81240" y="217800"/>
            <a:ext cx="6078240" cy="807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никальность Пакоджета (льдомиксера)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могенность многих видов продуктов достигается за счет добавления в них специальных химических агентов, оказывающих связующий адгезивный эффект. С помощью аппарата Пакоджет подобный эффект достигается по средствам дробления замороженных продуктов в мельчайшую фракцию без использования дополнительных добавок. Так, например, мясной фарш со специями и сухарями может быть заморожен на 24 часа, извлечен из морозильной камеры и измельчен в льдомиксере. После этого, получившаяся гомогенная масса помещается в герметично завязанный полимерный рукав, продукт отваривается при температуре 130-140С</a:t>
            </a:r>
            <a:r>
              <a:rPr b="0" lang="ru-RU" sz="1800" spc="-1" strike="noStrike" baseline="30000">
                <a:solidFill>
                  <a:srgbClr val="404040"/>
                </a:solidFill>
                <a:latin typeface="Century Gothic"/>
              </a:rPr>
              <a:t>0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на протяжении часа. После извлечения и охлаждения продукта получается «нежный» фарш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tretch/>
        </p:blipFill>
        <p:spPr>
          <a:xfrm>
            <a:off x="8259840" y="1471680"/>
            <a:ext cx="39319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6960" y="1419480"/>
            <a:ext cx="10983960" cy="323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ароконвектомат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-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едставляет собой разновидность высокотехнологичного как профессионального, так и бытового теплового оборудования современной кухни сочетающего множество режимов пара и принудительной конвекции в процессе приготовления пищи. 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1"/>
          <a:stretch/>
        </p:blipFill>
        <p:spPr>
          <a:xfrm>
            <a:off x="2261520" y="4376160"/>
            <a:ext cx="3479040" cy="2167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"/>
          <p:cNvPicPr/>
          <p:nvPr/>
        </p:nvPicPr>
        <p:blipFill>
          <a:blip r:embed="rId2"/>
          <a:stretch/>
        </p:blipFill>
        <p:spPr>
          <a:xfrm>
            <a:off x="8155800" y="4376160"/>
            <a:ext cx="3348000" cy="219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368800" y="1184400"/>
            <a:ext cx="5425200" cy="544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чей данного устройства является доведение результатов работы поваров до совершенства с минимальными временными затратами, низким энергопотреблением и затратами на сырье в процессе приготовления пищи (одного или нескольких блюд одновременно). В одной рабочей камере за счет пара и конвекции (отдельно или одновременно) возможно тушить, разогревать, обжаривать, выпекать, готовить на пару. Данное свойство обусловлено возможностью пара обволакивать продукт и препятствовать распространению ароматов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8250480" y="1514160"/>
            <a:ext cx="3575520" cy="35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5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Инструменты, посуда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(кухонная, столовая)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38520" y="1451880"/>
            <a:ext cx="7095600" cy="270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Карвинг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в кулинарии —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скусство художественной резки по овощам и фруктам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руктовый букет — это связка нарезанных фруктов, гармонично сочетающихся друг с другом. В нём могут быть собраны не только фрукты, овощи и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1"/>
              </a:rPr>
              <a:t>конфеты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но и цветы или другие лиственно-декоративные растения, а также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2"/>
              </a:rPr>
              <a:t>игрушки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и прочие декоративные элементы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2" name="Рисунок 4" descr=""/>
          <p:cNvPicPr/>
          <p:nvPr/>
        </p:nvPicPr>
        <p:blipFill>
          <a:blip r:embed="rId3"/>
          <a:stretch/>
        </p:blipFill>
        <p:spPr>
          <a:xfrm>
            <a:off x="184320" y="1560960"/>
            <a:ext cx="3952080" cy="5295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4"/>
          <a:stretch/>
        </p:blipFill>
        <p:spPr>
          <a:xfrm>
            <a:off x="6908040" y="3846600"/>
            <a:ext cx="28101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92</TotalTime>
  <Application>LibreOffice/7.4.7.2$Linux_X86_64 LibreOffice_project/40$Build-2</Application>
  <AppVersion>15.0000</AppVersion>
  <Words>552</Words>
  <Paragraphs>39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7T11:02:26Z</dcterms:created>
  <dc:creator>Admin</dc:creator>
  <dc:description/>
  <dc:language>en-US</dc:language>
  <cp:lastModifiedBy>Admin</cp:lastModifiedBy>
  <dcterms:modified xsi:type="dcterms:W3CDTF">2021-10-07T12:34:42Z</dcterms:modified>
  <cp:revision>8</cp:revision>
  <dc:subject/>
  <dc:title>НОВЫЕ ВИДЫ ТЕХНОЛОГИЧЕСКОГО ОБОРУДОВАНИЯ, ИНВЕНТАРЯ, ИНСТРУМЕНТОВ, ПОСУДЫ (КУХОННОЙ,СТОЛОВОЙ), НОВЫХ ВИДАХ СЫРЬЯ, ПРОДУКТ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