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6F44-5942-416F-A284-BB868CBE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0110-DD8B-4DDA-841D-4A5111EA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39B-4CD3-4B0D-B733-1531FCEC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0F6-FB41-426F-926E-30104385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9387-33F8-45E2-8CC6-2FB1EA59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1354-0207-4873-95D8-D1B176EA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88AC-376E-4E25-A2E3-168841D8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2D69-B98D-4F80-94C8-76995D2B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296F-6328-4316-B468-0B946DBF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3ABC-E491-44DB-810F-49164654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677F-D110-417E-BCA4-5CCA5883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CA38-F972-4EF4-95F0-D2C4FD9C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E0CB-F0A8-4AEE-BACF-8AF991EE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CEB5-BE72-4C47-BC8C-C9C61BB2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1A66-572C-4B17-9066-19923D9D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EDAD-B753-419F-A16A-C0BB5A65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953D-9651-4A04-9355-A7D90909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F1E-7151-44D7-B1DE-72D52498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575-4F32-42D6-8C2E-4202D5C9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31C-2E09-4DBA-99C1-EB23B07A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B57A-A950-4AC7-B4EC-84B5A1CB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9B6-FF8B-4E78-8C22-F3BBFA9D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C07-D15D-4624-ABE4-C99A0E7B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3D3-F160-48A7-8A60-BB47DC8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82EC20-8645-4278-BF20-2C1117E1140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83BB27-58BA-4D71-ADB8-161579189CE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720360" y="768600"/>
            <a:ext cx="3731040" cy="5855040"/>
          </a:xfrm>
          <a:prstGeom prst="rect">
            <a:avLst/>
          </a:prstGeom>
          <a:ln w="0">
            <a:noFill/>
          </a:ln>
        </p:spPr>
      </p:pic>
      <p:sp>
        <p:nvSpPr>
          <p:cNvPr id="83" name="TextBox 6"/>
          <p:cNvSpPr/>
          <p:nvPr/>
        </p:nvSpPr>
        <p:spPr>
          <a:xfrm>
            <a:off x="1680840" y="0"/>
            <a:ext cx="4119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кау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943400" y="0"/>
            <a:ext cx="496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каз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1" descr=""/>
          <p:cNvPicPr/>
          <p:nvPr/>
        </p:nvPicPr>
        <p:blipFill>
          <a:blip r:embed="rId2"/>
          <a:stretch/>
        </p:blipFill>
        <p:spPr>
          <a:xfrm>
            <a:off x="5465160" y="1407240"/>
            <a:ext cx="584820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Объект 3" descr=""/>
          <p:cNvPicPr/>
          <p:nvPr/>
        </p:nvPicPr>
        <p:blipFill>
          <a:blip r:embed="rId1"/>
          <a:stretch/>
        </p:blipFill>
        <p:spPr>
          <a:xfrm>
            <a:off x="3666960" y="128160"/>
            <a:ext cx="4260600" cy="66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  <Words>2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3T07:12:53Z</dcterms:created>
  <dc:creator>Employed</dc:creator>
  <dc:description/>
  <dc:language>en-US</dc:language>
  <cp:lastModifiedBy>Employed</cp:lastModifiedBy>
  <dcterms:modified xsi:type="dcterms:W3CDTF">2021-12-13T12:58:54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2</vt:r8>
  </property>
</Properties>
</file>