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77D-C114-41E6-9C1E-C1BF8210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926-A5CC-4B87-8B16-F34495CA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432-7899-4E78-AD08-3262DBBA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F44-1462-40D5-9FF9-42FDA65C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484E-8FD3-4BAE-B01B-2F6B2367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E0B1-6752-4907-8E45-B82947B4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5494-99AA-4EF8-B113-E2E01710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58F3-FFB5-4781-8A01-3D61B203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81B3-5C9D-468E-ACF5-A3BE9A78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ED51-AC47-4287-A3ED-067C70FA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F6B4-0EAA-4DF3-82E0-E3B7A8CE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DBD-A98A-4F7A-8311-B60368E4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8C32-A444-4647-ADDF-6FBEC6A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3171-42A3-4BD1-AA17-1CB9E78F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8E34-CECD-4E73-8209-A3731D56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C880-17A3-4AD9-9730-137AC0E7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80E4-D612-4AD7-9E9A-CED10BB2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C25-B86A-4CC1-AC74-7D26CBF1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9D2-FECB-476D-92A4-C6CA7629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72E-50CD-46BF-A309-462A092B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9F5-CF1E-4987-81E7-DAF0EBA4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919-99D4-4123-BC41-FAF74D89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14D-A882-455D-80AF-3492BEB6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54B-6A58-4E87-B154-34EA834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E7B4BB-A05F-4066-8CB6-40A0F76E313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0948D3-847D-4E48-BA23-8577B3C3EE6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720360" y="768600"/>
            <a:ext cx="3731040" cy="5855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1680840" y="0"/>
            <a:ext cx="411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кау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943400" y="0"/>
            <a:ext cx="496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каз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2"/>
          <a:stretch/>
        </p:blipFill>
        <p:spPr>
          <a:xfrm>
            <a:off x="5465160" y="1407240"/>
            <a:ext cx="584820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3666960" y="128160"/>
            <a:ext cx="4260600" cy="66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2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3T07:12:53Z</dcterms:created>
  <dc:creator>Employed</dc:creator>
  <dc:description/>
  <dc:language>en-US</dc:language>
  <cp:lastModifiedBy>Employed</cp:lastModifiedBy>
  <dcterms:modified xsi:type="dcterms:W3CDTF">2021-12-13T12:58:54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2</vt:r8>
  </property>
</Properties>
</file>