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1D6-EA78-4AC4-88C0-904F96B1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F6B-E5F4-4B5E-BF41-EA22D45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EC9-9313-4DFC-AADE-3DA0DEA8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E6D-CDBE-46D0-9158-CFBCFE1D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358B-60C1-447B-9572-EBD16848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9F1B-3FDA-47CE-BA5F-A7D0BF6C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77AC-17F8-430A-A9CB-0066DF2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D899-A7B4-49E6-9F9A-CF455C9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7369-422A-4DC6-A302-A16A3D7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C7E-6563-43DF-BF1E-6D9C8059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8432-80A8-4FF3-978B-EABC812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66F-0449-4C6E-910B-CB8C9BB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70E-5CDA-403B-957A-9B546020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9845-4345-42E7-8ED8-7E55595E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FDC-6B30-4EA5-AD42-3F493072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06E-7205-4646-B6B3-B1496258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F92B-C636-4A3F-BD7E-39AFB95D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547EA-FC6B-4456-9C48-B7AB60C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E96B8-8AE8-4A28-8DB3-DD418D0A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17ED-8270-4F55-9AD2-515C316C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8930-BABA-4874-BEAD-73AAA84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D27B-36BE-4558-8FDD-12EA4672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645-1AA6-4980-A1FD-1CEEAEB8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4759-352A-4406-9768-13EA836A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C753-C552-4AAA-9509-A77B7549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8FBE-F65E-4253-93DF-32F6CE78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967B1-E436-4683-B41D-DC0CB68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DFAA-80BA-43F4-B457-D77A24F2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C0A94-9692-4314-9245-86A994A8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7B25-843E-4213-89F7-505D8B16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EFFD6-4F0E-47B4-A249-5C8AA465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396AF-E6B2-4199-83B1-9C66B98B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8EE1-E100-448D-B225-EF74304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708-EF0C-47BD-9039-EC03DA5D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4C20-DD94-4299-99CA-3BBCDD5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CAEA-2C56-4EF2-A0DF-94F9C7D3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6C51-8232-47D6-993A-0B969F2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1242-EBA1-4EC5-B9BA-39C2F32F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162E-D0B2-4F98-9407-A2C60C5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2AFAD-EC43-4B68-8864-2CB85E5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68AC-1E8A-4AB4-AA2B-252DED9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F90A-51B7-4F66-AC5E-1F18DE12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38C5-2331-40A2-9C7B-E3CF3FF4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DD418-2954-4203-9F3C-9DD3D81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67E-E294-43C6-B587-E8E27106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B8CA-F234-433E-92FA-1CC69496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726C-99BC-4EDD-B3C6-FD425CC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5D30-6539-4B51-8150-77E79BC9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58D6-67DC-4062-ABDC-357E6BE1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4CE3-9B76-4A54-B705-81B0CE72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20815-9500-4E8E-ADD9-7BEF353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B027-1B1C-4049-A715-D4F167C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B6DC7-B034-4A4C-977F-A349D0E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34FE-6D88-4D63-8714-FB1279FF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6B27-1A06-4B93-9FAC-C8A11403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9D6-A7A4-496F-BBB3-EAB47F7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129A-4AB0-4D30-A4F3-173B31D7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58CA-6B93-4EF1-9C85-4330734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6B3C-F1B9-4A4F-9285-132C98D3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40ED-CDFC-4514-98DC-513573C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9585-64C4-4905-8532-38D84085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E52A9-C2D4-485E-BF59-9965FFF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A3705-6C15-4A41-8127-EC0B2714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1C62-BE03-478A-9B7C-8F8CBD0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7369C-669E-4089-A67C-D87ADDC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A11F-25A1-4D40-92B7-49B5A8CE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703-56F8-4A12-9AF7-6C97C9E7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D6E3-24F8-4443-81C8-FDD7D19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DCEA-6D4E-4EC3-847F-A25FE4CD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2CE2C-864A-4E36-B502-205D4506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2D03E-73E8-4522-B70C-96655825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57AB-A3D6-410C-8F75-9563B1D6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9A7E7-915D-43ED-8CEB-717E8F91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B4865-107B-4B3B-B4B2-1D2A5A6E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8C4C-ABF4-4154-A255-1CB23EED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4B3D-B672-4562-BAC9-C4306F0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73D86-1267-4796-8385-2AB95A2C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06D-959C-4C37-9B87-68DF1B3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E95C-3E29-4F3E-B26C-AB07069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061B-B4B9-469F-A50C-4E1E223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A31E3-14B7-4083-8415-EA16681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0C54F-FBE3-48B3-BD88-C02CC1CC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FD836-68F7-48DC-AB99-642EE076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9D1C5-CE58-4731-BC34-575AEFE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D89A-E67B-440A-91B7-EA9B5BA4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B912-A4C0-4C8C-BD2B-42811454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914AA-E5F9-47CC-AC11-74AB381C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2362-E51C-4FCA-B25C-6A1E88B9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4D6-1E7B-4F1C-A706-9045F0A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3A08-5B94-4C6C-9408-46B0BB2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6D1F1-7ABD-439F-BF1F-11C6F814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7C65-E35C-463E-BF0E-4A57C53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FD653-B47C-4861-8A78-9D0F0E6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CE528-4E5B-4B5D-B5E8-835D5285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3B8FF-BC35-4777-8F7F-0F5E852C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11DB-850E-4E22-9573-33D9DA23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4DDB-8A0D-486B-B509-3AC36E4B58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42A8-F890-4713-8AE1-5E8E99C550D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D919-859E-4842-AE1C-5D80983F784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8EEC-10FA-4DD9-8AA2-F6A8EA2816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E6F1-B84C-48F6-B434-1DEC243804C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0A7-83AC-4EB5-8580-8DF9EE5B578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9594-84B6-4DC0-9406-77A0064B92F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168-3A59-4577-93A9-48E5290A656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9296280" cy="5456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3962520" y="5029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а: социальный педагог МОУ «ООШ № 7 г. Петровская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рикова Е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 - бытовой статус семьи: неполная, многодетная, малообеспеченная, другое( указать).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статус семьи: работающие, неработающие, безработные, пенсионеры ( вид пенсии)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– средовый статус семьи: вынужденные переселенцы, без определенного места жительства, условно – заключенны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лищно – бытовые условия: см.( акт обследования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 доходов семьи: зарплата, пенсия, пособия, компенсации, стипендии. Други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граждан льготных категорий ( указать статус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инвалидов ( указать диагноз, срок инвалидности, группу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 постановки на социальный патронаж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   Прогнозируемый результат СПП семьи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-360" y="151920"/>
            <a:ext cx="89154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ж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чень хорошие специалисты являются временными в жизни ребенка, в то время как его семья с ним всегда: от того, насколько родители ощущают себя ответственными за путь своего ребенка, насколько понимают его настоящие проблемы, зависит как возможность положительной динамики и состояние ребенка, так и более полная и счастливая жизнь его семь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ети – это наша старость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ьное воспитание – это наша  счастливая старость, плохое воспитание – это будущее горе, это наши слезы, эта наша вина перед нами людьми, перед всей страной»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.С. Макаренк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елями негативного влияния неблагополучной семьи на ребенка, является нарушение поведения, через бродяжничество, агрессивность, хулиганство, кражи, вымогательство, правонарушения, аморальные формы поведения, неадекватные реакции на замечания взрослых, что влечет к нарушению развития детей, которое выражено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изкой успеваем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уравновешенности психи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ростковом алкоголизм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ститу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ы с учителями, родителям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такты с криминогенными группировк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ринудительное лечение от алкоголиз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лишение родительских прав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консультир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бучающие консультации для родител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пропаганда семейных ценност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административные штраф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стоянный патронаж, в  раннем выявлении и индивидуальный  взаимодействие всех служб в раннем выявлении и индивидуальный подход к решению проблем каждой семь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68200" y="-30240"/>
            <a:ext cx="8425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ждение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ъяснение и доказательство правильности и необъективности  определенного поведения, либо недопустимости какого – то поступ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альная поддерж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 отношению к детям, где ребенок чувствует себя лишним, ненужны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влечение в интересную деятельност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учение дела, которое приведет к успеху, укрепит веру в собственные сил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сопережива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часто отсутствует в неблагополуч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е упраж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формированию нравственных качест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91960" y="-49320"/>
            <a:ext cx="8401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емейного неблагополуч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наблюдения, анкетирование  детей и родителей, мини- консилиумы, анализ документов, протоколы ГКДН, составление  карт социально – психологического сопровож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я помощь неблагополучной семь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ерез  советы по преодолению сложных жизненных ситуаций, консультации специалистов, индивидуальные беседы, индивидуальный социальный патронаж семей, родительские собрания на дом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актика семейного неблагополуч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ий всеобуч, лектории для подростков, семинары для учителей и родителей, высокий процент охвата устройства в летние лагеря, летние площадки,  постановка на уч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29528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дившись, что ребенок живет в тяжелых условиях педагог должен :   Объяснить родителям, что из-за конфликтов друг с другом, страдает ребенок, если не удается образумить родителей, создавших своему ребенку, обстоятельства, способные  изуродовать его душу,  нужно изолировать ребенка от подобных родителей, поместить его в интернат,  посоветовать передать на время родственникам вариантов много, и в каждом конкретном случае оптимальный  из них будет сугубо индивидуальным. Дефекты воспитания это и есть первейший, главнейший показатель неблагополучной семьи. Всем хорошо известны последствия жизни и воспитания в неблагополучной 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тская безнадзор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беги из до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авонарушения и преступная де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алкого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Наркомания и токсиком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я хорошего могу сказать о подростке? ( с целью психологического расположения к себе родителей, привлечения их в союзники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еня беспокоит в нем? ( то, самое, что является предметом вызова родителей в школу, прихода к ним домой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ы по нашему общему мнению причины, этого отрицательного явления, факта( это вызывает на откровенность, а значит позволит выяснить истинные причи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меры следует предпринять со стороны школы?( выработка общей  стратегии и тактики воспитания и перевоспитания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всего пед.  коллектива работающего с подростками, воспитывающихся в неблагоприятных условиях среды, которые сами,  пока изменить условия  не в состоянии - сформировать  внутреннюю устойчивость личности, критическое восприятие отрицательных фактор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х общих требований, общих принципов перехода к ребенку следует придерживаться, чтобы меры были эффективными( в этой ситуации родители откровенно становятся на сторону учителя и активно ему помогают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91960" y="-165240"/>
            <a:ext cx="8401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семь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матери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отца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 постоянного или временного проживания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бразовани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ца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емая  на момент постановки на учет работ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ь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ец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занятость ( указать вид деятельности)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60360" y="-23760"/>
            <a:ext cx="8332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11-24T17:10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