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AB6-F2F4-4FDE-9E2F-857B386B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1D3-B4FD-49E3-96A4-CD205CBC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4DE-FD84-43EE-ACBE-4F07B929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116-EA6B-4023-A7EB-654E9285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67FA-2200-4419-A5F4-FFF568A5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321C-696D-491F-88FD-F97863BD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D511-9BCE-4D90-AB67-83EE11A2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F603-2084-47C5-8F01-EC54721F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4933-274C-46F5-B929-8C021905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78F2-E5EA-455F-BA38-D487CDA4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04D0-4710-4599-A4A1-39019AF4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765-2E96-411E-9A31-B03CD0F7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9F92-96CE-4889-A74F-2049D9AD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7D10-0538-46C9-B9D7-A17B569B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F2E2-55AD-428B-B46B-955C70FF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2BA6-BE38-459D-B685-BE705A7B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FBF1-26C2-4FC1-8EE9-545FE4F7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4065-6D2E-4A02-8B05-2F63C0E2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6FA82-740F-4C32-9CF8-EAFC56CE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34ACC-1A60-49C1-9923-F86C10B7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01C6-12E5-4D83-AE19-84724B1D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4EE6B-EBCF-4B13-9D31-B2390707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2A6-3FDF-4BD9-B6EC-18EF9C61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8926-B639-42C6-9929-3827C3E9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2477A-9EF2-4AE4-A797-0C12A2B2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A473-F1CF-4473-9301-CBE87E4E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9575F-F1B9-4D9E-8AD1-06C00FA3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983B4-78A1-4A88-B660-73E51B44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F638E-B744-49C3-8789-A4CCE74E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32CF-798E-4BE7-AA74-2D888530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51797-0AAE-470D-9894-D2FF0C79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29600-7E00-4D20-9FDB-03E5A95E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9B4EF-37C6-425A-8383-A4BF75D5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7E5-7468-4C39-B4C0-624AEE06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B470-2BBD-43BC-9CC8-34E9BDE2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09A3-4DF7-481D-B7E7-E9C5ACBC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3EE35-CDD1-495A-87A2-6692513E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CD895-A2C0-416D-B79D-1B1D2929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2D462-1B58-4839-AE0A-4CF5BA9B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434D3-7A05-4236-B7F2-7614F9A7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E513D-AE43-4D48-92BA-2EFE8287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F759-6DC4-4B32-B61B-D3637467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13C6D-B2EB-476E-9149-53D52C85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182B9-0A85-4D3A-8568-4D5171D8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39A-FB75-4CA9-AEA9-5D061B5D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41D3E-674E-4245-BC33-051B87AE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1DA53-6F36-47FE-9F1E-4AC01DF0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DDCE3-5E01-497F-80B3-EFE86405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A8A26-35F6-40EB-B847-6583EAFD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DAA89-D489-4855-9C9D-4ACEE0D6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7F4E4-905D-4F54-A564-62388654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8F022-895A-4834-A234-B3D847DE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006A4-CB6D-41DA-9C1D-543CC906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8E7A4-F422-4125-88F5-EDA9AC0F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B2536-EF43-4E1A-80CD-21FCA5E4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C08-46CB-4AC2-A2B2-04642B78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42F90-D0A3-419A-A6EC-C6DD4B3B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B18F1-1A23-4BD9-8581-767333F4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ACA3C-1590-4F06-9503-1B4BE072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A37B8-F178-4933-8EBC-FB3865DA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8A1C8-DA14-4F13-92E0-1309E2B7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4CEB4-0E87-4E72-9F3E-60060A1F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2E2B7-620B-4754-A69C-21A05819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F0A0B-368C-432C-BC43-B0E4BF76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62C48-D07F-452C-90A5-6622D7CA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40E65-CC30-430B-93D0-3BAFA4BC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D544-82D8-4680-BF99-37B50418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A94F2-B52E-4F54-B693-0DA78F08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B7648-BCA5-4A86-AF29-21DF2DD2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90759-5203-492F-9226-01CFAA66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C5E7F-5DC1-4E24-9ADE-9AF05F14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E4EEE-A514-472D-A1A7-B7BF68BD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69E35-0256-459E-A7AA-22871F46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B17E4-353A-43D0-84C4-84B4D8F3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52CD0-030A-44B8-880E-10A9A25E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869C3-E798-4B4B-A7A1-9AB31E0C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43DC7-3454-4B92-9C34-3AD9ED5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9C3-CE46-4CE5-9F01-61DE50BC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4120D-DF9A-4196-91D3-D3DF6A53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12291-105A-4E3A-98AC-E895A324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D986A-D967-4467-B3A2-774453F0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52A3D-98B3-4EE1-9BED-7A0B0F44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5FC68-5E3C-4510-9933-A18D6732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96136-3FC6-438C-958B-9F45555A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4A4E8-81F0-4800-9C8F-82F0FB98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43C81-090F-4E20-A396-21862AF4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66B2E-0DF2-4925-82D7-C8856DEA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F9705-364E-4680-B87B-67C9A8F2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E07-6C11-49CF-809F-6CCA6B39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6462E-9E42-43FC-9250-B2D941EF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1FD7A-465B-45CD-8178-56D35F55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3CDD7-E87C-4EC2-8CBB-188AE00A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A4109-3092-4262-A578-BD18C932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38BBE-D27D-4C50-B225-81B1F729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273BE-5862-47B9-BE5F-2C1ACFFB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F8B60-1FFE-4603-AF8F-504BB338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677C-E53B-440B-86B9-0AA119C91B0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F856-F0BB-4053-A75E-2FE72D796AA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931E-5115-4D12-B1A5-88CB9ED7A24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6390-90B7-4A4D-9B9A-903EB53E9D6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0DFF-66A2-47FD-8779-0D799DBE1EE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EF65-3D48-4CB6-926A-7FEA073B706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B963-96E3-42F4-A149-66DE991E249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8F04-B99C-40FD-AA1D-B1D2E27CA30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9296280" cy="54561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5"/>
          <p:cNvSpPr/>
          <p:nvPr/>
        </p:nvSpPr>
        <p:spPr>
          <a:xfrm>
            <a:off x="3962520" y="502920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готовила: социальный педагог МОУ «ООШ № 7 г. Петровская Саратовской области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арикова Е.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  - бытовой статус семьи: неполная, многодетная, малообеспеченная, другое( указать).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й статус семьи: работающие, неработающие, безработные, пенсионеры ( вид пенсии)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 – средовый статус семьи: вынужденные переселенцы, без определенного места жительства, условно – заключенны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лищно – бытовые условия: см.( акт обследования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чники доходов семьи: зарплата, пенсия, пособия, компенсации, стипендии. Други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личие в семье граждан льготных категорий ( указать статус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личие в семье инвалидов ( указать диагноз, срок инвалидности, группу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а постановки на социальный патронаж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4.    Прогнозируемый результат СПП семьи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-360" y="151920"/>
            <a:ext cx="891540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аж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очень хорошие специалисты являются временными в жизни ребенка, в то время как его семья с ним всегда: от того, насколько родители ощущают себя ответственными за путь своего ребенка, насколько понимают его настоящие проблемы, зависит как возможность положительной динамики и состояние ребенка, так и более полная и счастливая жизнь его семьи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Дети – это наша старость.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авильное воспитание – это наша  счастливая старость, плохое воспитание – это будущее горе, это наши слезы, эта наша вина перед нами людьми, перед всей страной»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А.С. Макаренк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51920" y="152280"/>
            <a:ext cx="85345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казателями негативного влияния неблагополучной семьи на ребенка, является нарушение поведения, через бродяжничество, агрессивность, хулиганство, кражи, вымогательство, правонарушения, аморальные формы поведения, неадекватные реакции на замечания взрослых, что влечет к нарушению развития детей, которое выражено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низкой успеваемост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еуравновешенности психик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дростковом алкоголизм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оституц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нфликты с учителями, родителями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нтакты с криминогенными группировка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Принудительное лечение от алкоголизм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лишение родительских прав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консультировани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бучающие консультации для родителе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пропаганда семейных ценносте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административные штрафы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стоянный патронаж, в  раннем выявлении и индивидуальный  взаимодействие всех служб в раннем выявлении и индивидуальный подход к решению проблем каждой семь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268200" y="-30240"/>
            <a:ext cx="8425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беждение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разъяснение и доказательство правильности и необъективности  определенного поведения, либо недопустимости какого – то поступк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альная поддерж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о отношению к детям, где ребенок чувствует себя лишним, ненужны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влечение в интересную деятельность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учение дела, которое приведет к успеху, укрепит веру в собственные сил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товность сопереживать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часто отсутствует в неблагополучн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равственное упражн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формированию нравственных качест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91960" y="-49320"/>
            <a:ext cx="84013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емейного неблагополуч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наблюдения, анкетирование  детей и родителей, мини- консилиумы, анализ документов, протоколы ГКДН, составление  карт социально – психологического сопровожд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ая помощь неблагополучной семь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ерез  советы по преодолению сложных жизненных ситуаций, консультации специалистов, индивидуальные беседы, индивидуальный социальный патронаж семей, родительские собрания на дому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филактика семейного неблагополуч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ьский всеобуч, лектории для подростков, семинары для учителей и родителей, высокий процент охвата устройства в летние лагеря, летние площадки,  постановка на уче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91960" y="55440"/>
            <a:ext cx="8401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0" y="129528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бедившись, что ребенок живет в тяжелых условиях педагог должен :   Объяснить родителям, что из-за конфликтов друг с другом, страдает ребенок, если не удается образумить родителей, создавших своему ребенку, обстоятельства, способные  изуродовать его душу,  нужно изолировать ребенка от подобных родителей, поместить его в интернат,  посоветовать передать на время родственникам вариантов много, и в каждом конкретном случае оптимальный  из них будет сугубо индивидуальным. Дефекты воспитания это и есть первейший, главнейший показатель неблагополучной семьи. Всем хорошо известны последствия жизни и воспитания в неблагополучной семь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тская безнадзор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беги из дом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авонарушения и преступная деятель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алкоголиз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Наркомания и токсикома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91960" y="55440"/>
            <a:ext cx="8401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я хорошего могу сказать о подростке? ( с целью психологического расположения к себе родителей, привлечения их в союзники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меня беспокоит в нем? ( то, самое, что является предметом вызова родителей в школу, прихода к ним домой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вы по нашему общему мнению причины, этого отрицательного явления, факта( это вызывает на откровенность, а значит позволит выяснить истинные причин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меры следует предпринять со стороны школы?( выработка общей  стратегии и тактики воспитания и перевоспитания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ча всего пед.  коллектива работающего с подростками, воспитывающихся в неблагоприятных условиях среды, которые сами,  пока изменить условия  не в состоянии - сформировать  внутреннюю устойчивость личности, критическое восприятие отрицательных факторо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х общих требований, общих принципов перехода к ребенку следует придерживаться, чтобы меры были эффективными( в этой ситуации родители откровенно становятся на сторону учителя и активно ему помогают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291960" y="-165240"/>
            <a:ext cx="84013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едения о семье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.И.О. матери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.И.О. отца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ие члены семьи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рес постоянного или временного проживания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Образование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ца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яемая  на момент постановки на учет работ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ь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ец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ие члены семьи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занятость ( указать вид деятельности)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360360" y="-23760"/>
            <a:ext cx="83329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21-11-24T17:10:1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