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BFB3-C1E3-46EE-B86A-13EE8B28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6186-CAFE-4E8A-A7C0-B6B17588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8BE-961D-4A98-83E6-9FF5ADC3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CAA-1DAE-421C-BDB1-997E8B7D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A9CD-A694-4D89-AF2B-3989D0C7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094E-EA61-49F2-A4A3-7DA70B96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5526-B46F-4271-B2C7-9099F183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DE13-FEB4-45E5-8338-6EABEA79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4FAA-3560-44F1-96F7-6D0AF432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70A0-009B-4EA7-9A0C-BB278CA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D6EA-F0FC-48B2-8FBC-6B2BB743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7B56-690D-4950-9E9A-FCA0C762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94FD-3942-4BF3-9144-BB678CB9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9310-95B0-46AC-8361-F16D171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EB62-8C67-4BB7-8AEF-E1EC08F3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2AFB-3047-4B7E-9AD3-F99E8EC1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F3F1-C6B8-4E10-8759-EED8710C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66149-5D80-4CB7-A366-C258C2FB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7C3C-704A-4DD6-A838-5B75BF38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E848C-DA5D-414C-AC8B-27E2A140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B28C6-46F4-4F8B-9BF1-12701393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2DCE-DA0B-4048-9CBA-66056716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113-6D03-4DF7-97BA-471BED5A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F8F9-531E-4CD4-8897-825A2105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A5164-CFEE-4285-838A-124A2BBC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4E1C4-AA50-4392-9EB8-F3B8221B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55F4-A790-4397-8F9D-E277DDCF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4F9F-30C1-43A3-9B64-8FA61A57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12CC-D5E8-4306-9B20-61EEE69A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55D6-D8C7-4BA4-833E-D53982F67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372DD-DD75-4233-8C6F-0AC8607C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B6CF2-5CD8-409E-BBF7-AD5A4564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00691-7B29-4E83-B2A9-DBCA4BB2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EFF-5644-4950-B89E-140A3E0E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63CF-EDB4-4917-A7C7-9DDBBAA6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544A7-7A50-42AB-A908-CEAD5018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B15B-6107-4CD6-8366-79441B31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4809C-21F0-4F90-9B2D-283E7FC1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E39E6-C976-4916-83A0-242E79BF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072F9-171A-479C-A8F1-CB35867B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A05F-82F0-47AC-86DC-EFA43B72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18DB-4686-43AB-9EB6-9E3687C77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A7C3-1BCC-49D1-A2C8-892DB268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B18F4-A95C-48B3-8FA0-C1A29AD6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A39-26CF-42FF-9988-60828EB5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F219E-20DD-422E-8695-3BEFF111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CC2D9-92EF-4D71-8D70-A1014988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A30FD-9DD2-453F-83B7-94F5D676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D829E-EAD2-4A08-9BA6-2B000B75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A448D-87B6-440A-8DDE-7FA9C8E3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0C822-E381-4F2D-BCEE-0850D8D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4A9EB-69CA-4F3C-98A8-23C8E5CE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DBEFF-5693-4713-A88C-0DAFEFCD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17044-3DB1-496E-95E3-D8B79E5E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7449-F475-4C57-9AA3-30C22555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165-EA99-4D52-92EB-6C310C8C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C9968-4FA8-4E3A-A4FB-6F7D41E3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959E6-29F0-413A-86EE-2E70CAD1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4D896-E63C-48A1-A214-C4487CE2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FA173-7891-4151-9918-66377943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3A009-DFAB-4EF5-A6B8-CC9D1B62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6795C-E846-4297-8243-6AAF064C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C7E9F-6DF7-4289-84F4-E281815E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83FA8-27DA-4004-819B-B6BF5E0C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B6447-5F21-4CD4-A58C-CF05863D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B0A10-B0B3-446A-8439-0EC4EDBD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2D77-7055-4FBB-9922-2DC2C72C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B3D9C-AA5F-472D-9C28-8878C264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25C12-51EE-4AE5-817A-ACF60FC2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9C83A-B234-43F7-A61C-A007E146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A897B-E735-4D1B-AF2C-98FDBC92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E5776-4246-46AC-916A-1F40B6D5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12E76-7FAA-418E-BCC1-9C37922F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C615F-39B2-424A-8EDD-C91B5629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C08D8-35C1-42E0-863F-204C9F70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9887D-06DC-4F9B-98D0-94C38009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9F78E-80D6-4EAF-84DA-D33F89C4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5DF-2688-44BD-8EC2-64F9D0C2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9E0D2-EAEA-4365-9798-5004BF5F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02F53-DE6B-4123-A1D3-9D63CDFF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0B6A3-D6ED-4E89-9D83-A369D923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E5701-CA38-42DA-A031-5E2F24F9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EC3A2-80D6-453E-8D64-D6477E3D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98B72-B290-4EF0-AD8E-52DD24C7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F2453-F87D-4B02-A710-9197A727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2EB22-2403-4B4C-8A30-B0A74A52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3BBA7-79D2-49AE-8FF1-A4201CAA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25105-A9EF-4122-8794-CE2C022C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73C5-1CE3-498A-B031-8B118B2E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2F80E-E616-4401-8A53-91235B65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875CA-4EE4-4F78-90E3-6320485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ACE89-2A45-486E-B599-86ACCAA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AF884-172A-4271-B760-02996B74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3FABE-6F53-415A-BE3C-D94C3AA9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03349-B892-40EE-831C-2F0B940C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D2139-8203-4723-BE65-276BB0C5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9DC3-2DF2-465A-8A16-845650FE09D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DD70-5BA8-4C3C-9EE7-516A7EC6224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7BA7-42C7-4609-8901-D6FABE3DD28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E0DE-E398-4792-94E5-64CE0F0192F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99B-EEBD-4389-818E-431D32BC7FA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13D1-A172-44D1-918D-86EFB1D10C1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02B6-304E-48DA-808E-5FDDF54CB2F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A93E-F349-4661-8B43-3F637E3B7EE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139680" y="268200"/>
            <a:ext cx="9296280" cy="54561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5"/>
          <p:cNvSpPr/>
          <p:nvPr/>
        </p:nvSpPr>
        <p:spPr>
          <a:xfrm>
            <a:off x="3962520" y="50292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готовила: социальный педагог МОУ «ООШ № 7 г. Петровская 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арикова Е.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  - бытовой статус семьи: неполная, многодетная, малообеспеченная, другое( указать).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ый статус семьи: работающие, неработающие, безработные, пенсионеры ( вид пенсии)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о – средовый статус семьи: вынужденные переселенцы, без определенного места жительства, условно – заключенны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лищно – бытовые условия: см.( акт обследования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точники доходов семьи: зарплата, пенсия, пособия, компенсации, стипендии. Други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в семье граждан льготных категорий ( указать статус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ичие в семье инвалидов ( указать диагноз, срок инвалидности, группу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чина постановки на социальный патронаж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4.    Прогнозируемый результат СПП семьи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-360" y="151920"/>
            <a:ext cx="8915400" cy="59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аж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очень хорошие специалисты являются временными в жизни ребенка, в то время как его семья с ним всегда: от того, насколько родители ощущают себя ответственными за путь своего ребенка, насколько понимают его настоящие проблемы, зависит как возможность положительной динамики и состояние ребенка, так и более полная и счастливая жизнь его семьи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Дети – это наша старость.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авильное воспитание – это наша  счастливая старость, плохое воспитание – это будущее горе, это наши слезы, эта наша вина перед нами людьми, перед всей страной».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А.С. Макаренко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15192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казателями негативного влияния неблагополучной семьи на ребенка, является нарушение поведения, через бродяжничество, агрессивность, хулиганство, кражи, вымогательство, правонарушения, аморальные формы поведения, неадекватные реакции на замечания взрослых, что влечет к нарушению развития детей, которое выражено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 низкой успеваемост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неуравновешенности психик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дростковом алкоголизм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оституц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фликты с учителями, родителями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контакты с криминогенными группировкам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ринудительное лечение от алкоголиз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лишение родительских прав,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консультировани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бучающие консультации для родителе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 пропаганда семейных ценностей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административные штрафы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стоянный патронаж, в  раннем выявлении и индивидуальный  взаимодействие всех служб в раннем выявлении и индивидуальный подход к решению проблем каждой семьи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68200" y="-30240"/>
            <a:ext cx="8425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еждение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зъяснение и доказательство правильности и необъективности  определенного поведения, либо недопустимости какого – то поступк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альная поддерж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по отношению к детям, где ребенок чувствует себя лишним, ненужным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влечение в интересную деятельность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ручение дела, которое приведет к успеху, укрепит веру в собственные силы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ность сопереживать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часто отсутствует в неблагополуч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равственное упражн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формированию нравственных качест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91960" y="-49320"/>
            <a:ext cx="84013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емейного неблагополуч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наблюдения, анкетирование  детей и родителей, мини- консилиумы, анализ документов, протоколы ГКДН, составление  карт социально – психологического сопровожде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ая помощь неблагополучной семье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через  советы по преодолению сложных жизненных ситуаций, консультации специалистов, индивидуальные беседы, индивидуальный социальный патронаж семей, родительские собрания на дом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филактика семейного неблагополуч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тельский всеобуч, лектории для подростков, семинары для учителей и родителей, высокий процент охвата устройства в летние лагеря, летние площадки,  постановка на учет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129528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бедившись, что ребенок живет в тяжелых условиях педагог должен :   Объяснить родителям, что из-за конфликтов друг с другом, страдает ребенок, если не удается образумить родителей, создавших своему ребенку, обстоятельства, способные  изуродовать его душу,  нужно изолировать ребенка от подобных родителей, поместить его в интернат,  посоветовать передать на время родственникам вариантов много, и в каждом конкретном случае оптимальный  из них будет сугубо индивидуальным. Дефекты воспитания это и есть первейший, главнейший показатель неблагополучной семьи. Всем хорошо известны последствия жизни и воспитания в неблагополучной семь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тская безнадзор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беги из до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авонарушения и преступная деятельност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алкоголиз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Наркомания и токсикома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91960" y="55440"/>
            <a:ext cx="8401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я хорошего могу сказать о подростке? ( с целью психологического расположения к себе родителей, привлечения их в союзники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меня беспокоит в нем? ( то, самое, что является предметом вызова родителей в школу, прихода к ним домой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вы по нашему общему мнению причины, этого отрицательного явления, факта( это вызывает на откровенность, а значит позволит выяснить истинные причи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е меры следует предпринять со стороны школы?( выработка общей  стратегии и тактики воспитания и перевоспитания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а всего пед.  коллектива работающего с подростками, воспитывающихся в неблагоприятных условиях среды, которые сами,  пока изменить условия  не в состоянии - сформировать  внутреннюю устойчивость личности, критическое восприятие отрицательных факторов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их общих требований, общих принципов перехода к ребенку следует придерживаться, чтобы меры были эффективными( в этой ситуации родители откровенно становятся на сторону учителя и активно ему помогают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91960" y="-165240"/>
            <a:ext cx="840132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едения о семье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.И.О. матери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.И.О. отца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е члены семьи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дрес постоянного или временного проживания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Образование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ца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емая  на момент постановки на учет работ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ь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ец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ие члены семьи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озанятость ( указать вид деятельности)_______________________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360360" y="-23760"/>
            <a:ext cx="83329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21-11-24T17:10:1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