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33D-E36A-4F32-847E-5F176891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14E-B1A8-4B55-AEC3-053DC677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7BC-5BCB-47C5-B616-C0D9D0256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3D0-B9C9-4C29-AF03-D38004BB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858-A240-498B-A0F8-4334D129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909-67E5-484A-860B-6F2CA042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51C-4603-41B5-8798-7F77E9D0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373-977E-4FE2-A0A2-C5F499E2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21E-108B-4AAD-B203-23CEB19B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47A-9A4B-448E-BCBE-FA621506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9AC-744D-475B-A088-0A60D445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254-30C5-4A57-8845-D1B9432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ED26-5FBC-46FA-98BA-A6124B01D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a0000"/>
                </a:solidFill>
                <a:latin typeface="Times New Roman"/>
              </a:rPr>
              <a:t>Past Ten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lready              never           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never                   just             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s soon as      by the time            till/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81320" y="2565360"/>
            <a:ext cx="225036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216240" y="2565360"/>
            <a:ext cx="25430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6529680" y="2565360"/>
            <a:ext cx="2402640" cy="210564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ve we/you/the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Continuous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in the past lasted for some time before another pas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d been teaching at that school for some time before I m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One action that lasted for some time in the past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knew the city very well because he had been working as a taxi driver for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Time expressions with the </a:t>
            </a:r>
            <a:br>
              <a:rPr sz="4000"/>
            </a:br>
            <a:r>
              <a:rPr b="0" lang="en-US" sz="4000" spc="-1" strike="noStrike">
                <a:solidFill>
                  <a:srgbClr val="4e040d"/>
                </a:solidFill>
                <a:latin typeface="Times New Roman"/>
              </a:rPr>
              <a:t>Past Perfect Continuo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48000" y="30211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25080" y="508464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786920" y="227664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779640" y="39337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660000" y="41497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040d"/>
                </a:solidFill>
                <a:latin typeface="Times New Roman"/>
              </a:rPr>
              <a:t>un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йте следующие утвердительные предложения в отриц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6 o’clock the rain had st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ere having tea at 5 o’c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d been staying at the hotel since M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s flying to London that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d known Mark all my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iter entered the dark kitch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rived yesterday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constantly missing the first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ved in the country last sum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a had been writing with my pen for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берите верный вариант глагола и переведите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looked tired. She … (planted/was planting/had been planting) flowers all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… (was playing/played/had played) volleyball when the ball hit my 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clothes were smudgy because he … (finished/had finished/was finished) painting the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 was five my parents … (were buying/bought/had been buying) a piano for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m … (was dancing/danced/had danced) when her husband opened the d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… (cut/was cutting/had been cutting) the grass for an hour when suddenly the lawn-mower broke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I … (had taken off/took off/was taking off) my coat, then I went to the bath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forgot everything she … (had studied/was studying/studied) at a driving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82040" y="2565360"/>
            <a:ext cx="198216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16240" y="2565360"/>
            <a:ext cx="2466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did not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530040" y="2565360"/>
            <a:ext cx="226872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I/you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he/she/it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Did we/you/they wa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Si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resen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started and finished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sent the e-mail yester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Did they do the job las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happened one after the other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She opened the door, picked up the telefone and made a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Actions that were repeated or were habit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caught the early train every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how long ago...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month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a year a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every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195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in Janu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summ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last y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 day before 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th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34920" y="2708280"/>
            <a:ext cx="4969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Time expressions usually come at the end of a sent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2600" y="2565360"/>
            <a:ext cx="256104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you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wa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were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06000" y="2565360"/>
            <a:ext cx="310968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I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you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he/she/it was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Arial"/>
              </a:rPr>
              <a:t>we/you/they were not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312960" y="2565360"/>
            <a:ext cx="2779200" cy="155700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I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you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as he/she/it wai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re we/you/they waitit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27640" y="1197000"/>
            <a:ext cx="0" cy="122400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6443640" y="1268280"/>
            <a:ext cx="86508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0000"/>
                </a:solidFill>
                <a:latin typeface="Times New Roman"/>
              </a:rPr>
              <a:t>Past Continuo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We use the Past Continuous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ctions that were in progress at a specific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having lunch at one o’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Was he listening to the radio when you le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wo or more actions that were in progress at the same tim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My brother was putting the tools away and I was cleaning the ga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The background events in a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The wind was blowing and the clouds were moving across the blue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n action in progress in the past that was interrupted by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0000"/>
                </a:solidFill>
                <a:latin typeface="Times New Roman"/>
              </a:rPr>
              <a:t>I was reading when the telephone 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Time Expressions with the Past Contin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050920" y="249228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at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</a:rPr>
              <a:t>ten</a:t>
            </a: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 o’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70520" y="42926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Arial"/>
              </a:rPr>
              <a:t>all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5580720" y="335772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at tha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213080" y="51577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040d"/>
                </a:solidFill>
                <a:latin typeface="Times New Roman"/>
                <a:ea typeface="Times New Roman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81680" y="2565360"/>
            <a:ext cx="237060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Affi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216240" y="2565360"/>
            <a:ext cx="2721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I/you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e/she/it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we/you/they had not wa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313680" y="2565360"/>
            <a:ext cx="2523240" cy="1282680"/>
          </a:xfrm>
          <a:prstGeom prst="rect">
            <a:avLst/>
          </a:prstGeom>
          <a:noFill/>
          <a:ln w="28440">
            <a:solidFill>
              <a:srgbClr val="3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a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I/you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he/she/it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000"/>
                </a:solidFill>
                <a:latin typeface="Times New Roman"/>
              </a:rPr>
              <a:t>Had we/you/they wait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>
            <a:off x="1402920" y="1268280"/>
            <a:ext cx="865080" cy="100836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4356000" y="1268280"/>
            <a:ext cx="0" cy="108108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227640" y="1268280"/>
            <a:ext cx="1008360" cy="936720"/>
          </a:xfrm>
          <a:prstGeom prst="line">
            <a:avLst/>
          </a:prstGeom>
          <a:ln w="57240">
            <a:solidFill>
              <a:srgbClr val="3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0000"/>
                </a:solidFill>
                <a:latin typeface="Times New Roman"/>
              </a:rPr>
              <a:t>Past Perfect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a0000"/>
                </a:solidFill>
                <a:latin typeface="Times New Roman"/>
              </a:rPr>
              <a:t>We use the Past Perfect Simple to tal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nother action in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e had seen a programm about India, so we went to the places the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before a specific time in the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Walter has finished the project by lunch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ppened in the past and had an effect on a following action or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I have known him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700"/>
              </a:spcBef>
              <a:buClr>
                <a:srgbClr val="3a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000"/>
                </a:solidFill>
                <a:latin typeface="Times New Roman"/>
              </a:rPr>
              <a:t>Something that has jus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He has jus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a0000"/>
                </a:solidFill>
                <a:latin typeface="Times New Roman"/>
              </a:rPr>
              <a:t>They’ve just told me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8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10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9:07:09Z</dcterms:created>
  <dc:creator>Татьяна</dc:creator>
  <dc:description/>
  <dc:language>en-US</dc:language>
  <cp:lastModifiedBy>Home-PC</cp:lastModifiedBy>
  <dcterms:modified xsi:type="dcterms:W3CDTF">2021-07-06T11:39:05Z</dcterms:modified>
  <cp:revision>31</cp:revision>
  <dc:subject/>
  <dc:title>Present Tenses</dc:title>
</cp:coreProperties>
</file>