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88F-3D1F-40F9-A6AD-089A54A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944-01AC-41D4-A409-72532FC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E1E-A70F-49E4-8B3A-22F62457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1A5-C0C6-4B67-AF10-CEEC0E37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D76-CD5A-435B-BE05-3D5E6D08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3C5-FC7B-4361-9602-D0CD6F3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067-3CE9-42C8-8735-F570531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161-ADD3-4D04-8559-34A681C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581-824C-4996-BBDB-F5C7A8FD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14C-62A4-400E-B841-D699A65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82F-1FDD-4B95-A5CA-F07E775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6E0-9C3C-4578-8F42-B92B729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FF68-F059-469B-A83B-0A10BC54B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йте следующие утвердительные предложения в отриц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6 o’clock the rain had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re having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been staying at the hotel since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flying to London that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known Mark all m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iter entered the dark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rived yesterday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constantly missing the firs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ved in the country last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a had been writing with my pen for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верный вариант глагола и переведит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looked tired. She … (planted/was planting/had been planting) flowers all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… (was playing/played/had played) volleyball when the ball hit my 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clothes were smudgy because he … (finished/had finished/was finished) painting the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 was five my parents … (were buying/bought/had been buying) a piano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 … (was dancing/danced/had danced) when her husband opened the 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… (cut/was cutting/had been cutting) the grass for an hour when suddenly the lawn-mower broke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… (had taken off/took off/was taking off) my coat, then I went to the bath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forgot everything she … (had studied/was studying/studied) at a driving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Home-PC</cp:lastModifiedBy>
  <dcterms:modified xsi:type="dcterms:W3CDTF">2021-07-06T11:39:05Z</dcterms:modified>
  <cp:revision>31</cp:revision>
  <dc:subject/>
  <dc:title>Present Tenses</dc:title>
</cp:coreProperties>
</file>