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CA0-316D-42E4-A2C8-52ED4C8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BA3-8E49-4BB9-AF33-61ACA12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06B-21F8-4307-8FA2-20A270B4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1B6-69E4-4BE7-85C6-60F4A7C5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D2D-AFAD-4C42-9995-7BA66A09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F44-371D-4BBC-92F8-90D3D394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D69-53A0-4914-9282-44F2F6DE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E28-FD95-48E3-AC31-25358D92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768-88FB-440A-A58C-2FBFB57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978-3A62-4F7F-BED1-AD953E6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AE4-058F-4A4B-B63C-039B61D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289-8DE6-49A0-A385-5146694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B9DE-CD88-4CF2-836E-6934D0DEE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йте следующие утвердительные предложения в отриц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6 o’clock the rain had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re having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been staying at the hotel since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flying to London that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known Mark all m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iter entered the dark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rived yesterday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constantly missing the firs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ved in the country last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a had been writing with my pen for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верный вариант глагола и переведит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looked tired. She … (planted/was planting/had been planting) flowers all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… (was playing/played/had played) volleyball when the ball hit my 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clothes were smudgy because he … (finished/had finished/was finished) painting the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 was five my parents … (were buying/bought/had been buying) a piano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 … (was dancing/danced/had danced) when her husband opened the 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… (cut/was cutting/had been cutting) the grass for an hour when suddenly the lawn-mower broke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… (had taken off/took off/was taking off) my coat, then I went to the bath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forgot everything she … (had studied/was studying/studied) at a driving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Home-PC</cp:lastModifiedBy>
  <dcterms:modified xsi:type="dcterms:W3CDTF">2021-07-06T11:39:05Z</dcterms:modified>
  <cp:revision>31</cp:revision>
  <dc:subject/>
  <dc:title>Present Tenses</dc:title>
</cp:coreProperties>
</file>