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  <p:sldId id="342" r:id="rId97"/>
    <p:sldId id="343" r:id="rId98"/>
    <p:sldId id="344" r:id="rId99"/>
    <p:sldId id="345" r:id="rId100"/>
    <p:sldId id="346" r:id="rId101"/>
    <p:sldId id="347" r:id="rId102"/>
    <p:sldId id="348" r:id="rId103"/>
    <p:sldId id="349" r:id="rId104"/>
    <p:sldId id="350" r:id="rId105"/>
    <p:sldId id="351" r:id="rId106"/>
    <p:sldId id="352" r:id="rId107"/>
    <p:sldId id="353" r:id="rId108"/>
    <p:sldId id="354" r:id="rId109"/>
    <p:sldId id="355" r:id="rId110"/>
    <p:sldId id="356" r:id="rId111"/>
    <p:sldId id="357" r:id="rId112"/>
    <p:sldId id="358" r:id="rId113"/>
    <p:sldId id="359" r:id="rId114"/>
    <p:sldId id="360" r:id="rId115"/>
    <p:sldId id="361" r:id="rId116"/>
    <p:sldId id="362" r:id="rId117"/>
    <p:sldId id="363" r:id="rId118"/>
    <p:sldId id="364" r:id="rId119"/>
    <p:sldId id="365" r:id="rId120"/>
    <p:sldId id="366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slide" Target="slides/slide87.xml"/><Relationship Id="rId98" Type="http://schemas.openxmlformats.org/officeDocument/2006/relationships/slide" Target="slides/slide88.xml"/><Relationship Id="rId99" Type="http://schemas.openxmlformats.org/officeDocument/2006/relationships/slide" Target="slides/slide89.xml"/><Relationship Id="rId100" Type="http://schemas.openxmlformats.org/officeDocument/2006/relationships/slide" Target="slides/slide90.xml"/><Relationship Id="rId101" Type="http://schemas.openxmlformats.org/officeDocument/2006/relationships/slide" Target="slides/slide91.xml"/><Relationship Id="rId102" Type="http://schemas.openxmlformats.org/officeDocument/2006/relationships/slide" Target="slides/slide92.xml"/><Relationship Id="rId103" Type="http://schemas.openxmlformats.org/officeDocument/2006/relationships/slide" Target="slides/slide93.xml"/><Relationship Id="rId104" Type="http://schemas.openxmlformats.org/officeDocument/2006/relationships/slide" Target="slides/slide94.xml"/><Relationship Id="rId105" Type="http://schemas.openxmlformats.org/officeDocument/2006/relationships/slide" Target="slides/slide95.xml"/><Relationship Id="rId106" Type="http://schemas.openxmlformats.org/officeDocument/2006/relationships/slide" Target="slides/slide96.xml"/><Relationship Id="rId107" Type="http://schemas.openxmlformats.org/officeDocument/2006/relationships/slide" Target="slides/slide97.xml"/><Relationship Id="rId108" Type="http://schemas.openxmlformats.org/officeDocument/2006/relationships/slide" Target="slides/slide98.xml"/><Relationship Id="rId109" Type="http://schemas.openxmlformats.org/officeDocument/2006/relationships/slide" Target="slides/slide99.xml"/><Relationship Id="rId110" Type="http://schemas.openxmlformats.org/officeDocument/2006/relationships/slide" Target="slides/slide100.xml"/><Relationship Id="rId111" Type="http://schemas.openxmlformats.org/officeDocument/2006/relationships/slide" Target="slides/slide101.xml"/><Relationship Id="rId112" Type="http://schemas.openxmlformats.org/officeDocument/2006/relationships/slide" Target="slides/slide102.xml"/><Relationship Id="rId113" Type="http://schemas.openxmlformats.org/officeDocument/2006/relationships/slide" Target="slides/slide103.xml"/><Relationship Id="rId114" Type="http://schemas.openxmlformats.org/officeDocument/2006/relationships/slide" Target="slides/slide104.xml"/><Relationship Id="rId115" Type="http://schemas.openxmlformats.org/officeDocument/2006/relationships/slide" Target="slides/slide105.xml"/><Relationship Id="rId116" Type="http://schemas.openxmlformats.org/officeDocument/2006/relationships/slide" Target="slides/slide106.xml"/><Relationship Id="rId117" Type="http://schemas.openxmlformats.org/officeDocument/2006/relationships/slide" Target="slides/slide107.xml"/><Relationship Id="rId118" Type="http://schemas.openxmlformats.org/officeDocument/2006/relationships/slide" Target="slides/slide108.xml"/><Relationship Id="rId119" Type="http://schemas.openxmlformats.org/officeDocument/2006/relationships/slide" Target="slides/slide109.xml"/><Relationship Id="rId120" Type="http://schemas.openxmlformats.org/officeDocument/2006/relationships/slide" Target="slides/slide110.xml"/><Relationship Id="rId121" Type="http://schemas.openxmlformats.org/officeDocument/2006/relationships/slide" Target="slides/slide111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630-A05E-4CD0-A2E0-575E04BA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D8B-3EB2-4485-933B-721FD817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580AC-4CDF-417F-8251-8F1E86D9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34B57-34E1-4F93-97DD-71730DD2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316A1-4728-4234-B66A-35B626FA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2CF96-44F5-45D2-9110-4E101982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A243D-EFC1-414D-A77D-C3A5F542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6A64A-8988-4D2D-9714-08D1B4C7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1F0E9-D128-459C-862E-E78FC131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105D1-5DD9-4827-A936-C7C893DB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8435F-67C7-4AC8-A234-57172059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57B-9CB2-458E-8FDB-EB27EF0F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81C-A5D9-4679-95CB-96E2C8D1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AB94-FA85-4B09-8204-D2A37708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F90F-FD40-46C8-8005-5946DCC3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EC80-3033-42CF-A473-46DBA901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2DF0-587A-4878-B714-921C82EC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C0B4-ACFD-4265-BF64-A802DE7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11BD-B9C6-407D-8FB1-BCD5ED0B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B7AF-B16C-4ADE-93E0-BF0BC620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22D-F232-455B-9708-B57D6790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84D2-9AA5-4C77-A05C-191D8BB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C92F-51D5-43A0-9D1B-7420D4F2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2315-3968-443C-A5A5-8B821938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770B-45CC-47D2-8C85-6EA41B7B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6C8D-A1A4-4009-BD26-E5E6F275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F2AA-E2C2-49A1-826E-67F443DB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6F7F-6141-4723-B9E8-4C0887D9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54CD-5AFC-40E4-B1FC-B2CD6D74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F1C4D-7961-4C75-98DC-4B95B06D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F7EC-3AA2-4A37-8438-272F2B6E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6D5-E0C7-41E4-97D6-716414AB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C7C5-4EF0-4DA8-BBA3-6E40E197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6402A-3FCB-4F67-96A7-76CA1093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DD61-D163-4625-936D-1FB15971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2B483-B5A1-41DC-931F-9020732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DCDEB-BFB6-45BD-A854-40134D0B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69E7-09F0-44AF-AFC3-E76B332B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00AF-245F-43FA-83F7-A1BC6092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2B8EE-7E79-4C0E-BBC8-B7037652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A1D3-7856-4119-A356-991B6D87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5AFC-D5C1-4027-9D97-69929215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835-FBF9-4381-9970-C48A7813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C6C3-B033-48A9-8358-90E408D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2D70-E5C4-4CE5-A966-7A0B4278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8156B-1E4D-4DAA-9CA1-E7C145B9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582D-F6A1-4102-94D4-E1255B7F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2703-254E-4F78-8924-F0067FCE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4232-495C-497C-884E-186DEB78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A3808-5078-4377-9AC0-43BF7DF9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DE57-879F-48E6-8E85-9859D9D6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B108-8AB6-4981-83A4-283C7D01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3FDA6-DEF3-4497-ABD6-FDDA99D7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FAC-3B77-4E73-B5CE-98BD4466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3CA22-D063-4102-8121-71FF9F26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F6224-A364-4394-B92B-0664E2E2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7CF84-B223-4969-A35C-1D9EC2EA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3367B-A552-4CB2-BF55-F15FCBF5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D7FB7-CB30-4FDF-92D0-E695208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6FC0-B31F-4B5A-898A-7EBE35DC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B007-E11D-4B2A-99FD-F4FB89CD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A2AE4-CB57-4ADA-B2CA-207A241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D53BE-FA51-406B-9D9D-9B7605D1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C4A7-C221-4251-8FB9-D6952542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64D-B56D-4912-8F0A-FB113CF2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4441C-EA69-4698-B849-F9119678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B1764-3CAF-461B-8997-C76876C6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92D3A-8BC0-4BA4-B374-63C0B73D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38A13-4D6E-4FA7-BBC7-1F6C2AB5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7DB2B-5017-4C43-8B82-43529E2F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889FA-14CA-4DAF-B2F2-658D8ED9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CBEC3-0010-4516-A668-32A37070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C3943-F770-4A40-A982-92B031AB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961DC-BF59-4DD2-BE1C-94A1F68D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9C51A-2BA4-4737-9182-EFB13AC5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767-CFCA-4BA7-B69A-0CDFA869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1D18C-594C-470A-AF02-DACAC4BB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7E4F0-C16B-487C-97BD-599B6624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4B9AF-4130-4B32-A68D-6DF7F272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7AC9A5-4492-410A-B58B-54CD318E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6C9D7-6770-40D2-86A0-07E81AB8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11330-5136-424E-94DC-7B7C3E94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A0BC4-01D5-4D2C-986B-ECDFBADF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7373D-3D16-4CF1-9FD0-DD895E7F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41055-5F18-49AB-B417-BA14AF07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1F622-A421-4302-8F18-48D6739C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C12-97E7-4215-B8FE-B577D8AD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A6901-7FBB-495B-9ACA-63D247EB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F6D47-2E51-40D0-AC51-34F8D6BF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62294E-7831-424C-B8D8-50B9248F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D99FB-F597-4352-AD41-2FCEAC7A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9A016-E8C4-4A2B-B5F9-A9677826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9B6AC-4083-4526-B906-BF2CD886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D91C7-8785-480D-878F-90FFF027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627ED-F710-484E-A75B-92664EE1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95ED0-6FB2-4B89-909F-3CF3BD20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0D931-82BB-49C2-9DF1-D3B0E8B8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D83-AF58-44F9-ADB8-2CEDE71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E9EF2-2DE7-4151-AAB4-DDE182BB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72651-5CCD-405F-9A79-76954735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F50A8-2EC8-420D-8C8E-D33A199E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126E5-4A42-4B10-B197-ACD88355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061F0-EB27-4C68-9223-785EC57B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CF6CD-CF08-4968-9CAE-FCE07379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55D7B-6473-465C-9C66-E38EEF87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271E4-5AE3-42A2-B373-D27D6C58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65853-D165-42B9-A178-E7621587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437D0-03B5-4722-A7B9-48D53C71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2601-C21F-4F6D-8949-10CD4FD814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4D9F-9940-4F75-BCAD-5C9A2037F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4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BA57-818E-441F-8CAE-D4CE6E2FB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0D66-611D-4C78-9AD8-72ED4F9577D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AB79-46E4-44CA-AD86-F67FDADD8A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A83B-8A91-4859-863B-955CEE2428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3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9BF5-8132-444D-BAE4-82C733D447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15ED-C045-4910-9F01-4B3731DFC63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B57A-01E7-4D56-9EDF-B8839534B4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287141" dir="18900000" blurRad="0" rotWithShape="0">
              <a:srgbClr val="0000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ahoma"/>
              </a:rPr>
              <a:t>Тем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5056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«АНТИГИСТАМИННЫЕ СРЕДСТВ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Человек имеет врожденную тя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 лекарствам. Стремление приним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лекарство это признак, котор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тличает человека от других животных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ильям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слер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 Teaching and Thinking, 1895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9C54-1A8D-4072-A270-A024B8C436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0" y="18864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Реализация гиперэргических реакций осуществляетс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уморальный механизм иммуногенеза (продукция антител)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леточный (иммунокомпетентные клетки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A4D5-4ECF-4DA4-BC4F-9BC873F9C5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8AA0-CEE0-4F0D-9671-2A94C62788C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Астемизо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иод полужизни -5 дней, а его активного метаболита - 10 дней, поэтому стационарная концентрация достигается только через несколько неде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ициальная доза насыщающая в течение 7 дней, затем 1/3 от дозы насыщ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никает через плацентарный барьер и выводится материнским моло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начается по 10 мг 1 раз в день натощак. Суточная доза может повышаться д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0639-BD11-4D9F-9675-E7F9B0B8EF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Цетиризин (зиртек, цетр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выпуск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0,01 и 0,02 табле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ме блокад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-рецепторов, ингибирует миграцию эозинофилов и снижает экспрессию молекул адгезии, тем самым сдерживает формирование поздней фазы аллергической реак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отсутствует антихолинэргическое и антисеротониновое действ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лонгированный эффе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5BA4-7615-485E-AD93-6EF5D2A54A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Цетиризин (зиртек, цетр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вызывает выраженной сонлив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всасывается и практически не метаболизирует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больших дозах эффективнее других антигистаминных ЛС при бронхообструкци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словленной вдыханием пыльцы раст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значаетс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10 мг 1 раз в день (вечером) или по 5 мг 2 раза в д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8A08-1776-494C-A2F3-1B161D6C01A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Эбастин («Кестин»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а выпус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10 мг таблет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стро всасывается и почти полностью метаболизируется в печени и кишечнике, превращаясь в активный метаболит в печени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ребаст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местный приём с жирной пищей увеличивает абсорбцию и образование активного метаболита на 50% (что, однако, не изменяет клинического эффект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язывание с белками плазмы (в т.ч. активного метаболита) более 95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аребастина - 15-19 час; при хронической почечной недостаточности 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/2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растает до 23-26 час, с печеночной - до 27 ча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2B1C-377C-4845-B637-69AC672945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Эбастин («Кестин»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увеличением возраста (вплоть до преклонного) фармакокинетика существенно не меняет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6% препарата выводится с мочой в виде активного метаболи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роникает через ГЭБ - отсутствие седативного эффек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влияет на способность к вождению автомобиля; совместим с транквилизаторами и приёмом алкогол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женное противоаллергическое действие начинается через 1 час после приёма и сохраняется в течение 48 ча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5-дневного курса антигистаминная активность сохраняется в течение 72 час за счёт действия активных метаболи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C1A9-36BD-42B5-9B4B-39D39679C83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Эбастин («Кестин»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ежесуточном приеме 10 мг равновесная концентрация достигается через 3-5 дн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отсутствует антихолинергическая актив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изменяет показателей ЭКГ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значаетс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1 раз в сутки в дозе 10 м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F4E6-ECA9-4869-8181-7E756779D8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Oval 5"/>
          <p:cNvSpPr/>
          <p:nvPr/>
        </p:nvSpPr>
        <p:spPr>
          <a:xfrm>
            <a:off x="755640" y="549360"/>
            <a:ext cx="7488360" cy="1942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ффинит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к Н1-рецептор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900000" y="2708280"/>
            <a:ext cx="7201080" cy="396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медрол &lt; прометазин &lt; супрастин &l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емастин = астемизол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рфенадин = фенкарол&l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тиризин &lt; лоратадин&lt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ривастин = эбаст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C6FD-1F31-4CEA-997F-50C3344593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Oval 4"/>
          <p:cNvSpPr/>
          <p:nvPr/>
        </p:nvSpPr>
        <p:spPr>
          <a:xfrm>
            <a:off x="755640" y="549360"/>
            <a:ext cx="7488360" cy="1942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НТИСЕРОТОНИН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ктив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Rectangle 5"/>
          <p:cNvSpPr/>
          <p:nvPr/>
        </p:nvSpPr>
        <p:spPr>
          <a:xfrm>
            <a:off x="900000" y="3068640"/>
            <a:ext cx="6912000" cy="25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Ципрогепт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Димебо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Сетастин</a:t>
            </a:r>
            <a:r>
              <a:rPr b="0" lang="ru-RU" sz="40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5644-630A-4038-8616-17D2FA8F4F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imes New Roman"/>
              </a:rPr>
              <a:t>Фексофенадина гидрохлорид («Телфаст»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5459-31D4-4A90-B5DB-D00DB6D46F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 выпуска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0,12 и 0,18 табл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гистаминный препара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оспецифический антагонист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рецепторов гистам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стро всасывается, пик концентрации через 1-3 ча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ейная фармакокинет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действия 24 часа (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-14 час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лиминация в неизмененном виде с желчью и моч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наблюдается толерантности и куму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250920" y="189000"/>
            <a:ext cx="8642160" cy="115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ЕКСОФЕН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3300"/>
                </a:solidFill>
                <a:uFillTx/>
                <a:latin typeface="Times New Roman"/>
              </a:rPr>
              <a:t>Типы аллергических реакций</a:t>
            </a:r>
            <a:br>
              <a:rPr sz="4400"/>
            </a:b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(P.G.H.Gell, P.R.A.Coombs, 1968</a:t>
            </a:r>
            <a:r>
              <a:rPr b="1" i="1" lang="ru-RU" sz="3600" spc="-1" strike="noStrike">
                <a:solidFill>
                  <a:srgbClr val="6633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атогенетическая классифик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филактический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зависим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итотоксическ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мунокомплексный (Артюсо-подобная реакц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медленная (клеточноопосредованная) гиперчувстви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B87B-6B09-40F7-9EE9-9B0F536F00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9E60-A464-4F0C-83C7-B3617B567D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требуется изменения дозы пожилым и больным с нарушением функции печ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утствие клинически значимого взаимодействия с другими препаратами и пищ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но применять одновременно с кетоназолом, эритромицином без коррекции до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язывание с белками плазмы на 60-70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проникает через ГЭБ и не влияет на ЦНС (не влияет на вождение автомобиля).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не зависимости от дозы не оказывает седативного эффекта - высокий профиль безопасности (сопоставим с плацеб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250920" y="189000"/>
            <a:ext cx="8642160" cy="115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ЕКСОФЕН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8E8D-FAA4-4245-ACB9-09044150AD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потенцирует действие транквилизаторов и алкого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бладает антихолинергической и антиадренергической активно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влияет на ЭКГ и биохимические показат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ично биотрансформируется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ня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 сезонном аллергорините по 120 мг/сут; при хронической идиопатической крапивнице по 180 мг/с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4"/>
          <p:cNvSpPr/>
          <p:nvPr/>
        </p:nvSpPr>
        <p:spPr>
          <a:xfrm>
            <a:off x="250920" y="189000"/>
            <a:ext cx="8642160" cy="115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ЕКСОФЕНАД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Анафилактический (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gE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-зависимый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работка специфических реагинов (антитела класс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в ответ на поступление в организм антиге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его повторном поступлении быстро происходит его взаимодействие со специфическими реагинами, фиксированными на тучных клетках и базофилах. В результате этого, без активации системы комплемента, происходит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егрануляция лаброцитов и освобождение БА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3B05-FE45-463A-8E23-2ED29EFE1C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90512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лергический рин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лергический конъюнктив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лергическая крапивн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топический дермат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топическая форма бронхиально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т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афилактический ш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DF65-16C9-4414-97C7-7AE9C584AE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Цитотоксиче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тела взаимодействуют с естественными или вторично фиксированными на мембранах клетки антиген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ализации обязательно участие комплем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цесс могут также вовлекаться Т-киллеры, цитотоксические лимфоциты, фагоци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ие высвободившихся из клеток БАВ потенцируется лизосомальными ферментами и провоспалительными медиаторами. Развивается цитолиз и аллергическое вос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дко антигены собственных клеток организма перестают распознаваться как «свои», становятся для иммунной системы «чужими» и к ним начинают вырабатываться антите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D202-138D-4F7F-AA65-28BC95EC6E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утоиммунные заболев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оиммунные реакции (гемотрансфузионные осложне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которые варианты лекарственной непереносимости (тромбоцитопеническая пурпур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85D1-D26A-4571-B0CF-E50080E1A5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ммунокомплексный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(Артюсо-подобная реакция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циркулирующей крови происходит образование иммунных комплексов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антиген+антител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 затем они фиксируются на клеточных мембранах эндотелия сосуд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этом активируется комплемент и индуцируется фагоцитоз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ется острая воспалительная реакция, поддерживаемая не только БАВ аллергии, но и лизосомальными ферментами и провоспалительными энзимами поврежденных клеток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576D-325A-430D-9743-EFAEF56814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II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мунокомплексный гломерулонефр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моррагический васкулит (болезнь Шенлейна-Генох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ывороточная болез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7DF4-FB96-4280-B5BF-2586A8B6CD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медленная (клеточноопосредованная) гиперчувствите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одействие антигена с рецепторами компетентных Т-лимфоцитов приводит к их бласттрансформации, пролиферации и дифференцировке в цитотоксические лимфоциты. Клетки-киллеры и цитотоксические Т-лимфоциты, оказывая повреждающее действие на клетки с фиксированным антигеном, приводят к замедленному типу воспалительной реак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еточно-инфильтративное и гранулематозн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а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ет быть последующим компонентом реакций немедленного тип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A63E-38E0-43AE-BBAA-294B42EDAD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линические эквиваленты аллергических реакций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V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ти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беркулиновая проба Мант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актный дермат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акции отторжения трансплантан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которые варианты течения бактериальных и вирусных инфе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9E29-4DE2-4C17-9003-5B6878A0AF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93ff"/>
                </a:solidFill>
                <a:latin typeface="Times New Roman"/>
              </a:rPr>
              <a:t>Пла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d93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5d93ff"/>
                </a:solidFill>
                <a:latin typeface="Times New Roman"/>
              </a:rPr>
              <a:t>Молекулярная фармакология гистамина и антигистаминовых средст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ие аллергии. Типы аллергических реакций и их клинические эквивал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имическое строение и физико-химические свойства гистамина. Его биосинтез, депонирование и высвобождение. Распределение по органам и тканям, специфические и неспецифические депо гистамина. Факторы либерализации гистамина из депо. Либерализаторы гистами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аболизм гистамина. Функции гистамина в организме, его роль в патологии. Участие гистамина в воспалительных и аллергических процесс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1362-95B5-4AE6-BD3A-885CAE7D2C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BD7A-5B21-4027-8FA1-870C8891D0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bbe0e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Медиация аллергического воспа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506840" cy="5661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Преформир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медиа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Гиста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еротон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Эозинофильный хемотаксический фактор анафилак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Нейтрофильный хемотаксический фактор анафилак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ротеа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Вновь синтезируемые медиа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Тромбоцитактивирующий факт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PSA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Лейкотрие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ростагландины и тромбокс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E1F0-FA3A-472F-845D-EBD2285AD0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В патогенезе любого типа аллергии выделяю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три стад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C61D-2BC7-4978-8EE0-7778B64D13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900000" y="1557360"/>
            <a:ext cx="7488360" cy="3311640"/>
          </a:xfrm>
          <a:prstGeom prst="ellipse">
            <a:avLst/>
          </a:prstGeom>
          <a:solidFill>
            <a:srgbClr val="ffff99"/>
          </a:solidFill>
          <a:ln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СТАДИ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АЛЛЕРГИЧЕСКОГ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ВОСПАЛЕ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19FA-2274-43FF-B749-D053900C8A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вет на поступление в организм антигена происходит выработка специфических антител или компетентных Т-лимфоци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4"/>
          <p:cNvSpPr/>
          <p:nvPr/>
        </p:nvSpPr>
        <p:spPr>
          <a:xfrm>
            <a:off x="1692360" y="333360"/>
            <a:ext cx="5832360" cy="1008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ММУНОЛОГ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FAE-317F-440A-8224-5D401121C5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вторном поступлении антигена происходит его взаимодействие со специфическими антителами или рецепторами коммитированных Т-лимфоцитов. В результате происходит дегрануляция тучных клеток и базофилов 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вобождением медиаторов аллергии (гистамин, серотонин, брадикинин, медленно реагирующая субстанция анафилаксии, простагландин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1692360" y="333360"/>
            <a:ext cx="5832360" cy="1008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АТОХИМ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765D-84E4-401F-8DEF-A3762443F6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берализованные в предыдущую стадию БАВ оказывают неблагоприятное воздействие через клеточные рецепторы на окружающие тк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4"/>
          <p:cNvSpPr/>
          <p:nvPr/>
        </p:nvSpPr>
        <p:spPr>
          <a:xfrm>
            <a:off x="1692360" y="333360"/>
            <a:ext cx="5832360" cy="1008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АТОФИЗИОЛОГ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971640" y="5734080"/>
            <a:ext cx="7056360" cy="93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иперэргическое воспа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AutoShape 6"/>
          <p:cNvSpPr/>
          <p:nvPr/>
        </p:nvSpPr>
        <p:spPr>
          <a:xfrm rot="5400000">
            <a:off x="3492360" y="4076640"/>
            <a:ext cx="2159280" cy="1152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перэргическое воспа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0B69-54F1-4CC0-B7B9-5723B5ECDE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3" name="Схема 3" descr=""/>
          <p:cNvPicPr/>
          <p:nvPr/>
        </p:nvPicPr>
        <p:blipFill>
          <a:blip r:embed="rId1"/>
          <a:stretch/>
        </p:blipFill>
        <p:spPr>
          <a:xfrm>
            <a:off x="281160" y="1390680"/>
            <a:ext cx="8508960" cy="407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Через Н1-рецепторы гистамин вызывае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бронх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кишеч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ма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ащение ГМК сосудов малого круга кровообращ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ение сосудистой проницаем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ение секреции слизистых желез но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иление продукции простагланди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C7E7-3587-4A88-AEFA-E805B80022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Через Н2-рецепторы гистамин вызывае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персекреция желез желуд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ние слизи в дыхательных пут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ение супрессорного действия Т-лимфоцит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рможение миграции эозинофи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6091-63EB-4FC9-BE1B-CC9AD2FF44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очетанная стимуляция Н1- и Н2-рецептор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0" y="190512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новение чувства зуд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ширение периферических сосуд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брилляция желудочков (снижение порога возбудимости на уровне АВ-узла через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на уровне проводящей системы желудочков через Н2-рецептор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1E28-302E-48C7-9F8D-A73998AF89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цепторы гистамина, их типы и распределение в организме. Механизмы трансмембранной передачи сигнала, опосредованные рецепторами гистами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рмакологические свойства гистамина, его влияние на сердеч­но-сосудистую систему, гладкомышечные органы и желудочную секрец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тигистаминовые средства. Блокаторы Н1- и Н2-рецепторов, их фармакологические свойства и применение в клинике. Методы изучения антигистаминной активности фармакологических препар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AF5E-4A01-4D09-B05D-29195BE88C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Н3-рецепто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меют пресинаптическую локализацию, их возбуждение вызывает уменьшение высвобождения из нервных окончаний ряда медиатор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влен также и внутриклеточный тип Н-рецеп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234B-E6B4-42CD-A850-AEBA4FF47F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сновные клинические эффекты гистамина (по М.М.Дейлу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50920" y="1336680"/>
          <a:ext cx="8642160" cy="5529240"/>
        </p:xfrm>
        <a:graphic>
          <a:graphicData uri="http://schemas.openxmlformats.org/drawingml/2006/table">
            <a:tbl>
              <a:tblPr/>
              <a:tblGrid>
                <a:gridCol w="2430360"/>
                <a:gridCol w="6211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рга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линические прояв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ж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д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ёк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емия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ие ГМК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) Отёк слизистой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секреция слизи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оконстрикция (Н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   и   кишеч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ие ГМК (Н2), кишечные колик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ение продукции пепсина и соляной кислоты (Н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ечно­сосудистая систе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ие АД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итма (Н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овые пазух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уд, отёк слизистой, ринорея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3792-69C7-47F0-B0F4-35557F5121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6B02-142A-4DEB-9EE9-1421D913F3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Oval 5"/>
          <p:cNvSpPr/>
          <p:nvPr/>
        </p:nvSpPr>
        <p:spPr>
          <a:xfrm>
            <a:off x="395280" y="260280"/>
            <a:ext cx="8353440" cy="1008000"/>
          </a:xfrm>
          <a:prstGeom prst="ellipse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ГИСТАМИН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250920" y="1989000"/>
            <a:ext cx="2736720" cy="3961080"/>
          </a:xfrm>
          <a:prstGeom prst="rect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окир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цепто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кан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увствитель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гистами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203640" y="1989000"/>
            <a:ext cx="2736720" cy="3961080"/>
          </a:xfrm>
          <a:prstGeom prst="rect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берализ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6156360" y="1989000"/>
            <a:ext cx="2736720" cy="3961080"/>
          </a:xfrm>
          <a:prstGeom prst="rect">
            <a:avLst/>
          </a:prstGeom>
          <a:solidFill>
            <a:srgbClr val="6666ff"/>
          </a:solidFill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инте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Line 9"/>
          <p:cNvSpPr/>
          <p:nvPr/>
        </p:nvSpPr>
        <p:spPr>
          <a:xfrm flipH="1">
            <a:off x="1547280" y="1197000"/>
            <a:ext cx="792360" cy="79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6877080" y="1197000"/>
            <a:ext cx="647640" cy="79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4572000" y="1268280"/>
            <a:ext cx="0" cy="64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4284720" y="1557360"/>
            <a:ext cx="5745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804000" y="1557360"/>
            <a:ext cx="719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E9AA-F7F8-4493-9FE8-F085435C06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Times New Roman"/>
              </a:rPr>
              <a:t>Классификация по химическому строению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79280" y="1125360"/>
          <a:ext cx="8783640" cy="4861080"/>
        </p:xfrm>
        <a:graphic>
          <a:graphicData uri="http://schemas.openxmlformats.org/drawingml/2006/table">
            <a:tbl>
              <a:tblPr/>
              <a:tblGrid>
                <a:gridCol w="4392720"/>
                <a:gridCol w="43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НОЛ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фенгидрамин (димедрол); тавеги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ОТИАЗ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польф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ИЛЕНДИ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праст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ПЕРИД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ипрогептад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ИДРОКАРБОЛ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зол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ИПРОЛ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криваст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ИНУКЛ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нкаро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ЗАТ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оратад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DAA6-81A0-41BD-A217-0D2FC695DE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Н1-антагонисты со стабилизирующим действием на тучные клетк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395280" y="1600200"/>
          <a:ext cx="8497800" cy="4708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народное наз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рговое наз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выпус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тотиф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дите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етки по 1 м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сатом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нс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блетки п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м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зеласт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ллергоди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5% назальный спрей; глазные кап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7D5C-DB44-4C78-A124-AE40F09FDF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казания к назначению (общие)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лергический ринит (г.о. сезо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зомоторный рини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филактика и лечение крапивницы, зуда, последствий укуса насеком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карственная аллерг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удящие дерматоз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ссонни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4496-DEC0-490A-8C0E-A4BC3A5EE6D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отивопоказания к назначению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укома (холиноблокад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ержка мочеиспускания (холиноблокад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тология печени (терфенадин, астемизол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пилепс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рфир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менность (ципрогептадин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фессии, требующие повышенного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84DB-AAFF-4D11-A28D-002AC30A81E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bd71"/>
                </a:solidFill>
                <a:latin typeface="Times New Roman"/>
              </a:rPr>
              <a:t>АНТИГИСТАМИННЫЕ СРЕДСТВА</a:t>
            </a:r>
            <a:br>
              <a:rPr sz="5400"/>
            </a:br>
            <a:r>
              <a:rPr b="1" lang="en-US" sz="54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1" lang="ru-RU" sz="54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9EB1-0F5B-443F-B5CD-998B032DFA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НТАГОНИСТЫ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-РЕЦЕПТОРОВ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нкурентные блокаторы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-рецепторов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кол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лассически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-противогистаминные препар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Oval 4"/>
          <p:cNvSpPr/>
          <p:nvPr/>
        </p:nvSpPr>
        <p:spPr>
          <a:xfrm>
            <a:off x="1908000" y="333360"/>
            <a:ext cx="5185080" cy="1008000"/>
          </a:xfrm>
          <a:prstGeom prst="ellipse">
            <a:avLst/>
          </a:prstGeom>
          <a:solidFill>
            <a:srgbClr val="f8a5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инонимы фармгрупп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5AB9-C1E8-4EC0-AD99-CD8A0B4E9DA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179280" y="2060640"/>
            <a:ext cx="8713800" cy="432108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ение ГМК бронхов, кишечника, ма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нижение уровня АД (частичн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величение капиллярной проницаемости (отёк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иперемия, зуд кож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лабление прекапиллярных сфинктер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хикард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755640" y="189000"/>
            <a:ext cx="7488360" cy="1152360"/>
          </a:xfrm>
          <a:prstGeom prst="ellipse">
            <a:avLst/>
          </a:prstGeom>
          <a:solidFill>
            <a:srgbClr val="f8a500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страняют эффекты гистам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AutoShape 6"/>
          <p:cNvSpPr/>
          <p:nvPr/>
        </p:nvSpPr>
        <p:spPr>
          <a:xfrm>
            <a:off x="3419640" y="1413000"/>
            <a:ext cx="2232000" cy="107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d93ff"/>
                </a:solidFill>
                <a:latin typeface="Times New Roman"/>
              </a:rPr>
              <a:t>Исторический очер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10 г. Берджер, Дейл и Ледлоу выделили гистамин из спорыньи, произвели е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тез и обнаружили, что он вызывает сильное сокращение гладкой мускулатуры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уровня 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19 г. Кеннон обнаружил «шокоподобное» действие гистамина при его внутривенн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ии живот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27 г. Бест и Дейл обнаружили гистамин в лёгких и других тканях. Было показано, что гистамин высвобождается при ожогах, реакциях антиген-антитело, воспален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рассматривать его, как один из медиаторов аллергии и воспа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ла назревать идея о создании препаратов, регулирующих гистаминэргические процес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0EFC-268A-49BC-A9B4-CF4C959A45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23EE-F452-41A3-B8E2-38CE06A656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2124000" y="260280"/>
            <a:ext cx="5112000" cy="14400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1-антагонист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 ВЛИЯЮ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324000" y="2349360"/>
            <a:ext cx="3887640" cy="1513080"/>
          </a:xfrm>
          <a:prstGeom prst="ellipse">
            <a:avLst/>
          </a:prstGeom>
          <a:noFill/>
          <a:ln w="63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креци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елудоч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елё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4859280" y="2349360"/>
            <a:ext cx="3888000" cy="1513080"/>
          </a:xfrm>
          <a:prstGeom prst="ellipse">
            <a:avLst/>
          </a:prstGeom>
          <a:noFill/>
          <a:ln w="63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2- и Н3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цепт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547D-CB7D-4461-AF09-4FB4F9C7E0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val 4"/>
          <p:cNvSpPr/>
          <p:nvPr/>
        </p:nvSpPr>
        <p:spPr>
          <a:xfrm>
            <a:off x="250920" y="1989000"/>
            <a:ext cx="4176720" cy="2448000"/>
          </a:xfrm>
          <a:prstGeom prst="ellipse">
            <a:avLst/>
          </a:prstGeom>
          <a:solidFill>
            <a:srgbClr val="ccffff"/>
          </a:solidFill>
          <a:ln w="889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леку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гистаминн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4932360" y="333360"/>
            <a:ext cx="3887640" cy="165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00 молек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су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4932360" y="2276640"/>
            <a:ext cx="3887640" cy="165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5 молек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ишеч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4932360" y="4221000"/>
            <a:ext cx="3887640" cy="165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0,01 молек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истамина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ж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Line 8"/>
          <p:cNvSpPr/>
          <p:nvPr/>
        </p:nvSpPr>
        <p:spPr>
          <a:xfrm flipV="1">
            <a:off x="3348000" y="1125000"/>
            <a:ext cx="1440000" cy="100836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3276720" y="4365720"/>
            <a:ext cx="1511280" cy="64764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4500720" y="3213000"/>
            <a:ext cx="358560" cy="0"/>
          </a:xfrm>
          <a:prstGeom prst="line">
            <a:avLst/>
          </a:prstGeom>
          <a:ln w="63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8A7A-CE17-4624-891F-F9A1A040B0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ectangle 17"/>
          <p:cNvSpPr/>
          <p:nvPr/>
        </p:nvSpPr>
        <p:spPr>
          <a:xfrm>
            <a:off x="1042920" y="836640"/>
            <a:ext cx="6913800" cy="4824360"/>
          </a:xfrm>
          <a:prstGeom prst="rect">
            <a:avLst/>
          </a:prstGeom>
          <a:solidFill>
            <a:srgbClr val="ccffff"/>
          </a:solidFill>
          <a:ln w="63360">
            <a:solidFill>
              <a:srgbClr val="00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Устранить кожные проя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в 10 000 раз трудне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чем сосудист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4F1C-F355-4F11-88FA-3055F0D3F6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57200" y="1600200"/>
          <a:ext cx="8229600" cy="5224320"/>
        </p:xfrm>
        <a:graphic>
          <a:graphicData uri="http://schemas.openxmlformats.org/drawingml/2006/table">
            <a:tbl>
              <a:tblPr/>
              <a:tblGrid>
                <a:gridCol w="2890800"/>
                <a:gridCol w="5338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Этанол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phenhydramine      Carbinoxami          Clemastine Dimenhydrinate         Phenytoloxamine Doxylamine              Diphenylpyra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Фенотиаз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tazine        Trimeprazine     Oxomemazine Dimethothiazine Alimemaz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Этиленди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pelennamine            Mepyramine   Pyrilamine Chloropyramine           Antaso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Алкилам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loropheniramine      Brompheniramine Dexchlorpheniramine Triprolidine      Dimetind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Пипераз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zine                        Chlorcyclizine Hydroxyzine                   Mecliz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Пиперид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proheptadine               Azatad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6" name="Oval 81"/>
          <p:cNvSpPr/>
          <p:nvPr/>
        </p:nvSpPr>
        <p:spPr>
          <a:xfrm>
            <a:off x="1403280" y="189000"/>
            <a:ext cx="6408720" cy="1224000"/>
          </a:xfrm>
          <a:prstGeom prst="ellipse">
            <a:avLst/>
          </a:prstGeom>
          <a:solidFill>
            <a:srgbClr val="ffff99"/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ГЕНЕРА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8E79-9849-4EC8-84E9-1D22CA701E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0" y="189000"/>
          <a:ext cx="9144000" cy="7111800"/>
        </p:xfrm>
        <a:graphic>
          <a:graphicData uri="http://schemas.openxmlformats.org/drawingml/2006/table">
            <a:tbl>
              <a:tblPr/>
              <a:tblGrid>
                <a:gridCol w="1471680"/>
                <a:gridCol w="1485720"/>
                <a:gridCol w="1741680"/>
                <a:gridCol w="936720"/>
                <a:gridCol w="784080"/>
                <a:gridCol w="941400"/>
                <a:gridCol w="1782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ус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дозирир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м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вегил Ривтагил Клем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1мг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мг-2мл (0,05%-2,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бгидрол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золин Омери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же 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ча­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таз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польфен Дипраз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аже    25    и 50мг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пулы   2,5%-2м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­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енгид-рам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едрол Аллерг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20,30,50мг; Амп.1%-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 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рив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прек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с. 8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мгхЗ р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прогеп-тад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тол Ципрод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4 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мгхЗ р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опира-м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р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25мг; Амп. 2%-1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ча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ча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ифенад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кар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25, 50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р/су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карфе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50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таст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идекс, лодерик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. 1м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F36C-A8DB-40F4-BBAE-029A41B25FC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Характеристика препаратов 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абсорбируются в Ж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накапливаются в ткан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зкая селективность (неполное (30%) экранирование Н1-рецепторов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тковременность действия (в среднем до 6 часов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проникают через ГЭБ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имущественно печеночный метаболизм (70%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ывают индукцию микросомальных ферментов печени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9202-266C-480A-AE86-CB8D5AE7695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Times New Roman"/>
              </a:rPr>
              <a:t>Характеристика препаратов </a:t>
            </a:r>
            <a:r>
              <a:rPr b="0" lang="en-US" sz="40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ирокий спектр фармакологической актив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стноанестезирующе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инидиноподобно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дативно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муляция аппети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хифилакс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локада центральных Н1-рецепторов и угнетени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метилтрансферазы (депринирующий эффект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59C4-A105-464C-8381-032A0653A09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сть применения высоких терапевтических доз для достижения эффективного связывания гистаминовых рецептор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иду конкурентного блокирования обладают непродолжительным действием (необходимость неоднократного использования в течение суток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ранирование других рецепторов приводит к целому ряду нежелательных эффектов, что ограничивает использование даже при наличии прямых показаний (сухость слизистой при бронхиальной астм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длительном применении снижается терапевтическая эффективность, что диктует необходимость в смене препарат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395280" y="260280"/>
            <a:ext cx="4176720" cy="93672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Резюм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6282-1160-40CB-9C42-ED517058569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имо специфического анатагонизма с гистамином и противоаллергической активности, Н1-блокаторы имеют и другие свой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CB92-42AE-48B4-93B4-74FBA690277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Times New Roman"/>
              </a:rPr>
              <a:t>Дополнительные фармакологические эффект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медрол, дипразин, супраст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угнетают ЦНС (седативный, снотвор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праз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нцирует действие депринирующих средств (наркотических анальгетиков, анестетиков, средств для наркоза); в токсических дозах - возбуждение, бессонница, тремо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медро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может иметь парадоксальный эффект на ЦНС (беспокойств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прази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небольшой степени снижает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35-1937 гг. Бове синтезировал и изучил на противогистаминную активность множество химических соединений и выявил несколько эффективных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явилась нова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ппа антигистаминных препар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ми противогистаминными препаратами были антреган, неоантреган (мепирамин, пириламин), фенетазин (этизин) и прометазин (дипрозин, пипольфен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50-е годы в практику широко вошёл дифенгидрамин (димедрол). Затем появляются: супрастин, тавегил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препаратов, лишённых седативного эффекта (диазолин, впоследствии создан оригинальный отечественный препарат фенкарол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C03C-7A43-48CB-9251-2ADC822688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3DB0-5826-4A5C-AD5D-6BB522908A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вегил, фенкарол, терфенад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ладают минимальной седативной активнос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азол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 ЦНС практически не влия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медрол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ладает отчетливой ганглиоблокирующей активностью (понижает АД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праз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как представитель фенотиазинов) блокирует а-адренорецепто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празин, димедрол, супраст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ладают умеренной спазмолитической активнос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икарфе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блокирует серотониновые рецепторы (выраженный противозудный эффек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енкарол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ладает низкой липофильностью, плохо проникает через ГЭБ и практи-­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ски лишен седативного эффе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Times New Roman"/>
              </a:rPr>
              <a:t>Дополнительные фармакологические эффе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903C-85BF-42CE-B113-C3BBE17A242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Реестр побочных эффектов препаратов </a:t>
            </a: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тковременность эфф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-холиноблокада (сухость слизистых оболочек, задержка мочеиспуска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дация (потенцируется транквилизаторами, этанолом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епсия (тошнота, рвота, диарея, боли в эпигастри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диотоксичность (удлинени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хифилакс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D7FE-DCA4-4ED0-8C3E-162AE11F15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Частная фармаколог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антигистаминных средств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Monotype Corsiva"/>
              </a:rPr>
              <a:t>I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генераци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014E-4EAB-48F0-9DDF-A8030A22FB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ДИФЕНГИДРАМ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6CE1-466B-41A8-B01A-6861D9022B3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% раствор в ампулах по 1мл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аблетки 0,05, 0,03; 0,02 (для детей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уппозитории с димедролом для детей (0,005; 0,001; 0,015; 0,0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4"/>
          <p:cNvSpPr/>
          <p:nvPr/>
        </p:nvSpPr>
        <p:spPr>
          <a:xfrm>
            <a:off x="395280" y="333360"/>
            <a:ext cx="4105440" cy="934920"/>
          </a:xfrm>
          <a:prstGeom prst="ellipse">
            <a:avLst/>
          </a:prstGeom>
          <a:solidFill>
            <a:srgbClr val="ccffff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ы выпу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1B25-A20A-4760-8320-609DE427C0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ектр эфф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тигистамин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тивовоспалитель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типиретическ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датив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нотвор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тиворвотно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стноанестезирующ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16B6-4E5F-4B28-BC68-4F9A449874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тся в первую очередь для предупреждения или ослабления аллергических реак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женная антигистаминная активность: экранируе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истаминовые рецепторы и  устраняет  эффекты  гистамин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ие  на ЦНС  обусловлено  блокадой 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цепторов мозга и угнетением центральных холинергических структу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дает холинолитической активностью (в умеренной степени блокирует холинорецепторы вегетативных ганглиев - снижение уровня А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1919-9CE4-4861-A139-99F4B92049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агонизм с гистамином проявляется в большей степени по отношению к местным сосудистым реакциям при воспалении и аллергии, чем к системным (т.е. снижению уровня АД). Однако при дефиците ОЦК при парентеральном введении возможно прогрессирование гипотензии (ганглиоблокирующий эффек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редственное спазмолитическое действие (расслабление ГМК ЖК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ьная холинолитическая активность и влияние на 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рецеп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людей с локальными повреждениями мозга и эпилепсией активирует (даже в низких дозах) судорожные разряды на ЭЭГ и может провоцировать эпипристу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033D-1BD6-4ACA-B69A-3480F1188D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азывает седативное, снотворное действие имеющее некоторое сходство с нейролептиками (применяют при нарушениях засыпания, предоперационная подготовк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ренное противорвотное действие (эффективен для предотвращения синдрома укачивания и при болезни Меньер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азывает сильное местноанестезирующее действие (при приеме внутрь кратковременное онемение слизистой оболочки полости рт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8321-7329-4D10-8EAE-51A9E2D849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орошо всасывается при приёме внутрь, проникает через ГЭ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болизм печеночный; почечная экскреция и с молоком (седация у детей грудного возрас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7 ч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действия 3-5 ча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БА мало эффективен, но может использоваться в сочетании с теофиллином, эфедрином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большей степени эффективен при бронхоспазме, вызванном либераторами гистамина (тубокурарин, морфин, сомбрев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Антигистаминные сред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спользуются при воспалительных процессах в патогенезе которых ведущую роль играет гистамин. Речь идет в первую очередь об аллергическом воспалении и других вариантах флогогенной реакции (псевдоаллергической, инфекционно-токсической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Антигистаминные сред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являются основными фармакотерапевтическими средствами контроля за аллергией, поскольку симптоматика всех без исключения аллергореакций опосредуется гистами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C076-8258-4F92-B59E-15FE2EDCC7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CAE7-94C0-45F7-A52D-785609CA39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огда используется при ЯБЖ и гиперацидном гастрите, однако, при этом более эффективны 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блокат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уменьшения побочных реакций при гемотрансфузиях, использовании ферментных препар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B31C-2BE8-4FF7-BC7D-51E69F163A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я (крапивница, сенная лихорадка, ангионевротический отек, капилляротоксикоз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оконъюнктив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зомоторный рин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ывороточная болез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удящие дерматоз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БЖ и гиперацидный гастрит (в составе комбинированной терапи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ушения сна (самостоятельно и с другим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медик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25092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каз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B75D-5E54-4673-949B-242CB150F4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кинсониз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ширные травмы кожи и мягких тканей (ожоги, размозже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рея, морская и воздушная болез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вота береме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учевая болез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дром Мень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шель различной этиологии (сироп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пирование гипертермии в сочетании с другими средствами (литические смес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каз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7E59-AA6C-42FB-A09F-53BD3F1033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снотворного по 1 таб (30 или 50мг) перед с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кожно вводить нельзя (раздражающее действ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ём внутрь по 30-50мг х 1-3 раза/сут; курс лечения 10-15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/мышечно по 10-50мг/с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/венно капельным методом по 20-50мг в 75-100мл физиологического раств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чи 1-2 раза/сут после очистительной клизмы или самопроизвольного очищения кишеч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ъюнктивальный мешок 0,2-0,5% раствор по 1-2 капли 2-5 раз/с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10% мазь, крем при зудящих дерматозах (осторожно, т.к. всасыв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шие дозы при приёме внутр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0,1 г (разовая) и 0,25г (суточ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шие дозы в/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разовая 0,05г (5мл 1% р-ра) и суточная 0,15г (15мл 1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06AF-8BE1-4E36-99A4-14696719C1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онемение» слизистых оболочек при приёме внутрь (местноанестезирующее действ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окружение, головная б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шнота, сухость во рт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лив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ая слаб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ышенная возбудимость (дети, стар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боч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ффек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Line 6"/>
          <p:cNvSpPr/>
          <p:nvPr/>
        </p:nvSpPr>
        <p:spPr>
          <a:xfrm>
            <a:off x="684360" y="5084640"/>
            <a:ext cx="7775280" cy="0"/>
          </a:xfrm>
          <a:prstGeom prst="line">
            <a:avLst/>
          </a:prstGeom>
          <a:ln w="442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Line 7"/>
          <p:cNvSpPr/>
          <p:nvPr/>
        </p:nvSpPr>
        <p:spPr>
          <a:xfrm>
            <a:off x="684360" y="4508640"/>
            <a:ext cx="7775280" cy="0"/>
          </a:xfrm>
          <a:prstGeom prst="line">
            <a:avLst/>
          </a:prstGeom>
          <a:ln w="442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9FE7-0C60-4687-B8E1-56F992FB44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оугольная глауком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ГПЖ, стеноз шейки мочевого пузы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нозирующая язва желудка и ДП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тматический стат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ременность, лактация - под конт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вводить подкожно (раздражает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едосторож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468360" y="4508640"/>
            <a:ext cx="799128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ды работ, требующие повышенного вним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быстрых психических реак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FCBD-0BF4-4E99-A04C-6448EBFAA2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хость во рт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труднение дых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бужд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утанность созн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дение уровня АД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 детей - судорог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ечение - симптоматическое.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17928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енгидр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ередозиров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27F7-FE3B-425C-B2E2-15A6087622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Times New Roman"/>
              </a:rPr>
              <a:t>ПРОМЕТАЗ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ИПОЛЬФЕ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ДИПРАЗ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9482-A62E-4BDF-8F16-3B0794931C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53440" cy="24480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блетки 0,025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раже 0,025 и 0,05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твор ампулированный 2,5%-2м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395280" y="33336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ормы выпу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B0A8-AEE2-41AB-8E72-FE872866BB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дное фенотиазина; по строению и, частично, по фармакологическим свойствам близок к аминази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ффективное антигистаминное средство (сильна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блокад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рошо всасывается при приёме внут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разных путях введения проникает через ГЭ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d93ff"/>
                </a:solidFill>
                <a:latin typeface="Times New Roman"/>
              </a:rPr>
              <a:t>Характеристика аллергических реакций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1414-18ED-4B8B-837E-AEFD24368F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F6BD-8F8B-40DA-B702-802339FCEF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00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женное влияние на ЦНС: сильная седативная активность, потенцирует действие наркотических, снотворных, анальгетиков и местных анестет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ает температуру те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упреждает и успокаивает рво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укачивающее 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ьное альфа-адреноблокирующее 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ренное  периферическое и центральное холиноблокирующее действие (причи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бочных эффектов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660E-801C-4608-819A-E94842BB4B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лергия (крапивница, сывороточная болезнь, сенная лихорадка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азомоторный и аллергоринит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вматизм с выраженным аллергокомпонент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екарственная аллергия; зудящие дерматоз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олезнь Меньера; морская и воздушная болезнь; хоре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болевания ЦНС, сопровождающиеся повышением проницаемости сосуд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к компонент для потенцированного наркоз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оставе литических смесе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потенцирования действия анальгетиков, местных анестетиков; в качестве противорвотного сред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1979640" y="18900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D09D-3AE3-4035-8E61-25B753A5D4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25 мг 2-3 раза/сут (внутрь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1-2мл 2,5% раствора (в/м); и 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е литических смесей до 5-10мл 0,5% раствора или 2мл 2,5% раствора (в/в). Нельзя п/к (раздражающее действ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едупреждения укачивания по 25-50мг однократно за час до от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ысшие доз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зовая 75мг, суточная 500мг (внутрь); внутримышечно: разовая 50м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2мл 2,5% раствора), суточная 250мг (10мл 2,5% раство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324000" y="26028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ежим доз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C0E-0E06-4009-9A89-AE2C19B857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324000" y="260280"/>
            <a:ext cx="489744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мет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Oval 5"/>
          <p:cNvSpPr/>
          <p:nvPr/>
        </p:nvSpPr>
        <p:spPr>
          <a:xfrm>
            <a:off x="5651640" y="189000"/>
            <a:ext cx="3168360" cy="792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бочные эффек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Line 7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69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Rectangle 8"/>
          <p:cNvSpPr/>
          <p:nvPr/>
        </p:nvSpPr>
        <p:spPr>
          <a:xfrm>
            <a:off x="179280" y="1773360"/>
            <a:ext cx="3240360" cy="647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179280" y="2852640"/>
            <a:ext cx="3240360" cy="647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/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Rectangle 10"/>
          <p:cNvSpPr/>
          <p:nvPr/>
        </p:nvSpPr>
        <p:spPr>
          <a:xfrm>
            <a:off x="179280" y="3933720"/>
            <a:ext cx="3240360" cy="647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/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Rectangle 12"/>
          <p:cNvSpPr/>
          <p:nvPr/>
        </p:nvSpPr>
        <p:spPr>
          <a:xfrm>
            <a:off x="3995640" y="1773360"/>
            <a:ext cx="475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шнота, онемение слизист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Rectangle 13"/>
          <p:cNvSpPr/>
          <p:nvPr/>
        </p:nvSpPr>
        <p:spPr>
          <a:xfrm>
            <a:off x="3995640" y="2852640"/>
            <a:ext cx="475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езненные инфильтрат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вводить на новокаине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Rectangle 14"/>
          <p:cNvSpPr/>
          <p:nvPr/>
        </p:nvSpPr>
        <p:spPr>
          <a:xfrm>
            <a:off x="3995640" y="3860640"/>
            <a:ext cx="475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зкое снижение уровня А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Rectangle 15"/>
          <p:cNvSpPr/>
          <p:nvPr/>
        </p:nvSpPr>
        <p:spPr>
          <a:xfrm>
            <a:off x="179280" y="4869000"/>
            <a:ext cx="8569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ушение функции печени и поч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Line 16"/>
          <p:cNvSpPr/>
          <p:nvPr/>
        </p:nvSpPr>
        <p:spPr>
          <a:xfrm>
            <a:off x="3564000" y="21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Line 17"/>
          <p:cNvSpPr/>
          <p:nvPr/>
        </p:nvSpPr>
        <p:spPr>
          <a:xfrm>
            <a:off x="356400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Line 18"/>
          <p:cNvSpPr/>
          <p:nvPr/>
        </p:nvSpPr>
        <p:spPr>
          <a:xfrm>
            <a:off x="356400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A01E-1FA0-44D0-B5A1-2408DE36C9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КЛЕМАСТ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ТАВЕГИ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РИВТАГИ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8545-7E50-4BA8-8A32-9E5ECE5E04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Клемастин (ТАВЕГИ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троению и фармсвойствам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близок к димедрол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о активнее его и действует более продолжительно (8-12 ч после однократного приём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меренный седативный эффек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нливость у 9,1%), но обычно в первые дни приема; усиливает действие снотворных и алкоголя. В процессе лечения нельзя применять алкогольные напитки. Не назначается водител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жим дозировани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нутрь по 1мг 2 раза в день, суточную дозу можно увеличить до 3-4 таб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/д: головная боль, сухость во рту, тошнота, зап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при беременности, кормлении грудью, совместно с ингибиторами МАО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F5A1-6525-4EB3-AB3A-4F473D2CE9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82CD-1207-47FC-99E4-E585A6F28A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611280" y="404640"/>
            <a:ext cx="7921440" cy="5761080"/>
          </a:xfrm>
          <a:prstGeom prst="rect">
            <a:avLst/>
          </a:prstGeom>
          <a:solidFill>
            <a:srgbClr val="ccffff"/>
          </a:solidFill>
          <a:ln w="114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ФЕНКАРО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AC08-FC1E-4D04-9F4B-05439DF91B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5 и 50 мг таблетки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0мг (таблетки для детской практики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4"/>
          <p:cNvSpPr/>
          <p:nvPr/>
        </p:nvSpPr>
        <p:spPr>
          <a:xfrm>
            <a:off x="971640" y="260280"/>
            <a:ext cx="7200720" cy="1989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ормы выпу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5D29-DBB9-4838-B58F-DAFB26B4CB3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игинальный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ечественны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антигистаминный   препарат   с    высокой   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окирующей активност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личие от других препарато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ации (димедрол, дипразин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охо проникает через ГЭ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оэтому практическ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угнетает ЦН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низкая липофильность). В этой связи может быть причислен к препарата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не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4"/>
          <p:cNvSpPr/>
          <p:nvPr/>
        </p:nvSpPr>
        <p:spPr>
          <a:xfrm>
            <a:off x="1619280" y="33336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906 г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rqu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ил использовать термин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аллерг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ругой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g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действие) для обозначе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змененной реактивности организма в виде толерантности или гиперчувстви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43A5-8E2D-4894-B047-1F8AEB97D8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2627280" y="189000"/>
            <a:ext cx="38894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лерг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Line 5"/>
          <p:cNvSpPr/>
          <p:nvPr/>
        </p:nvSpPr>
        <p:spPr>
          <a:xfrm>
            <a:off x="1763640" y="1341360"/>
            <a:ext cx="5472360" cy="0"/>
          </a:xfrm>
          <a:prstGeom prst="line">
            <a:avLst/>
          </a:prstGeom>
          <a:ln w="63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CC89-4E4E-4ED1-8481-41BA049866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бладает адренолитической и холинолитической (слабая) актив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ен предупреждать осложнения, возникающие при проведении специфическ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осенсиблизации у больных поллиноз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 механизму действ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личен от димедрола и других антигистаминов: он не тольк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окируе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рецепторы, но и уменьшает содержание гистамина в тканях (активиру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каневую диаминоксидазу - фермент, инактивирующий гистамин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4"/>
          <p:cNvSpPr/>
          <p:nvPr/>
        </p:nvSpPr>
        <p:spPr>
          <a:xfrm>
            <a:off x="1619280" y="33336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92AF-1634-447E-81ED-D5EE5752DA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зкая токсичность, хорошо перенос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утствие выраженного холинолитического эффекта позволяет назначать фенкарол больным, которым противопоказаны препараты, обладающие антихолинергической актив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4"/>
          <p:cNvSpPr/>
          <p:nvPr/>
        </p:nvSpPr>
        <p:spPr>
          <a:xfrm>
            <a:off x="1619280" y="33336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6DD1-9F02-4FF1-938C-C58D16D679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Oval 4"/>
          <p:cNvSpPr/>
          <p:nvPr/>
        </p:nvSpPr>
        <p:spPr>
          <a:xfrm>
            <a:off x="1619280" y="18900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Rectangle 5"/>
          <p:cNvSpPr/>
          <p:nvPr/>
        </p:nvSpPr>
        <p:spPr>
          <a:xfrm>
            <a:off x="468360" y="1413000"/>
            <a:ext cx="8136000" cy="1224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ежим дозиров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нутрь после еды по 0,025-0,05 г х 3-4 раза/сут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рс 10-20 дне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Rectangle 6"/>
          <p:cNvSpPr/>
          <p:nvPr/>
        </p:nvSpPr>
        <p:spPr>
          <a:xfrm>
            <a:off x="468360" y="3141720"/>
            <a:ext cx="8136000" cy="29512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линоз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нная лихорад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трая и хроническая крапивниц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ек Квинк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лергорини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рматозы (экземы, нейродермит, кожный зуд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лергия на лекарства, пищевые продукты и др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Oval 7"/>
          <p:cNvSpPr/>
          <p:nvPr/>
        </p:nvSpPr>
        <p:spPr>
          <a:xfrm>
            <a:off x="179280" y="2781360"/>
            <a:ext cx="3168720" cy="8636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оказ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2D87-4ADE-4108-9F05-FCD0B846AE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/д: сухость во рту, диспеп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использоваться у водителей, однако предварительно проверить, нет ли индиивидуальной повышенной чувств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осторожностью при тяжёлых ССС, патологии ЖКТ (ЯБЖ) (раздражающее действиее). Не рекомендуется в первый триместр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вязи с отсутствием выраженного седативного действия допускается к применению водителям, которым противопоказаны А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 (фенкарол можно отнести к препарата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). Однако перед назначением проверить, нет ли повышенной чувствительности (седация, снотворное действ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4"/>
          <p:cNvSpPr/>
          <p:nvPr/>
        </p:nvSpPr>
        <p:spPr>
          <a:xfrm>
            <a:off x="1619280" y="189000"/>
            <a:ext cx="5689440" cy="86364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ИФЕНАД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345D-9969-402F-A91E-8FB6E2ADF9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В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аже по 0,05 и 0,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труктуре близок к димеб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е от димебона (а также димедрола, дипразина, супрастина) не оказывает седативного, снотворного эфф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начается внутрь после еды по 50-200мг 1-2 раза в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шие дозы: разовая 0,3 г, суточная - 0,6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/п: язвенная болезнь и воспалительные заболевания ЖКТ (раздражает СОЖ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900000" y="189000"/>
            <a:ext cx="7417080" cy="1268280"/>
          </a:xfrm>
          <a:prstGeom prst="rect">
            <a:avLst/>
          </a:prstGeom>
          <a:solidFill>
            <a:srgbClr val="cc99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ебгидроли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(диазолин)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DD15-46E6-4F59-8067-92B6765235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В: 0,025 таб; 2%-1мл (ам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ное этилендиамина, сходство с дипрази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ферическая антихолинэргическая а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дативный эффе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начается внутрь во время еды по 25 мг 2-3 раза в день; суточная доза может бы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а до 6 таблет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яжёлых и острых случаях вводится в/венно или в/мышечно: по 1-2мл 2% рас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/д: сонливость, общая слабость, диспеп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/п: глаукома, ДГПЖ, ЯБЖ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900000" y="189000"/>
            <a:ext cx="7417080" cy="1268280"/>
          </a:xfrm>
          <a:prstGeom prst="rect">
            <a:avLst/>
          </a:prstGeom>
          <a:solidFill>
            <a:srgbClr val="cc99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Хлоропирами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(«Супрастин»)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661F-E31E-47DE-8B0C-3B1E3D1E14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1403280" y="1125360"/>
            <a:ext cx="6193080" cy="4175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НТИГИСТАМИННЫ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СТВ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ГЕНЕРАЦ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E756-7658-40A2-8BB0-8323EE8F06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обенности антигистаминных средств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ий аффинитет к Н1-рецептора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ыстрое начало 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статочная продолжительность эффекта (до 24 часов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ются 1 раз в сутки на протяжении длительного времени без снижения терапевтического эффек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сочетанного экранирования других типов рецептор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зкая проходимость через ГЭБ (т.к. низкая липофиль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FDFC-450B-4C62-BBA8-78B696C37DC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нические аллергические заболева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логодичный аллергорини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ническая рецидивирующая крапивниц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новное качество препаратов второй генерации - высокий аффинитет к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-рецептор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Oval 4"/>
          <p:cNvSpPr/>
          <p:nvPr/>
        </p:nvSpPr>
        <p:spPr>
          <a:xfrm>
            <a:off x="395280" y="333360"/>
            <a:ext cx="4753080" cy="115092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ее широ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естр показ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AutoShape 5"/>
          <p:cNvSpPr/>
          <p:nvPr/>
        </p:nvSpPr>
        <p:spPr>
          <a:xfrm rot="19588800">
            <a:off x="5508360" y="404280"/>
            <a:ext cx="431640" cy="1440000"/>
          </a:xfrm>
          <a:custGeom>
            <a:avLst/>
            <a:gdLst>
              <a:gd name="textAreaLeft" fmla="*/ 57600 w 431640"/>
              <a:gd name="textAreaRight" fmla="*/ 374040 w 43164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A612-362F-47C6-9D39-4CD616854D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-396720" y="-360"/>
            <a:ext cx="9540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Противопоказания к назначению препаратов </a:t>
            </a:r>
            <a:r>
              <a:rPr b="1" lang="en-US" sz="4000" spc="-1" strike="noStrike">
                <a:solidFill>
                  <a:srgbClr val="dbbd71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кетоконазола, итраконазола, миконазо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эритромицина, джозамицина (макроли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хини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лекарственных средств, удлиняющих интервал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 включая антиаритм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ные с нарушениями сердечного рит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мпенсированные заболевания ССС, нейроэндокринной, печени, поч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ные с врожденным удлинением интервал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T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ЭК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еременность и период лак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(РЕАКЦИИ ГИПЕРЧУВСТВИТЕЛЬНОС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3300"/>
                </a:solidFill>
                <a:uFillTx/>
                <a:latin typeface="Monotype Corsiva"/>
              </a:rPr>
              <a:t>ДЕФИНИЦ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атологически повышенные иммунные реакции на антиген , вызывающие повреждение тканей сенсибилизированного макроорган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Аллергия развивается в результате повторного воздействия на сенсибилизированный организм причинно-значимого аллергена.</a:t>
            </a: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A2FC-1BBD-440F-A78F-B9B1EF761A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WordArt 4"/>
          <p:cNvSpPr txBox="1"/>
          <p:nvPr/>
        </p:nvSpPr>
        <p:spPr>
          <a:xfrm>
            <a:off x="2627280" y="189000"/>
            <a:ext cx="38894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лерг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Line 5"/>
          <p:cNvSpPr/>
          <p:nvPr/>
        </p:nvSpPr>
        <p:spPr>
          <a:xfrm>
            <a:off x="1763640" y="1341360"/>
            <a:ext cx="5472360" cy="0"/>
          </a:xfrm>
          <a:prstGeom prst="line">
            <a:avLst/>
          </a:prstGeom>
          <a:ln w="63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D10C-5AD5-4F89-9C15-5FE42DABCF7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bd71"/>
                </a:solidFill>
                <a:latin typeface="Times New Roman"/>
              </a:rPr>
              <a:t>Характеристика побочных эффектов антигистаминных препаратов </a:t>
            </a:r>
            <a:r>
              <a:rPr b="1" lang="en-US" sz="3600" spc="-1" strike="noStrike">
                <a:solidFill>
                  <a:srgbClr val="dbbd71"/>
                </a:solidFill>
                <a:latin typeface="Times New Roman"/>
              </a:rPr>
              <a:t>II </a:t>
            </a:r>
            <a:r>
              <a:rPr b="1" lang="ru-RU" sz="3600" spc="-1" strike="noStrike">
                <a:solidFill>
                  <a:srgbClr val="dbbd71"/>
                </a:solidFill>
                <a:latin typeface="Times New Roman"/>
              </a:rPr>
              <a:t>поколе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инство препаратов метаболизируются в печени с участием цитохрома Р-450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торые лекарства: макролиды (эритромицин), азольные противогрибковые (кетоконазол, интраконазол, миконазол) могут ингибировать активность этой ферментной сис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временное применение этих препаратов с антигистаминными ведёт к замедлению метаболизма последних, повышению концентрации в плазме и по­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шению риска побочных эффектов. Особенно с астемизолом и терфенадином - усиление их кардиотоксического эффекта (удлинен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BD2E-172D-4D57-9563-A74C520C086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ет избегать совместного применен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стемизол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 антиаритмиками (амиодарон, дизопирамид, новокаинамид, хинидин, соталол), ингибиторами МАО (метролиндол), ТАД (амитриптилин), антипсихотиками (пимозид, сердиндол) из-за высокого риска развити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желудочковых аритм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7004-B402-47CD-B293-3F803667FB8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964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показания к назначению препаратов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89647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четанное назначение антимикотиков (кетоконазол, итраконазол, миконазол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временное применение макролид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временное использование средств, удлиняющих интервал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включая антиаритмк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циенты с нарушением сердечного рит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, период лакт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Oval 4"/>
          <p:cNvSpPr/>
          <p:nvPr/>
        </p:nvSpPr>
        <p:spPr>
          <a:xfrm>
            <a:off x="0" y="333360"/>
            <a:ext cx="2627280" cy="6476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59DC-74AC-4032-8E2C-E13A6D01C15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едставители антигистаминных средств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ген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имический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перидинов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rfenad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 (Телда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зат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ratad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Кларити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идазол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emizol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Гисмана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пераз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triz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Зите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ипролидинов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rivast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Семпрекс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сипиперид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bastin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Кести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Rectangle 32"/>
          <p:cNvSpPr/>
          <p:nvPr/>
        </p:nvSpPr>
        <p:spPr>
          <a:xfrm>
            <a:off x="395280" y="6308640"/>
            <a:ext cx="8353440" cy="5493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фенад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ъят с рынка: смертельные аритмии при совместном приёме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ими препарат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D7DE-B78A-476C-833F-FCC8DF99B32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Частная фармакологическая характеристи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064A-7C60-4DC6-B62C-A26390E635C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Лоратадин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(кларитин, лорат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а выпуска: 0,01 табле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уктурно близок к ципрогептадину и кетотифе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влияет на ЦНС (не проникает через ГЭБ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седативного и холиноблокирующего 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чало терапевтического действвия через 30 мин после приё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носительно длительное действие (24 час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ща не влияет на абсорбцию препарата в ж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C0D2-DCE3-42BF-8A6B-BC764D7D4A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Лоратадин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(кларитин, лорат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ниверсальное противовоспалительное действие (блокад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рецепторов различных клеток, ингибирует освобождение гистамина тучными клетками, базофилами, синтез и освобожден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хемотаксис эозинофил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тигистаминный эффект клинически проявляется уже после однократного приёма и выражен при коротком курсе (3-4 дн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тивовоспалительное действие при длительном курсе (1-2 недел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развивается толерантность (6 мес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4528-E966-4BED-93E1-6BAC550DC8C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Лоратадин </a:t>
            </a:r>
            <a:br>
              <a:rPr sz="4000"/>
            </a:br>
            <a:r>
              <a:rPr b="1" lang="ru-RU" sz="4000" spc="-1" strike="noStrike">
                <a:solidFill>
                  <a:srgbClr val="dbbd71"/>
                </a:solidFill>
                <a:latin typeface="Times New Roman"/>
              </a:rPr>
              <a:t>(кларитин, лоратин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нимается раз в су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е эффекта быстрее, чем при приёме других антигистаминн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вышает аппетит, совместим с другими препарат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тенцирует антидепрессанты, психотропн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ошо переносится и не имеет побочных эффектов (в сравнении с плацеб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тивопоказа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ри лактации и индивидуальной непереносим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3C80-C867-4434-B70C-17E5C53C4B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Астемизо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а выпуска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0,01 табле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ая активность и длительность 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риёме внутрь быстро всасываетс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к концентрации через 1-4 ч после приё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ведение из организма продолжается до 10-14 дн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лишен седативного и холинолитического действия (через ГЭБ не про­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ает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7969-FA09-45F5-ABB8-4D70231F377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Астемизо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связывается с мускариновыми и дофаминовыми рецептор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абая антисеротониновая актив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выраженного седативного влия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дко вызывает психомоторные наруш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отенцирует действие этанола и бензодиазепин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повышать массу тела (при регулярном применении улучшает аппетит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7:37:34Z</dcterms:created>
  <dc:creator>Илья</dc:creator>
  <dc:description/>
  <dc:language>en-US</dc:language>
  <cp:lastModifiedBy>Ilya</cp:lastModifiedBy>
  <dcterms:modified xsi:type="dcterms:W3CDTF">2007-12-06T08:09:59Z</dcterms:modified>
  <cp:revision>115</cp:revision>
  <dc:subject/>
  <dc:title>ТЕМА:   «АНТИГИСТАМИННЫЕ  СРЕДСТВА»</dc:title>
</cp:coreProperties>
</file>