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  <p:sldId id="343" r:id="rId98"/>
    <p:sldId id="344" r:id="rId99"/>
    <p:sldId id="345" r:id="rId100"/>
    <p:sldId id="346" r:id="rId101"/>
    <p:sldId id="347" r:id="rId102"/>
    <p:sldId id="348" r:id="rId103"/>
    <p:sldId id="349" r:id="rId104"/>
    <p:sldId id="350" r:id="rId105"/>
    <p:sldId id="351" r:id="rId106"/>
    <p:sldId id="352" r:id="rId107"/>
    <p:sldId id="353" r:id="rId108"/>
    <p:sldId id="354" r:id="rId109"/>
    <p:sldId id="355" r:id="rId110"/>
    <p:sldId id="356" r:id="rId111"/>
    <p:sldId id="357" r:id="rId112"/>
    <p:sldId id="358" r:id="rId113"/>
    <p:sldId id="359" r:id="rId114"/>
    <p:sldId id="360" r:id="rId115"/>
    <p:sldId id="361" r:id="rId116"/>
    <p:sldId id="362" r:id="rId117"/>
    <p:sldId id="363" r:id="rId118"/>
    <p:sldId id="364" r:id="rId119"/>
    <p:sldId id="365" r:id="rId120"/>
    <p:sldId id="366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slide" Target="slides/slide88.xml"/><Relationship Id="rId99" Type="http://schemas.openxmlformats.org/officeDocument/2006/relationships/slide" Target="slides/slide89.xml"/><Relationship Id="rId100" Type="http://schemas.openxmlformats.org/officeDocument/2006/relationships/slide" Target="slides/slide90.xml"/><Relationship Id="rId101" Type="http://schemas.openxmlformats.org/officeDocument/2006/relationships/slide" Target="slides/slide91.xml"/><Relationship Id="rId102" Type="http://schemas.openxmlformats.org/officeDocument/2006/relationships/slide" Target="slides/slide92.xml"/><Relationship Id="rId103" Type="http://schemas.openxmlformats.org/officeDocument/2006/relationships/slide" Target="slides/slide93.xml"/><Relationship Id="rId104" Type="http://schemas.openxmlformats.org/officeDocument/2006/relationships/slide" Target="slides/slide94.xml"/><Relationship Id="rId105" Type="http://schemas.openxmlformats.org/officeDocument/2006/relationships/slide" Target="slides/slide95.xml"/><Relationship Id="rId106" Type="http://schemas.openxmlformats.org/officeDocument/2006/relationships/slide" Target="slides/slide96.xml"/><Relationship Id="rId107" Type="http://schemas.openxmlformats.org/officeDocument/2006/relationships/slide" Target="slides/slide97.xml"/><Relationship Id="rId108" Type="http://schemas.openxmlformats.org/officeDocument/2006/relationships/slide" Target="slides/slide98.xml"/><Relationship Id="rId109" Type="http://schemas.openxmlformats.org/officeDocument/2006/relationships/slide" Target="slides/slide99.xml"/><Relationship Id="rId110" Type="http://schemas.openxmlformats.org/officeDocument/2006/relationships/slide" Target="slides/slide100.xml"/><Relationship Id="rId111" Type="http://schemas.openxmlformats.org/officeDocument/2006/relationships/slide" Target="slides/slide101.xml"/><Relationship Id="rId112" Type="http://schemas.openxmlformats.org/officeDocument/2006/relationships/slide" Target="slides/slide102.xml"/><Relationship Id="rId113" Type="http://schemas.openxmlformats.org/officeDocument/2006/relationships/slide" Target="slides/slide103.xml"/><Relationship Id="rId114" Type="http://schemas.openxmlformats.org/officeDocument/2006/relationships/slide" Target="slides/slide104.xml"/><Relationship Id="rId115" Type="http://schemas.openxmlformats.org/officeDocument/2006/relationships/slide" Target="slides/slide105.xml"/><Relationship Id="rId116" Type="http://schemas.openxmlformats.org/officeDocument/2006/relationships/slide" Target="slides/slide106.xml"/><Relationship Id="rId117" Type="http://schemas.openxmlformats.org/officeDocument/2006/relationships/slide" Target="slides/slide107.xml"/><Relationship Id="rId118" Type="http://schemas.openxmlformats.org/officeDocument/2006/relationships/slide" Target="slides/slide108.xml"/><Relationship Id="rId119" Type="http://schemas.openxmlformats.org/officeDocument/2006/relationships/slide" Target="slides/slide109.xml"/><Relationship Id="rId120" Type="http://schemas.openxmlformats.org/officeDocument/2006/relationships/slide" Target="slides/slide110.xml"/><Relationship Id="rId121" Type="http://schemas.openxmlformats.org/officeDocument/2006/relationships/slide" Target="slides/slide111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06A-83E8-425C-99E1-5C682512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70B-7909-47D6-92CD-3D99D135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CD607-B03D-423B-8262-DBDE00A8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081E4-3008-4671-B023-0DA3D43B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2BA86-6B54-40CB-B44A-97C9DAD3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B4CE7-1437-4946-B8F1-4E88C211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17707-3355-495C-B8BD-19A938CB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3A6DE-BF18-4BA6-95EB-CB39C4FD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79B42-18B1-4AE1-B6C6-C3EFF5E8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7DBFD-AA94-470F-BC89-08A19AE2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9A977-165B-4E44-945D-9F4782F9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20C-FAC5-4A23-9ECE-50806474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DB0-1D53-4A0E-92F0-3D05EDD4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ABC9-D08F-40AB-995C-BC6877D1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2650-287E-4C39-90FA-0204AFDD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0640-F43C-4809-A8AE-4878A794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A290-2769-4A5E-BB80-39F58AEA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369B-A75A-4EA1-A4D2-154E4486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69A2-43D0-4EAC-9E40-AB6D25E8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A890-4D19-4D30-B1D6-F1BC4699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246-7A85-4A40-8B13-06A6D5BA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21BD-717B-4BB3-B415-FCAFA9DB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3F5E-D20D-4D5E-AEE6-F735DD2E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9905-EF1D-4B33-9EF9-4A8F6F33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5C74-58D2-454A-9359-AAF1D67E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C6AA-040F-4C1C-A638-1A849515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615D-4AAE-413B-B9A6-438C6BAB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71A0-0934-4184-8C7C-4BDBF447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9D4A-A264-40ED-B829-23AF01B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1A84-2D31-4824-8FA4-2607CF21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172E-137A-4333-AD1C-746AD556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B5D-F7C4-4D9E-9D91-D6FC03BF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A08E-5155-4D05-86A9-3CAB2905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1502-2A62-43B2-9DC2-EFCB34AC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252C-79A7-4C6F-913F-1BAA5CCC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6A0EE-636D-4B30-AA82-AC4DC9D1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B69F-5043-415E-AFDD-CBE8F5CE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09BB-A682-47B2-A8D1-6AC2FCCF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4C6D5-CF07-46CB-A7C8-4E4EC678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26A4-2F88-4195-A379-C585CA0F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65EE-F0F4-46DC-93FD-D02DF10F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DDBD5-0679-4288-82F1-6721C2EF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603-44EA-4C71-85ED-4FE5B2D5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D6632-4210-45F4-8401-953B11A1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90906-17E2-44D9-8C91-64D97528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A000F-1D40-4B47-A91D-5E07DC6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70C9-340A-4054-A093-EF0D73E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CCAC1-9FDC-4089-A4C1-45426840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35B2-9EB1-4498-B7A2-958CB75E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58DE2-E55B-4978-B6A8-8559FB6C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C83F-D386-4D57-BE52-8E928AA7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A46B5-505E-4F05-B958-0C366B4C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D6AF5-A5ED-4A93-B500-212067D3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438-36A3-4993-8D8B-6D35B8A2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1C51-C4DA-4A10-8545-F0ACAFCC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5D0D-8E4E-49E0-93EF-50726704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CC019-3F97-47D1-B6C5-58BE4552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99B3D-F752-4214-8DE8-FC3F969E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A51D-8D7D-4A8A-9B5C-5669F1FB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43562-D7C8-4B92-A0B1-70AF05D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B0CAA-D2D1-4AF0-B655-33F46896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EAFD9-7457-45DB-9F18-2FA3E9D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9C87-E8AF-4E15-B3F7-E2CC5301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288CD-C4A7-48F8-B001-87ED21A5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1F8-8D5F-4C4D-B3E7-83242F4C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85FF-A7E2-4D7E-80E4-C660450A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A1060-3F1E-40B6-83B7-0E931EBA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9FC8B-4CDD-4812-8A34-7AE34D6F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93FB7-C2A9-42B4-AABE-459BDBEE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CD3D4-68EC-40A7-ACC2-734C0ABF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E9370-6D51-4F59-9BBA-81663067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667C7-48E2-4FD0-9598-E0F68877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70E02-44E6-45FF-97CB-6B5BEF05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0B02D-32E3-46AC-99B6-1917DB6F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62BFC-3B7D-4817-A429-07078965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9E8-C8C1-4937-9B7B-3CD507B7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C6EBF-BEFA-42AB-AC6C-98AC645C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BA79E-F019-4D87-936E-036F2E50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B6325-FD10-4773-87E2-38F4ECE0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16D16-3FE2-4185-A49E-D33C9A2D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920C2-4B97-4200-B45C-6EA7DA57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5F21E-08A2-4AE9-86ED-49362D4A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00E26-CF81-4291-8849-68DCAB13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8DC37-0924-44F2-AD54-2B9557DF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45F96-6BF7-43BD-AD13-42D50E48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0E405E-6446-4CD0-B235-8421BFAA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9FA-FBD4-4779-A51A-32BC76F7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7F729-7B6F-4D56-9DBF-40CA38A8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A059E-7785-4314-8D67-600C142E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C3B38-F5C9-4CD7-AAFF-AF9D2F3C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87873-21CD-4D41-97D7-CB011550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37B8F-3265-4FE7-BDA6-0659877B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F667E-5DCA-4CD9-B377-C45C5E9B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711A6-14B6-439D-AC93-94F07D66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ECA97-5C28-4988-A70B-9FA7B160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C7EA0-DCEC-4927-BE8C-061318A0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55694-7FA8-4D6F-B299-DF3D787D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844-7540-45CB-B922-BCCA0851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9D79-16F3-4498-8317-BB9D7B49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DE125-FA22-499A-99C6-8A89ECC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19872-E6E0-4446-BF4B-125A30A1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C8054-A063-4ACB-AAA4-313ED750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83889-ED53-45E9-AAB6-608E002D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D01CB-2BC0-47CF-8B93-D1A3B3C4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95154-3ED9-4775-B914-9A8D8970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8C5A6-CF50-4876-98D1-6DC7FF87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EF607-F7AD-464A-8BF8-7DCCB98D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D4881-BBA8-4683-B103-E108C8B1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3098-5593-4A9A-9E59-2F218CAF4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0C7E-9014-46D1-9D7B-5470D7265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4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BB59-0241-4C77-ADD3-DBAA93B87B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FB75-A522-45A9-910F-B23B251E21D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40CF-71CB-40B0-83FE-F0D9363755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A29F-A140-4918-B5BD-915D4DE1D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3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E27F-3460-4396-A4CF-6ECA3026D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262F-8DA6-4F00-8DD0-BABAE733F38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574A-2846-4666-BBC3-B3C27A23D3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287141" dir="18900000" blurRad="0" rotWithShape="0">
              <a:srgbClr val="0000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ahoma"/>
              </a:rPr>
              <a:t>Тем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«АНТИГИСТАМИННЫЕ СРЕДСТВ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Человек имеет врожденную тя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 лекарствам. Стремление приним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лекарство это признак, котор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тличает человека от других животных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ильям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слер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 Teaching and Thinking, 1895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5751-665B-4A29-8C31-B831298F07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0" y="18864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Реализация гиперэргических реакций осуществляе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уморальный механизм иммуногенеза (продукция антител)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леточный (иммунокомпетентные клетки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F899-4412-49E8-A40B-8D44541CC7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7E9D-3202-4A43-84AF-14BAA61A873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Астемизо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иод полужизни -5 дней, а его активного метаболита - 10 дней, поэтому стационарная концентрация достигается только через несколько неде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ициальная доза насыщающая в течение 7 дней, затем 1/3 от дозы насыщ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никает через плацентарный барьер и выводится материнским моло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начается по 10 мг 1 раз в день натощак. Суточная доза может повышаться д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6C58-4A2E-4F3A-BC13-F8BEC03324F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Цетиризин (зиртек, цетр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выпуск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0,01 и 0,02 табле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ме блокад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-рецепторов, ингибирует миграцию эозинофилов и снижает экспрессию молекул адгезии, тем самым сдерживает формирование поздней фазы аллергической реак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отсутствует антихолинэргическое и антисеротониновое действ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лонгированный эффе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8AC6-D03A-49BC-862F-603390C348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Цетиризин (зиртек, цетр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вызывает выраженной сонлив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всасывается и практически не метаболизирует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больших дозах эффективнее других антигистаминных ЛС при бронхообструкци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словленной вдыханием пыльцы раст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значаетс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10 мг 1 раз в день (вечером) или по 5 мг 2 раза в д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A5E9-6A28-494A-AF54-36E39777EC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Эбастин («Кестин»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а выпус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10 мг таблет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стро всасывается и почти полностью метаболизируется в печени и кишечнике, превращаясь в активный метаболит в печени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ребаст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местный приём с жирной пищей увеличивает абсорбцию и образование активного метаболита на 50% (что, однако, не изменяет клинического эффект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ывание с белками плазмы (в т.ч. активного метаболита) более 95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аребастина - 15-19 час; при хронической почечной недостаточности 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/2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растает до 23-26 час, с печеночной - до 27 ча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7F43-94C1-40D6-98F2-19AAA4D5D99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Эбастин («Кестин»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увеличением возраста (вплоть до преклонного) фармакокинетика существенно не меняет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6% препарата выводится с мочой в виде активного метаболи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роникает через ГЭБ - отсутствие седативного эффек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влияет на способность к вождению автомобиля; совместим с транквилизаторами и приёмом алкогол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женное противоаллергическое действие начинается через 1 час после приёма и сохраняется в течение 48 ча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5-дневного курса антигистаминная активность сохраняется в течение 72 час за счёт действия активных метаболи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FB89-309C-422C-A827-F213596587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Эбастин («Кестин»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ежесуточном приеме 10 мг равновесная концентрация достигается через 3-5 дн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отсутствует антихолинергическая актив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изменяет показателей ЭКГ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значаетс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1 раз в сутки в дозе 1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7F4C-8F8E-4836-913F-BDD3F3A7D3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Oval 5"/>
          <p:cNvSpPr/>
          <p:nvPr/>
        </p:nvSpPr>
        <p:spPr>
          <a:xfrm>
            <a:off x="755640" y="549360"/>
            <a:ext cx="7488360" cy="1942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ффинит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к Н1-рецептор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900000" y="2708280"/>
            <a:ext cx="7201080" cy="396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медрол &lt; прометазин &lt; супрастин &l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емастин = астемизол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рфенадин = фенкарол&l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тиризин &lt; лоратадин&l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ривастин = эбаст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38DD-078B-462D-845C-DA8017A9DF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Oval 4"/>
          <p:cNvSpPr/>
          <p:nvPr/>
        </p:nvSpPr>
        <p:spPr>
          <a:xfrm>
            <a:off x="755640" y="549360"/>
            <a:ext cx="7488360" cy="1942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НТИСЕРОТОНИН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ктив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Rectangle 5"/>
          <p:cNvSpPr/>
          <p:nvPr/>
        </p:nvSpPr>
        <p:spPr>
          <a:xfrm>
            <a:off x="900000" y="3068640"/>
            <a:ext cx="6912000" cy="25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Ципрогепт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Димебо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Сетастин</a:t>
            </a:r>
            <a:r>
              <a:rPr b="0" lang="ru-RU" sz="40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A68C-C82D-4989-B151-4073B229A7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imes New Roman"/>
              </a:rPr>
              <a:t>Фексофенадина гидрохлорид («Телфаст»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83FF-AC6C-41EC-8AC0-94B760A204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 выпуска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0,12 и 0,18 таб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гистаминный препара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оспецифический антагонист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рецепторов гистам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стро всасывается, пик концентрации через 1-3 ча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ейная фармакокинет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действия 24 часа (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-14 час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лиминация в неизмененном виде с желчью и моч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наблюдается толерантности и куму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250920" y="189000"/>
            <a:ext cx="8642160" cy="115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ЕКСОФЕН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Times New Roman"/>
              </a:rPr>
              <a:t>Типы аллергических реакций</a:t>
            </a:r>
            <a:br>
              <a:rPr sz="4400"/>
            </a:b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(P.G.H.Gell, P.R.A.Coombs, 1968</a:t>
            </a:r>
            <a:r>
              <a:rPr b="1" i="1" lang="ru-RU" sz="36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атогенетическая классифик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филактический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зависим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итотоксическ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мунокомплексный (Артюсо-подобная реакц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медленная (клеточноопосредованная) гиперчувстви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69FC-D328-4243-9F17-6D4195A788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9242-59EB-4B8C-A59E-24209DE590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требуется изменения дозы пожилым и больным с нарушением функции печ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утствие клинически значимого взаимодействия с другими препаратами и пищ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но применять одновременно с кетоназолом, эритромицином без коррекции до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язывание с белками плазмы на 60-70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проникает через ГЭБ и не влияет на ЦНС (не влияет на вождение автомобиля).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не зависимости от дозы не оказывает седативного эффекта - высокий профиль безопасности (сопоставим с плацеб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250920" y="189000"/>
            <a:ext cx="8642160" cy="115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ЕКСОФЕН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D72C-9CD5-444A-8945-EBBCACED78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потенцирует действие транквилизаторов и алкого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бладает антихолинергической и антиадренергической активно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влияет на ЭКГ и биохимические показат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ично биотрансформируется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ня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 сезонном аллергорините по 120 мг/сут; при хронической идиопатической крапивнице по 180 мг/с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4"/>
          <p:cNvSpPr/>
          <p:nvPr/>
        </p:nvSpPr>
        <p:spPr>
          <a:xfrm>
            <a:off x="250920" y="189000"/>
            <a:ext cx="8642160" cy="115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ЕКСОФЕН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Анафилактический (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gE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-зависимый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работка специфических реагинов (антитела клас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в ответ на поступление в организм антиге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его повторном поступлении быстро происходит его взаимодействие со специфическими реагинами, фиксированными на тучных клетках и базофилах. В результате этого, без активации системы комплемента, происходит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егрануляция лаброцитов и освобождение БА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0EF1-86E9-46E1-9373-7BC5EB73D9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90512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лергический рин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лергический конъюнктив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лергическая крапивн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топический дермат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топическая форма бронхиально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т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филактический ш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03CF-5578-48C1-A1F3-5C62B72965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Цитотоксиче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тела взаимодействуют с естественными или вторично фиксированными на мембранах клетки антиген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ализации обязательно участие комплем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цесс могут также вовлекаться Т-киллеры, цитотоксические лимфоциты, фагоци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ие высвободившихся из клеток БАВ потенцируется лизосомальными ферментами и провоспалительными медиаторами. Развивается цитолиз и аллергическое вос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дко антигены собственных клеток организма перестают распознаваться как «свои», становятся для иммунной системы «чужими» и к ним начинают вырабатываться антите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B5DC-3EE6-45C1-9393-83F6DD23D6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утоиммунные заболев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оиммунные реакции (гемотрансфузионные осложне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которые варианты лекарственной непереносимости (тромбоцитопеническая пурпур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631D-0C40-4694-81DD-AB1B3D2354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ммунокомплексный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(Артюсо-подобная реакция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циркулирующей крови происходит образование иммунных комплексов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антиген+антител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 затем они фиксируются на клеточных мембранах эндотелия сосуд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этом активируется комплемент и индуцируется фагоцитоз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ется острая воспалительная реакция, поддерживаемая не только БАВ аллергии, но и лизосомальными ферментами и провоспалительными энзимами поврежденных клеток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AD55-C1F1-4CBB-B1F1-F51086049F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II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мунокомплексный гломерулонефр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моррагический васкулит (болезнь Шенлейна-Генох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ывороточная болез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9ABB-EC8A-4678-95D6-5F150774A7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медленная (клеточноопосредованная) гиперчувствите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е антигена с рецепторами компетентных Т-лимфоцитов приводит к их бласттрансформации, пролиферации и дифференцировке в цитотоксические лимфоциты. Клетки-киллеры и цитотоксические Т-лимфоциты, оказывая повреждающее действие на клетки с фиксированным антигеном, приводят к замедленному типу воспалительной реак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еточно-инфильтративное и гранулематозн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а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ет быть последующим компонентом реакций немедленного тип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60B6-354F-4B46-9E05-31D53B47A2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V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беркулиновая проба Мант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актный дермат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акции отторжения трансплантан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которые варианты течения бактериальных и вирусных инфе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CBC3-D8FD-4D2C-BC43-65CDF429FA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93ff"/>
                </a:solidFill>
                <a:latin typeface="Times New Roman"/>
              </a:rPr>
              <a:t>Пла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d93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5d93ff"/>
                </a:solidFill>
                <a:latin typeface="Times New Roman"/>
              </a:rPr>
              <a:t>Молекулярная фармакология гистамина и антигистаминовых средст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ие аллергии. Типы аллергических реакций и их клинические эквивал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ое строение и физико-химические свойства гистамина. Его биосинтез, депонирование и высвобождение. Распределение по органам и тканям, специфические и неспецифические депо гистамина. Факторы либерализации гистамина из депо. Либерализаторы гистами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аболизм гистамина. Функции гистамина в организме, его роль в патологии. Участие гистамина в воспалительных и аллергических процесс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A40F-C530-48DF-9D09-A601217530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4EAF-5C34-4CF6-8AA0-5FCD970239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bbe0e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Медиация аллергического воспа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506840" cy="5661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Преформир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медиа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Гиста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еротон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Эозинофильный хемотаксический фактор анафилак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Нейтрофильный хемотаксический фактор анафилак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ротеа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Вновь синтезируемые медиа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Тромбоцитактивирующий факт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PSA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Лейкотрие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ростагландины и тромбокс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C54F-2866-4E9B-9096-1B111F3707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В патогенезе любого типа аллергии выделяю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три стад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6D7B-47E5-4613-8BA2-3FACC366A0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900000" y="1557360"/>
            <a:ext cx="7488360" cy="3311640"/>
          </a:xfrm>
          <a:prstGeom prst="ellipse">
            <a:avLst/>
          </a:prstGeom>
          <a:solidFill>
            <a:srgbClr val="ffff99"/>
          </a:solidFill>
          <a:ln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СТАДИ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АЛЛЕРГИЧЕСКОГ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ВОСПАЛ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9AF9-8A12-4EBC-B795-73E2AFFE2B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вет на поступление в организм антигена происходит выработка специфических антител или компетентных Т-лимфоци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4"/>
          <p:cNvSpPr/>
          <p:nvPr/>
        </p:nvSpPr>
        <p:spPr>
          <a:xfrm>
            <a:off x="1692360" y="333360"/>
            <a:ext cx="5832360" cy="1008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ММУНОЛОГ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ADF1-6AAD-4327-A09A-60978FAE08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вторном поступлении антигена происходит его взаимодействие со специфическими антителами или рецепторами коммитированных Т-лимфоцитов. В результате происходит дегрануляция тучных клеток и базофилов 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вобождением медиаторов аллергии (гистамин, серотонин, брадикинин, медленно реагирующая субстанция анафилаксии, простагландин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1692360" y="333360"/>
            <a:ext cx="5832360" cy="1008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АТОХИМ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6F61-C032-4FA5-A274-3715D01377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берализованные в предыдущую стадию БАВ оказывают неблагоприятное воздействие через клеточные рецепторы на окружающие тк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4"/>
          <p:cNvSpPr/>
          <p:nvPr/>
        </p:nvSpPr>
        <p:spPr>
          <a:xfrm>
            <a:off x="1692360" y="333360"/>
            <a:ext cx="5832360" cy="1008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АТОФИЗИОЛОГ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971640" y="5734080"/>
            <a:ext cx="7056360" cy="93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иперэргическое воспа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AutoShape 6"/>
          <p:cNvSpPr/>
          <p:nvPr/>
        </p:nvSpPr>
        <p:spPr>
          <a:xfrm rot="5400000">
            <a:off x="3492360" y="4076640"/>
            <a:ext cx="2159280" cy="1152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перэргическое воспа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965E-10E4-4CAB-BBAA-B2EDB62156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3" name="Схема 3" descr=""/>
          <p:cNvPicPr/>
          <p:nvPr/>
        </p:nvPicPr>
        <p:blipFill>
          <a:blip r:embed="rId1"/>
          <a:stretch/>
        </p:blipFill>
        <p:spPr>
          <a:xfrm>
            <a:off x="281160" y="1390680"/>
            <a:ext cx="8508960" cy="407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Через Н1-рецепторы гистамин вызывае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бронх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кишеч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ма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сосудов малого круга кровообращ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ение сосудистой проницаем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ение секреции слизистых желез но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ение продукции простагланди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0BDA-22EF-41A7-A8DA-A74368698D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Через Н2-рецепторы гистамин вызывае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персекреция желез желуд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ние слизи в дыхательных пут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ение супрессорного действия Т-лимфоцит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рможение миграции эозинофи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EE49-E472-4236-950C-B626CEDD1B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очетанная стимуляция Н1- и Н2-рецептор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0" y="190512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новение чувства зуд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ширение периферических сосуд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брилляция желудочков (снижение порога возбудимости на уровне АВ-узла через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на уровне проводящей системы желудочков через Н2-рецептор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0E30-FC8D-454B-8B9B-D4A8101B6E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цепторы гистамина, их типы и распределение в организме. Механизмы трансмембранной передачи сигнала, опосредованные рецепторами гистами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рмакологические свойства гистамина, его влияние на сердеч­но-сосудистую систему, гладкомышечные органы и желудочную секрец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тигистаминовые средства. Блокаторы Н1- и Н2-рецепторов, их фармакологические свойства и применение в клинике. Методы изучения антигистаминной активности фармакологических препар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13C2-249B-462A-B4FD-73920A13AA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Н3-рецепто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меют пресинаптическую локализацию, их возбуждение вызывает уменьшение высвобождения из нервных окончаний ряда медиатор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влен также и внутриклеточный тип Н-рецеп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40AF-20FF-4092-A2B4-AEDC1C6302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сновные клинические эффекты гистамина (по М.М.Дейлу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50920" y="1336680"/>
          <a:ext cx="8642160" cy="5529240"/>
        </p:xfrm>
        <a:graphic>
          <a:graphicData uri="http://schemas.openxmlformats.org/drawingml/2006/table">
            <a:tbl>
              <a:tblPr/>
              <a:tblGrid>
                <a:gridCol w="2430360"/>
                <a:gridCol w="6211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рга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линические прояв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ж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д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ёк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емия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ие ГМК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) Отёк слизистой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секреция слизи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оконстрикция (Н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   и   кишеч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ие ГМК (Н2), кишечные колик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ение продукции пепсина и соляной кислоты (Н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ечно­сосудист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ие АД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итма (Н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овые пазух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д, отёк слизистой, ринорея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65E8-6D1A-48E3-96CD-35AE5EAC73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4CAA-1F7A-44DD-B4F9-F5B3450174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Oval 5"/>
          <p:cNvSpPr/>
          <p:nvPr/>
        </p:nvSpPr>
        <p:spPr>
          <a:xfrm>
            <a:off x="395280" y="260280"/>
            <a:ext cx="8353440" cy="1008000"/>
          </a:xfrm>
          <a:prstGeom prst="ellipse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ГИСТАМИН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250920" y="1989000"/>
            <a:ext cx="2736720" cy="3961080"/>
          </a:xfrm>
          <a:prstGeom prst="rect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ок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цепто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кан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увствитель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гистами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203640" y="1989000"/>
            <a:ext cx="2736720" cy="3961080"/>
          </a:xfrm>
          <a:prstGeom prst="rect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берализ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6156360" y="1989000"/>
            <a:ext cx="2736720" cy="3961080"/>
          </a:xfrm>
          <a:prstGeom prst="rect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нте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Line 9"/>
          <p:cNvSpPr/>
          <p:nvPr/>
        </p:nvSpPr>
        <p:spPr>
          <a:xfrm flipH="1">
            <a:off x="1547280" y="1197000"/>
            <a:ext cx="792360" cy="79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6877080" y="1197000"/>
            <a:ext cx="647640" cy="79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4572000" y="1268280"/>
            <a:ext cx="0" cy="64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4284720" y="1557360"/>
            <a:ext cx="5745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804000" y="1557360"/>
            <a:ext cx="719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BBE0-DA66-4108-B221-5C06896CFA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Times New Roman"/>
              </a:rPr>
              <a:t>Классификация по химическому строению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79280" y="1125360"/>
          <a:ext cx="8783640" cy="4861080"/>
        </p:xfrm>
        <a:graphic>
          <a:graphicData uri="http://schemas.openxmlformats.org/drawingml/2006/table">
            <a:tbl>
              <a:tblPr/>
              <a:tblGrid>
                <a:gridCol w="4392720"/>
                <a:gridCol w="43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НОЛ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фенгидрамин (димедрол); тавег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ОТИАЗ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польф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ИЛЕНДИ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праст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ПЕРИД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ипрогептад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ДРОКАРБОЛ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зол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ИПРОЛ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криваст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ИНУКЛ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каро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ЗАТ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оратад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6E3F-7FE2-40A2-A326-26DC04A3C1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Н1-антагонисты со стабилизирующим действием на тучные клетк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395280" y="1600200"/>
          <a:ext cx="8497800" cy="4708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народное наз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рговое наз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выпус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тотиф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ит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етки по 1 м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сатом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нс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етки п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м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зеласт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лергод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5% назальный спрей; глазные кап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4A6C-2CA2-4B48-BAF9-C452A37B31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казания к назначению (общие)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лергический ринит (г.о. сезо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зомоторный рин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филактика и лечение крапивницы, зуда, последствий укуса насеком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карственная аллерг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удящие дерматоз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ссонни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41A6-F090-45E3-8107-275E48D5FD5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отивопоказания к назначению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укома (холиноблокад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ержка мочеиспускания (холиноблокад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тология печени (терфенадин, астемизол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пилепс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рфир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менность (ципрогептадин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фессии, требующие повышенного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654C-2C21-4A85-BB2E-E4755C9DF54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bd71"/>
                </a:solidFill>
                <a:latin typeface="Times New Roman"/>
              </a:rPr>
              <a:t>АНТИГИСТАМИННЫЕ СРЕДСТВА</a:t>
            </a:r>
            <a:br>
              <a:rPr sz="5400"/>
            </a:br>
            <a:r>
              <a:rPr b="1" lang="en-US" sz="54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1" lang="ru-RU" sz="54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8903-2459-4147-BEE3-96E7992814A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НТАГОНИСТЫ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-РЕЦЕПТОРОВ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нкурентные блокаторы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-рецепторов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кол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лассически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-противогистаминные препар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Oval 4"/>
          <p:cNvSpPr/>
          <p:nvPr/>
        </p:nvSpPr>
        <p:spPr>
          <a:xfrm>
            <a:off x="1908000" y="333360"/>
            <a:ext cx="5185080" cy="1008000"/>
          </a:xfrm>
          <a:prstGeom prst="ellipse">
            <a:avLst/>
          </a:prstGeom>
          <a:solidFill>
            <a:srgbClr val="f8a5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инонимы фарм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6595-33EF-44A6-87B5-6EEE083E1D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179280" y="2060640"/>
            <a:ext cx="8713800" cy="432108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ение ГМК бронхов, кишечника, ма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нижение уровня АД (частичн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величение капиллярной проницаемости (отёк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перемия, зуд кож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лабление прекапиллярных сфинктер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хикард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755640" y="189000"/>
            <a:ext cx="7488360" cy="1152360"/>
          </a:xfrm>
          <a:prstGeom prst="ellipse">
            <a:avLst/>
          </a:prstGeom>
          <a:solidFill>
            <a:srgbClr val="f8a500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страняют эффекты гистам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AutoShape 6"/>
          <p:cNvSpPr/>
          <p:nvPr/>
        </p:nvSpPr>
        <p:spPr>
          <a:xfrm>
            <a:off x="3419640" y="1413000"/>
            <a:ext cx="2232000" cy="107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d93ff"/>
                </a:solidFill>
                <a:latin typeface="Times New Roman"/>
              </a:rPr>
              <a:t>Исторический очер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10 г. Берджер, Дейл и Ледлоу выделили гистамин из спорыньи, произвели е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тез и обнаружили, что он вызывает сильное сокращение гладкой мускулатуры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уровня 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19 г. Кеннон обнаружил «шокоподобное» действие гистамина при его внутривенн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ии живот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27 г. Бест и Дейл обнаружили гистамин в лёгких и других тканях. Было показано, что гистамин высвобождается при ожогах, реакциях антиген-антитело, воспален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рассматривать его, как один из медиаторов аллергии и воспа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ла назревать идея о создании препаратов, регулирующих гистаминэргические процес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8DA7-D8E6-404B-9CFB-10F997B52C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DBF2-9575-470D-ADDD-B7D05F9FB56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2124000" y="260280"/>
            <a:ext cx="5112000" cy="14400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1-антагонист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 ВЛИЯЮ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324000" y="2349360"/>
            <a:ext cx="3887640" cy="1513080"/>
          </a:xfrm>
          <a:prstGeom prst="ellipse">
            <a:avLst/>
          </a:prstGeom>
          <a:noFill/>
          <a:ln w="63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креци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елудоч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елё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4859280" y="2349360"/>
            <a:ext cx="3888000" cy="1513080"/>
          </a:xfrm>
          <a:prstGeom prst="ellipse">
            <a:avLst/>
          </a:prstGeom>
          <a:noFill/>
          <a:ln w="63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2- и Н3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цепт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6992-94BE-4242-A5CE-C601389AB7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val 4"/>
          <p:cNvSpPr/>
          <p:nvPr/>
        </p:nvSpPr>
        <p:spPr>
          <a:xfrm>
            <a:off x="250920" y="1989000"/>
            <a:ext cx="4176720" cy="2448000"/>
          </a:xfrm>
          <a:prstGeom prst="ellipse">
            <a:avLst/>
          </a:prstGeom>
          <a:solidFill>
            <a:srgbClr val="ccffff"/>
          </a:solidFill>
          <a:ln w="889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леку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гистаминн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4932360" y="333360"/>
            <a:ext cx="3887640" cy="165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00 молек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су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4932360" y="2276640"/>
            <a:ext cx="3887640" cy="165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5 молек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ишеч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4932360" y="4221000"/>
            <a:ext cx="3887640" cy="165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0,01 молек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ж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Line 8"/>
          <p:cNvSpPr/>
          <p:nvPr/>
        </p:nvSpPr>
        <p:spPr>
          <a:xfrm flipV="1">
            <a:off x="3348000" y="1125000"/>
            <a:ext cx="1440000" cy="100836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3276720" y="4365720"/>
            <a:ext cx="1511280" cy="64764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4500720" y="3213000"/>
            <a:ext cx="358560" cy="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1DFA-D1D4-425C-B73F-ABD8E86FD4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ectangle 17"/>
          <p:cNvSpPr/>
          <p:nvPr/>
        </p:nvSpPr>
        <p:spPr>
          <a:xfrm>
            <a:off x="1042920" y="836640"/>
            <a:ext cx="6913800" cy="4824360"/>
          </a:xfrm>
          <a:prstGeom prst="rect">
            <a:avLst/>
          </a:prstGeom>
          <a:solidFill>
            <a:srgbClr val="ccffff"/>
          </a:solidFill>
          <a:ln w="63360">
            <a:solidFill>
              <a:srgbClr val="00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Устранить кожные проя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в 10 000 раз трудне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чем сосудист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1B43-63AE-45EE-A0DC-5D17790D16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57200" y="1600200"/>
          <a:ext cx="8229600" cy="5224320"/>
        </p:xfrm>
        <a:graphic>
          <a:graphicData uri="http://schemas.openxmlformats.org/drawingml/2006/table">
            <a:tbl>
              <a:tblPr/>
              <a:tblGrid>
                <a:gridCol w="2890800"/>
                <a:gridCol w="5338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Этанол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phenhydramine      Carbinoxami          Clemastine Dimenhydrinate         Phenytoloxamine Doxylamine              Diphenylpyra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Фенотиаз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tazine        Trimeprazine     Oxomemazine Dimethothiazine Alimemaz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Этиленди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pelennamine            Mepyramine   Pyrilamine Chloropyramine           Antaso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Алкил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loropheniramine      Brompheniramine Dexchlorpheniramine Triprolidine      Dimetind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Пипераз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zine                        Chlorcyclizine Hydroxyzine                   Mecliz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Пиперид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proheptadine               Azata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6" name="Oval 81"/>
          <p:cNvSpPr/>
          <p:nvPr/>
        </p:nvSpPr>
        <p:spPr>
          <a:xfrm>
            <a:off x="1403280" y="189000"/>
            <a:ext cx="6408720" cy="1224000"/>
          </a:xfrm>
          <a:prstGeom prst="ellipse">
            <a:avLst/>
          </a:prstGeom>
          <a:solidFill>
            <a:srgbClr val="ffff99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ГЕНЕРА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2558-F004-4EB6-B7CF-E2C36698E3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0" y="189000"/>
          <a:ext cx="9144000" cy="7111800"/>
        </p:xfrm>
        <a:graphic>
          <a:graphicData uri="http://schemas.openxmlformats.org/drawingml/2006/table">
            <a:tbl>
              <a:tblPr/>
              <a:tblGrid>
                <a:gridCol w="1471680"/>
                <a:gridCol w="1485720"/>
                <a:gridCol w="1741680"/>
                <a:gridCol w="936720"/>
                <a:gridCol w="784080"/>
                <a:gridCol w="941400"/>
                <a:gridCol w="1782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ус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дозирир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м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вегил Ривтагил Клем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1м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мг-2мл (0,05%-2,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бгидрол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золин Омери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же 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ча­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таз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польфен Дипраз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же    25    и 50мг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пулы   2,5%-2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­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енгид-рам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едрол Аллерг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20,30,50мг; Амп.1%-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 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рив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прек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с. 8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мгхЗ р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прогеп-тад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тол Ципрод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4 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мгхЗ р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опира-м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р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25мг; Амп. 2%-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ча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ифенад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кар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25, 50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карфе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50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т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идекс, лодерик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1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A328-1E39-493D-A8C7-3C95008229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Характеристика препаратов 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абсорбируются в Ж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накапливаются в ткан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зкая селективность (неполное (30%) экранирование Н1-рецепторов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тковременность действия (в среднем до 6 часов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проникают через ГЭБ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имущественно печеночный метаболизм (70%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ывают индукцию микросомальных ферментов печени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90B6-8D60-4948-B3DB-9365713C934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Times New Roman"/>
              </a:rPr>
              <a:t>Характеристика препаратов </a:t>
            </a: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ирокий спектр фармакологической актив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стноанестезирующе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инидиноподобно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дативно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муляция аппети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хифилакс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локада центральных Н1-рецепторов и угнетени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метилтрансферазы (депринирующий эффект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2334-5B04-4445-8D92-7B94B283AC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сть применения высоких терапевтических доз для достижения эффективного связывания гистаминовых рецептор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иду конкурентного блокирования обладают непродолжительным действием (необходимость неоднократного использования в течение суток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ранирование других рецепторов приводит к целому ряду нежелательных эффектов, что ограничивает использование даже при наличии прямых показаний (сухость слизистой при бронхиальной астм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длительном применении снижается терапевтическая эффективность, что диктует необходимость в смене препарат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395280" y="260280"/>
            <a:ext cx="4176720" cy="9367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Резюм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152E-F54C-414C-BFC4-616FE157BC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имо специфического анатагонизма с гистамином и противоаллергической активности, Н1-блокаторы имеют и другие свой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D233-AC85-425C-95A1-77E547D2607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Times New Roman"/>
              </a:rPr>
              <a:t>Дополнительные фармакологические эффект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медрол, дипразин, супраст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угнетают ЦНС (седативный, снотвор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праз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нцирует действие депринирующих средств (наркотических анальгетиков, анестетиков, средств для наркоза); в токсических дозах - возбуждение, бессонница, тремо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медро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может иметь парадоксальный эффект на ЦНС (беспокойств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праз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небольшой степени снижает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35-1937 гг. Бове синтезировал и изучил на противогистаминную активность множество химических соединений и выявил несколько эффективных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явилась но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ппа антигистаминных препар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ми противогистаминными препаратами были антреган, неоантреган (мепирамин, пириламин), фенетазин (этизин) и прометазин (дипрозин, пипольфен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50-е годы в практику широко вошёл дифенгидрамин (димедрол). Затем появляются: супрастин, тавегил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препаратов, лишённых седативного эффекта (диазолин, впоследствии создан оригинальный отечественный препарат фенкарол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F3E3-8923-4C0F-A408-FAD4CA04CE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EEF-7E42-4AE1-B09E-C178CB833B9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вегил, фенкарол, терфенад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ладают минимальной седативной активнос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азол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 ЦНС практически не влия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медрол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ладает отчетливой ганглиоблокирующей активностью (понижает АД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праз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как представитель фенотиазинов) блокирует а-адренорецепто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празин, димедрол, супраст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ладают умеренной спазмолитической активнос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икарфе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локирует серотониновые рецепторы (выраженный противозудный эффек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енкарол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ладает низкой липофильностью, плохо проникает через ГЭБ и практи-­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ски лишен седативного эффе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Times New Roman"/>
              </a:rPr>
              <a:t>Дополнительные фармакологические эффе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6A67-2BEC-4140-8650-DF1D172B5C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Реестр побочных эффектов препаратов </a:t>
            </a: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тковременность эфф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-холиноблокада (сухость слизистых оболочек, задержка мочеиспуска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дация (потенцируется транквилизаторами, этанолом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епсия (тошнота, рвота, диарея, боли в эпигастри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диотоксичность (удлинени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хифилакс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590D-C42E-4073-8834-279AA50330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Частная фармаколог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антигистаминных средств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Monotype Corsiva"/>
              </a:rPr>
              <a:t>I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генераци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5D69-6DF6-4B82-8F0B-021D3C79B9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ДИФЕНГИДРАМ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8589-A133-4610-8EF3-BFCAFEB5C7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% раствор в ампулах по 1мл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аблетки 0,05, 0,03; 0,02 (для детей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уппозитории с димедролом для детей (0,005; 0,001; 0,015; 0,0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4"/>
          <p:cNvSpPr/>
          <p:nvPr/>
        </p:nvSpPr>
        <p:spPr>
          <a:xfrm>
            <a:off x="395280" y="333360"/>
            <a:ext cx="4105440" cy="934920"/>
          </a:xfrm>
          <a:prstGeom prst="ellipse">
            <a:avLst/>
          </a:prstGeom>
          <a:solidFill>
            <a:srgbClr val="ccffff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ы выпу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791F-1CA3-4269-89EB-5821CCE2CE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ектр эфф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тигистамин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тивовоспалитель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типиретическ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датив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нотвор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тиворвот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стноанестезирующ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47FF-3019-4349-9DA1-6A74878185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тся в первую очередь для предупреждения или ослабления аллергических реак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женная антигистаминная активность: экранируе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истаминовые рецепторы и  устраняет  эффекты  гистамин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ие  на ЦНС  обусловлено  блокадой 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цепторов мозга и угнетением центральных холинергических структу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дает холинолитической активностью (в умеренной степени блокирует холинорецепторы вегетативных ганглиев - снижение уровня А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920B-CDB8-4678-B78D-68C4A07035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агонизм с гистамином проявляется в большей степени по отношению к местным сосудистым реакциям при воспалении и аллергии, чем к системным (т.е. снижению уровня АД). Однако при дефиците ОЦК при парентеральном введении возможно прогрессирование гипотензии (ганглиоблокирующий эффек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редственное спазмолитическое действие (расслабление ГМК ЖК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ьная холинолитическая активность и влияние на 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рецеп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людей с локальными повреждениями мозга и эпилепсией активирует (даже в низких дозах) судорожные разряды на ЭЭГ и может провоцировать эпипристу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1F4E-B830-4B33-AD85-FE4E6451DB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азывает седативное, снотворное действие имеющее некоторое сходство с нейролептиками (применяют при нарушениях засыпания, предоперационная подготовк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ренное противорвотное действие (эффективен для предотвращения синдрома укачивания и при болезни Меньер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азывает сильное местноанестезирующее действие (при приеме внутрь кратковременное онемение слизистой оболочки полости рт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128D-C89D-4A02-9708-C1963A6D2A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орошо всасывается при приёме внутрь, проникает через ГЭ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болизм печеночный; почечная экскреция и с молоком (седация у детей грудного возрас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7 ч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действия 3-5 ча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БА мало эффективен, но может использоваться в сочетании с теофиллином, эфедрино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большей степени эффективен при бронхоспазме, вызванном либераторами гистамина (тубокурарин, морфин, сомбрев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Антигистаминные сред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спользуются при воспалительных процессах в патогенезе которых ведущую роль играет гистамин. Речь идет в первую очередь об аллергическом воспалении и других вариантах флогогенной реакции (псевдоаллергической, инфекционно-токсической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Антигистаминные сред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являются основными фармакотерапевтическими средствами контроля за аллергией, поскольку симптоматика всех без исключения аллергореакций опосредуется гистами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78C0-077C-4313-B411-5A163E51CE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282D-BD95-4147-A1A7-A5EED58EA7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огда используется при ЯБЖ и гиперацидном гастрите, однако, при этом более эффективны 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блокат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уменьшения побочных реакций при гемотрансфузиях, использовании ферментных препар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AFA4-51FA-4A18-B3C4-CCE8C86D47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я (крапивница, сенная лихорадка, ангионевротический отек, капилляротоксикоз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оконъюнктив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зомоторный рин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ывороточная болез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удящие дерматоз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БЖ и гиперацидный гастрит (в составе комбинированной терапи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ушения сна (самостоятельно и с другим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медик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25092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каз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ADB9-8036-47C9-8D4C-EEDB7B27DC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кинсониз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ширные травмы кожи и мягких тканей (ожоги, размозже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рея, морская и воздушная болез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вота береме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евая болез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дром Мень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шель различной этиологии (сироп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пирование гипертермии в сочетании с другими средствами (литические смес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каз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0E8F-3887-40C0-ACB7-E4E6F562BF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снотворного по 1 таб (30 или 50мг) перед с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кожно вводить нельзя (раздражающее действ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ём внутрь по 30-50мг х 1-3 раза/сут; курс лечения 10-15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/мышечно по 10-50мг/с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/венно капельным методом по 20-50мг в 75-100мл физиологического раств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чи 1-2 раза/сут после очистительной клизмы или самопроизвольного очищения кишеч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ъюнктивальный мешок 0,2-0,5% раствор по 1-2 капли 2-5 раз/с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10% мазь, крем при зудящих дерматозах (осторожно, т.к. всасыв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шие дозы при приёме внутр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0,1 г (разовая) и 0,25г (суточ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шие дозы в/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разовая 0,05г (5мл 1% р-ра) и суточная 0,15г (15мл 1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747E-B2CE-413A-8CAE-C865FCB4CB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онемение» слизистых оболочек при приёме внутрь (местноанестезирующее действ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окружение, головная б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шнота, сухость во рт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лив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ая слаб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ная возбудимость (дети, стар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боч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ффек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Line 6"/>
          <p:cNvSpPr/>
          <p:nvPr/>
        </p:nvSpPr>
        <p:spPr>
          <a:xfrm>
            <a:off x="684360" y="5084640"/>
            <a:ext cx="7775280" cy="0"/>
          </a:xfrm>
          <a:prstGeom prst="line">
            <a:avLst/>
          </a:prstGeom>
          <a:ln w="442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Line 7"/>
          <p:cNvSpPr/>
          <p:nvPr/>
        </p:nvSpPr>
        <p:spPr>
          <a:xfrm>
            <a:off x="684360" y="4508640"/>
            <a:ext cx="7775280" cy="0"/>
          </a:xfrm>
          <a:prstGeom prst="line">
            <a:avLst/>
          </a:prstGeom>
          <a:ln w="442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CB4E-45A5-4C17-8F68-372F78BEE3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оугольная глауком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ГПЖ, стеноз шейки мочевого пузы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нозирующая язва желудка и ДП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тматический стат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ременность, лактация - под конт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вводить подкожно (раздражает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едосторож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468360" y="4508640"/>
            <a:ext cx="799128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ды работ, требующие повышенного вним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быстрых психических реак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675F-6F92-4A2C-8D43-C5ECB02244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хость во рт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труднение дых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бужд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утанность созн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дение уровня АД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 детей - судорог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чение - симптоматическое.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ередозиро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B76D-17E1-4D4C-AB30-41A6D7EFF3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Times New Roman"/>
              </a:rPr>
              <a:t>ПРОМЕТАЗ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ИПОЛЬФЕ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ДИПРАЗ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A61A-0575-4527-9BEB-F6BB27784F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53440" cy="24480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блетки 0,025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раже 0,025 и 0,05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вор ампулированный 2,5%-2м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395280" y="33336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ормы выпу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0D5A-05BE-4026-9C43-B135018D50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дное фенотиазина; по строению и, частично, по фармакологическим свойствам близок к аминази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ффективное антигистаминное средство (сильна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блокад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рошо всасывается при приёме внут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разных путях введения проникает через ГЭ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d93ff"/>
                </a:solidFill>
                <a:latin typeface="Times New Roman"/>
              </a:rPr>
              <a:t>Характеристика аллергических реакций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DE7E-2E30-418B-98EE-4CF6238D09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6E92-AED0-4DB8-A114-D03ACD9A51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00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женное влияние на ЦНС: сильная седативная активность, потенцирует действие наркотических, снотворных, анальгетиков и местных анестет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ает температуру те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упреждает и успокаивает рво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укачивающее 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ьное альфа-адреноблокирующее 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ренное  периферическое и центральное холиноблокирующее действие (причи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бочных эффектов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CA3D-CCD0-4603-9C4E-5C8CCDF5E7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лергия (крапивница, сывороточная болезнь, сенная лихорадка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азомоторный и аллергоринит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вматизм с выраженным аллергокомпонент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карственная аллергия; зудящие дерматоз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олезнь Меньера; морская и воздушная болезнь; хоре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болевания ЦНС, сопровождающиеся повышением проницаемости сосуд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к компонент для потенцированного наркоз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оставе литических смесе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потенцирования действия анальгетиков, местных анестетиков; в качестве противорвотного сред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5E88-C099-450E-92EC-07B2F0A6F6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25 мг 2-3 раза/сут (внутрь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1-2мл 2,5% раствора (в/м); и 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е литических смесей до 5-10мл 0,5% раствора или 2мл 2,5% раствора (в/в). Нельзя п/к (раздражающее действ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едупреждения укачивания по 25-50мг однократно за час до от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ысшие доз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зовая 75мг, суточная 500мг (внутрь); внутримышечно: разовая 50м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2мл 2,5% раствора), суточная 250мг (10мл 2,5% раство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324000" y="26028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ежим доз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956E-8FA0-48B1-B6EE-9A0C2B0B2B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324000" y="26028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бочные эффек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Line 7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69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Rectangle 8"/>
          <p:cNvSpPr/>
          <p:nvPr/>
        </p:nvSpPr>
        <p:spPr>
          <a:xfrm>
            <a:off x="179280" y="1773360"/>
            <a:ext cx="3240360" cy="647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179280" y="2852640"/>
            <a:ext cx="3240360" cy="647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/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Rectangle 10"/>
          <p:cNvSpPr/>
          <p:nvPr/>
        </p:nvSpPr>
        <p:spPr>
          <a:xfrm>
            <a:off x="179280" y="3933720"/>
            <a:ext cx="3240360" cy="647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/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Rectangle 12"/>
          <p:cNvSpPr/>
          <p:nvPr/>
        </p:nvSpPr>
        <p:spPr>
          <a:xfrm>
            <a:off x="3995640" y="1773360"/>
            <a:ext cx="475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шнота, онемение слизист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Rectangle 13"/>
          <p:cNvSpPr/>
          <p:nvPr/>
        </p:nvSpPr>
        <p:spPr>
          <a:xfrm>
            <a:off x="3995640" y="2852640"/>
            <a:ext cx="475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езненные инфильтрат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вводить на новокаине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Rectangle 14"/>
          <p:cNvSpPr/>
          <p:nvPr/>
        </p:nvSpPr>
        <p:spPr>
          <a:xfrm>
            <a:off x="3995640" y="3860640"/>
            <a:ext cx="475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зкое снижение уровня А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Rectangle 15"/>
          <p:cNvSpPr/>
          <p:nvPr/>
        </p:nvSpPr>
        <p:spPr>
          <a:xfrm>
            <a:off x="179280" y="4869000"/>
            <a:ext cx="8569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ушение функции печени и поч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Line 16"/>
          <p:cNvSpPr/>
          <p:nvPr/>
        </p:nvSpPr>
        <p:spPr>
          <a:xfrm>
            <a:off x="3564000" y="21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Line 17"/>
          <p:cNvSpPr/>
          <p:nvPr/>
        </p:nvSpPr>
        <p:spPr>
          <a:xfrm>
            <a:off x="356400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Line 18"/>
          <p:cNvSpPr/>
          <p:nvPr/>
        </p:nvSpPr>
        <p:spPr>
          <a:xfrm>
            <a:off x="356400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7E1B-21D1-46E8-8453-173186BDE5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КЛЕМАСТ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ТАВЕГИ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РИВТАГИ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CA1F-4B27-4771-8AD9-E54DD77935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Клемастин (ТАВЕГИ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троению и фармсвойствам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близок к димедрол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о активнее его и действует более продолжительно (8-12 ч после однократного приём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меренный седативный эфф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нливость у 9,1%), но обычно в первые дни приема; усиливает действие снотворных и алкоголя. В процессе лечения нельзя применять алкогольные напитки. Не назначается водител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жим дозиро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нутрь по 1мг 2 раза в день, суточную дозу можно увеличить до 3-4 таб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/д: головная боль, сухость во рту, тошнота, зап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при беременности, кормлении грудью, совместно с ингибиторами МАО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8D54-A546-40E1-A245-62C043D2B2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631C-44DF-4714-8B94-43E90BD247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ФЕНКАРО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EA16-CB20-4A9E-A2AE-27F5E95518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5 и 50 мг таблетк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0мг (таблетки для детской практики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4"/>
          <p:cNvSpPr/>
          <p:nvPr/>
        </p:nvSpPr>
        <p:spPr>
          <a:xfrm>
            <a:off x="971640" y="260280"/>
            <a:ext cx="7200720" cy="1989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ы выпу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D8B7-DA51-458F-9086-DB39382FDE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игинальный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ечественны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антигистаминный   препарат   с    высокой   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окирующей активно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личие от других препарато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ации (димедрол, дипразин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хо проникает через ГЭ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оэтому практическ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угнетает ЦН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низкая липофильность). В этой связи может быть причислен к препарата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4"/>
          <p:cNvSpPr/>
          <p:nvPr/>
        </p:nvSpPr>
        <p:spPr>
          <a:xfrm>
            <a:off x="1619280" y="33336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906 г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rqu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ил использовать термин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аллерг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ругой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g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действие) для обозначе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змененной реактивности организма в виде толерантности или гиперчувстви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5F41-63A0-42CB-AFD7-9A69F67454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2627280" y="189000"/>
            <a:ext cx="38894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лерг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Line 5"/>
          <p:cNvSpPr/>
          <p:nvPr/>
        </p:nvSpPr>
        <p:spPr>
          <a:xfrm>
            <a:off x="1763640" y="1341360"/>
            <a:ext cx="5472360" cy="0"/>
          </a:xfrm>
          <a:prstGeom prst="line">
            <a:avLst/>
          </a:prstGeom>
          <a:ln w="63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D86F-B6E2-4A46-9E8E-DAF9DC9BB9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бладает адренолитической и холинолитической (слабая) актив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ен предупреждать осложнения, возникающие при проведении специфическ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осенсиблизации у больных поллиноз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 механизму действ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личен от димедрола и других антигистаминов: он не тольк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окируе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рецепторы, но и уменьшает содержание гистамина в тканях (активиру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каневую диаминоксидазу - фермент, инактивирующий гистамин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4"/>
          <p:cNvSpPr/>
          <p:nvPr/>
        </p:nvSpPr>
        <p:spPr>
          <a:xfrm>
            <a:off x="1619280" y="33336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1516-0326-4AD6-A49F-CEFD115888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зкая токсичность, хорошо перенос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выраженного холинолитического эффекта позволяет назначать фенкарол больным, которым противопоказаны препараты, обладающие антихолинергической актив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4"/>
          <p:cNvSpPr/>
          <p:nvPr/>
        </p:nvSpPr>
        <p:spPr>
          <a:xfrm>
            <a:off x="1619280" y="33336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DEF4-2272-49F0-A356-242EF516DA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1619280" y="18900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Rectangle 5"/>
          <p:cNvSpPr/>
          <p:nvPr/>
        </p:nvSpPr>
        <p:spPr>
          <a:xfrm>
            <a:off x="468360" y="1413000"/>
            <a:ext cx="8136000" cy="1224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ежим дозиров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нутрь после еды по 0,025-0,05 г х 3-4 раза/сут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с 10-20 дне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Rectangle 6"/>
          <p:cNvSpPr/>
          <p:nvPr/>
        </p:nvSpPr>
        <p:spPr>
          <a:xfrm>
            <a:off x="468360" y="3141720"/>
            <a:ext cx="8136000" cy="2951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линоз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нная лихорад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трая и хроническая крапивниц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ек Квинк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лергорини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рматозы (экземы, нейродермит, кожный зуд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лергия на лекарства, пищевые продукты и др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179280" y="2781360"/>
            <a:ext cx="3168720" cy="8636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оказ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6458-0D7C-4F7E-81DB-9DB07920EC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/д: сухость во рту, диспеп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использоваться у водителей, однако предварительно проверить, нет ли индиивидуальной повышенной чувств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осторожностью при тяжёлых ССС, патологии ЖКТ (ЯБЖ) (раздражающее действиее). Не рекомендуется в первый триместр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вязи с отсутствием выраженного седативного действия допускается к применению водителям, которым противопоказаны А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 (фенкарол можно отнести к препарата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). Однако перед назначением проверить, нет ли повышенной чувствительности (седация, снотворное действ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4"/>
          <p:cNvSpPr/>
          <p:nvPr/>
        </p:nvSpPr>
        <p:spPr>
          <a:xfrm>
            <a:off x="1619280" y="18900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D2CD-15A1-4C7C-8C76-3F517DC8BD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В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аже по 0,05 и 0,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труктуре близок к димеб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е от димебона (а также димедрола, дипразина, супрастина) не оказывает седативного, снотворного эфф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начается внутрь после еды по 50-200мг 1-2 раза в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шие дозы: разовая 0,3 г, суточная - 0,6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/п: язвенная болезнь и воспалительные заболевания ЖКТ (раздражает СОЖ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900000" y="189000"/>
            <a:ext cx="7417080" cy="1268280"/>
          </a:xfrm>
          <a:prstGeom prst="rect">
            <a:avLst/>
          </a:prstGeom>
          <a:solidFill>
            <a:srgbClr val="cc99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ебгидроли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(диазолин)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41C9-41E2-4430-B020-EB5C31423C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В: 0,025 таб; 2%-1мл (ам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ное этилендиамина, сходство с дипрази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ферическая антихолинэргическая а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дативный эффе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начается внутрь во время еды по 25 мг 2-3 раза в день; суточная доза может бы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а до 6 таблет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яжёлых и острых случаях вводится в/венно или в/мышечно: по 1-2мл 2% рас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/д: сонливость, общая слабость, диспеп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/п: глаукома, ДГПЖ, ЯБЖ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900000" y="189000"/>
            <a:ext cx="7417080" cy="1268280"/>
          </a:xfrm>
          <a:prstGeom prst="rect">
            <a:avLst/>
          </a:prstGeom>
          <a:solidFill>
            <a:srgbClr val="cc99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Хлоропирами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(«Супрастин»)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71A6-A7C1-4814-ACD7-5B3A8CB5FE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1403280" y="1125360"/>
            <a:ext cx="6193080" cy="4175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НТИГИСТАМИННЫ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СТВ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ГЕНЕРАЦ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EFA4-1170-4E52-A275-47DF17AC2DA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обенности антигистаминных средств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ий аффинитет к Н1-рецептора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ыстрое начало 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статочная продолжительность эффекта (до 24 часов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ются 1 раз в сутки на протяжении длительного времени без снижения терапевтического эфф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сочетанного экранирования других типов рецептор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зкая проходимость через ГЭБ (т.к. низкая липофиль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5BA2-2952-48CF-AAB9-341B5FCB146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нические аллергические заболева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логодичный аллергорини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ническая рецидивирующая крапивниц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новное качество препаратов второй генерации - высокий аффинитет к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-рецептор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Oval 4"/>
          <p:cNvSpPr/>
          <p:nvPr/>
        </p:nvSpPr>
        <p:spPr>
          <a:xfrm>
            <a:off x="395280" y="333360"/>
            <a:ext cx="4753080" cy="115092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ее широ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естр показ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AutoShape 5"/>
          <p:cNvSpPr/>
          <p:nvPr/>
        </p:nvSpPr>
        <p:spPr>
          <a:xfrm rot="19588800">
            <a:off x="5508360" y="404280"/>
            <a:ext cx="431640" cy="1440000"/>
          </a:xfrm>
          <a:custGeom>
            <a:avLst/>
            <a:gdLst>
              <a:gd name="textAreaLeft" fmla="*/ 57600 w 431640"/>
              <a:gd name="textAreaRight" fmla="*/ 374040 w 43164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055D-374B-4381-8D33-032F58DB77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9540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Противопоказания к назначению препаратов </a:t>
            </a: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кетоконазола, итраконазола, миконазо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эритромицина, джозамицина (макроли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хини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лекарственных средств, удлиняющих интервал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 включая антиаритм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ные с нарушениями сердечного рит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мпенсированные заболевания ССС, нейроэндокринной, печени, поч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ные с врожденным удлинением интервал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T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ЭК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ременность и период лак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(РЕАКЦИИ ГИПЕРЧУВСТВИТЕЛЬНОС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3300"/>
                </a:solidFill>
                <a:uFillTx/>
                <a:latin typeface="Monotype Corsiva"/>
              </a:rPr>
              <a:t>ДЕФИНИЦ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атологически повышенные иммунные реакции на антиген , вызывающие повреждение тканей сенсибилизированного макроорган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Аллергия развивается в результате повторного воздействия на сенсибилизированный организм причинно-значимого аллергена.</a:t>
            </a: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F931-69F8-40E2-B0C4-15C10FCFDB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WordArt 4"/>
          <p:cNvSpPr txBox="1"/>
          <p:nvPr/>
        </p:nvSpPr>
        <p:spPr>
          <a:xfrm>
            <a:off x="2627280" y="189000"/>
            <a:ext cx="38894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лерг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Line 5"/>
          <p:cNvSpPr/>
          <p:nvPr/>
        </p:nvSpPr>
        <p:spPr>
          <a:xfrm>
            <a:off x="1763640" y="1341360"/>
            <a:ext cx="5472360" cy="0"/>
          </a:xfrm>
          <a:prstGeom prst="line">
            <a:avLst/>
          </a:prstGeom>
          <a:ln w="63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5827-AA8E-4F21-8BBB-2EC8A8D3A11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bd71"/>
                </a:solidFill>
                <a:latin typeface="Times New Roman"/>
              </a:rPr>
              <a:t>Характеристика побочных эффектов антигистаминных препаратов </a:t>
            </a:r>
            <a:r>
              <a:rPr b="1" lang="en-US" sz="3600" spc="-1" strike="noStrike">
                <a:solidFill>
                  <a:srgbClr val="dbbd71"/>
                </a:solidFill>
                <a:latin typeface="Times New Roman"/>
              </a:rPr>
              <a:t>II </a:t>
            </a:r>
            <a:r>
              <a:rPr b="1" lang="ru-RU" sz="3600" spc="-1" strike="noStrike">
                <a:solidFill>
                  <a:srgbClr val="dbbd71"/>
                </a:solidFill>
                <a:latin typeface="Times New Roman"/>
              </a:rPr>
              <a:t>поколе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инство препаратов метаболизируются в печени с участием цитохрома Р-450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торые лекарства: макролиды (эритромицин), азольные противогрибковые (кетоконазол, интраконазол, миконазол) могут ингибировать активность этой ферментной сис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этих препаратов с антигистаминными ведёт к замедлению метаболизма последних, повышению концентрации в плазме и по­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шению риска побочных эффектов. Особенно с астемизолом и терфенадином - усиление их кардиотоксического эффекта (удлинен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A984-F3B0-4682-823F-785AB1CC655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ет избегать совместного применен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стемизол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 антиаритмиками (амиодарон, дизопирамид, новокаинамид, хинидин, соталол), ингибиторами МАО (метролиндол), ТАД (амитриптилин), антипсихотиками (пимозид, сердиндол) из-за высокого риска развит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желудочковых аритм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56DD-9391-441C-AAE8-564FD740C5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964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показания к назначению препаратов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9647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етанное назначение антимикотиков (кетоконазол, итраконазол, миконазол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временное применение макролид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временное использование средств, удлиняющих интервал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включая антиаритмк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циенты с нарушением сердечного рит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, период лакт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Oval 4"/>
          <p:cNvSpPr/>
          <p:nvPr/>
        </p:nvSpPr>
        <p:spPr>
          <a:xfrm>
            <a:off x="0" y="333360"/>
            <a:ext cx="2627280" cy="647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C425-FD4C-4B28-BAB1-E862FD6360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едставители антигистаминных средств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имический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перидинов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fenad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 (Телда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зат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ratad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Кларити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идазол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emizol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Гисмана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пераз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triz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Зите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ипрол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rivast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Семпрекс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сипиперид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bast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Кести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Rectangle 32"/>
          <p:cNvSpPr/>
          <p:nvPr/>
        </p:nvSpPr>
        <p:spPr>
          <a:xfrm>
            <a:off x="395280" y="6308640"/>
            <a:ext cx="8353440" cy="5493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фенад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ъят с рынка: смертельные аритмии при совместном приёме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ими препарат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015D-F98C-414D-B23A-B0A6333810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Частная фармакологическая характеристи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4025-8EBE-480D-86E9-1575B6A0DD6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Лоратадин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(кларитин, лорат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а выпуска: 0,01 табле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уктурно близок к ципрогептадину и кетотифе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влияет на ЦНС (не проникает через ГЭБ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седативного и холиноблокирующего 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чало терапевтического действвия через 30 мин после приё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носительно длительное действие (24 час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ща не влияет на абсорбцию препарата в ж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DD5F-8CA6-47D6-B10C-D2BA4B437B1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Лоратадин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(кларитин, лорат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ниверсальное противовоспалительное действие (блокад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рецепторов различных клеток, ингибирует освобождение гистамина тучными клетками, базофилами, синтез и освобожден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хемотаксис эозинофил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тигистаминный эффект клинически проявляется уже после однократного приёма и выражен при коротком курсе (3-4 дн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тивовоспалительное действие при длительном курсе (1-2 недел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развивается толерантность (6 мес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3705-AE58-436E-B9C3-154ADB086BE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Лоратадин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(кларитин, лорат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нимается раз в су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е эффекта быстрее, чем при приёме других антигистаминн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вышает аппетит, совместим с другими препарат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тенцирует антидепрессанты, психотропн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переносится и не имеет побочных эффектов (в сравнении с плацеб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тивопоказа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ри лактации и индивидуальной непереносим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B56-EC73-4042-840B-1E654928735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Астемизо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выпуска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0,01 табле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ая активность и длительность 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риёме внутрь быстро всасывает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к концентрации через 1-4 ч после приё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ведение из организма продолжается до 10-14 дн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лишен седативного и холинолитического действия (через ГЭБ не про­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ает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024C-3ED3-498C-929F-7D713478A6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Астемизо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связывается с мускариновыми и дофаминовыми рецептор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абая антисеротониновая актив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выраженного седативного влия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дко вызывает психомоторные наруш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тенцирует действие этанола и бензодиазепин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повышать массу тела (при регулярном применении улучшает аппетит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7:37:34Z</dcterms:created>
  <dc:creator>Илья</dc:creator>
  <dc:description/>
  <dc:language>en-US</dc:language>
  <cp:lastModifiedBy>Ilya</cp:lastModifiedBy>
  <dcterms:modified xsi:type="dcterms:W3CDTF">2007-12-06T08:09:59Z</dcterms:modified>
  <cp:revision>115</cp:revision>
  <dc:subject/>
  <dc:title>ТЕМА:   «АНТИГИСТАМИННЫЕ  СРЕДСТВА»</dc:title>
</cp:coreProperties>
</file>