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  <p:sldId id="343" r:id="rId98"/>
    <p:sldId id="344" r:id="rId99"/>
    <p:sldId id="345" r:id="rId100"/>
    <p:sldId id="346" r:id="rId101"/>
    <p:sldId id="347" r:id="rId102"/>
    <p:sldId id="348" r:id="rId103"/>
    <p:sldId id="349" r:id="rId104"/>
    <p:sldId id="350" r:id="rId105"/>
    <p:sldId id="351" r:id="rId106"/>
    <p:sldId id="352" r:id="rId107"/>
    <p:sldId id="353" r:id="rId108"/>
    <p:sldId id="354" r:id="rId109"/>
    <p:sldId id="355" r:id="rId110"/>
    <p:sldId id="356" r:id="rId111"/>
    <p:sldId id="357" r:id="rId112"/>
    <p:sldId id="358" r:id="rId113"/>
    <p:sldId id="359" r:id="rId114"/>
    <p:sldId id="360" r:id="rId115"/>
    <p:sldId id="361" r:id="rId116"/>
    <p:sldId id="362" r:id="rId117"/>
    <p:sldId id="363" r:id="rId118"/>
    <p:sldId id="364" r:id="rId119"/>
    <p:sldId id="365" r:id="rId120"/>
    <p:sldId id="366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slide" Target="slides/slide88.xml"/><Relationship Id="rId99" Type="http://schemas.openxmlformats.org/officeDocument/2006/relationships/slide" Target="slides/slide89.xml"/><Relationship Id="rId100" Type="http://schemas.openxmlformats.org/officeDocument/2006/relationships/slide" Target="slides/slide90.xml"/><Relationship Id="rId101" Type="http://schemas.openxmlformats.org/officeDocument/2006/relationships/slide" Target="slides/slide91.xml"/><Relationship Id="rId102" Type="http://schemas.openxmlformats.org/officeDocument/2006/relationships/slide" Target="slides/slide92.xml"/><Relationship Id="rId103" Type="http://schemas.openxmlformats.org/officeDocument/2006/relationships/slide" Target="slides/slide93.xml"/><Relationship Id="rId104" Type="http://schemas.openxmlformats.org/officeDocument/2006/relationships/slide" Target="slides/slide94.xml"/><Relationship Id="rId105" Type="http://schemas.openxmlformats.org/officeDocument/2006/relationships/slide" Target="slides/slide95.xml"/><Relationship Id="rId106" Type="http://schemas.openxmlformats.org/officeDocument/2006/relationships/slide" Target="slides/slide96.xml"/><Relationship Id="rId107" Type="http://schemas.openxmlformats.org/officeDocument/2006/relationships/slide" Target="slides/slide97.xml"/><Relationship Id="rId108" Type="http://schemas.openxmlformats.org/officeDocument/2006/relationships/slide" Target="slides/slide98.xml"/><Relationship Id="rId109" Type="http://schemas.openxmlformats.org/officeDocument/2006/relationships/slide" Target="slides/slide99.xml"/><Relationship Id="rId110" Type="http://schemas.openxmlformats.org/officeDocument/2006/relationships/slide" Target="slides/slide100.xml"/><Relationship Id="rId111" Type="http://schemas.openxmlformats.org/officeDocument/2006/relationships/slide" Target="slides/slide101.xml"/><Relationship Id="rId112" Type="http://schemas.openxmlformats.org/officeDocument/2006/relationships/slide" Target="slides/slide102.xml"/><Relationship Id="rId113" Type="http://schemas.openxmlformats.org/officeDocument/2006/relationships/slide" Target="slides/slide103.xml"/><Relationship Id="rId114" Type="http://schemas.openxmlformats.org/officeDocument/2006/relationships/slide" Target="slides/slide104.xml"/><Relationship Id="rId115" Type="http://schemas.openxmlformats.org/officeDocument/2006/relationships/slide" Target="slides/slide105.xml"/><Relationship Id="rId116" Type="http://schemas.openxmlformats.org/officeDocument/2006/relationships/slide" Target="slides/slide106.xml"/><Relationship Id="rId117" Type="http://schemas.openxmlformats.org/officeDocument/2006/relationships/slide" Target="slides/slide107.xml"/><Relationship Id="rId118" Type="http://schemas.openxmlformats.org/officeDocument/2006/relationships/slide" Target="slides/slide108.xml"/><Relationship Id="rId119" Type="http://schemas.openxmlformats.org/officeDocument/2006/relationships/slide" Target="slides/slide109.xml"/><Relationship Id="rId120" Type="http://schemas.openxmlformats.org/officeDocument/2006/relationships/slide" Target="slides/slide110.xml"/><Relationship Id="rId121" Type="http://schemas.openxmlformats.org/officeDocument/2006/relationships/slide" Target="slides/slide111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9AC-A63E-4D26-AA98-8EF0887C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0C2-C00C-4C23-B630-4177EC5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751E3-5D5B-4B01-A749-1795A0C0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9CD3F-C624-45CC-BD4E-FF4FB763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6276A-54DA-4A66-8F0B-8EA4C82A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B45D6-F4ED-43D2-8672-D2C6BF3D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8121D-F83D-4AF1-9599-C244D97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34F91-EACE-4787-AD5F-00885956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035E4-98B5-4D4B-8D83-5FE47E53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14697-7999-40CE-A048-8EFBFD5B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E6508-6B48-4455-A024-101137CE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5F1-BF8E-43CA-922A-ED993BD6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D05-701D-48C3-BB77-2C725B98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4AB3-FFA6-47BD-9D88-154298D1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6CB8-6FE6-4618-9925-BFECFF7F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635D-A991-4FAD-8F44-44E4D107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033C-1380-409D-94D6-7B1E0A54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023F-683F-4A40-AAFB-9277D7EC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A13D-4E03-48C8-A0D0-62913DB4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2CD3-16EC-4918-BC55-5C7BA40B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939-24EA-432E-98C6-0D0DBD7B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26AD-B705-435D-8FDF-80DF352D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FCE1-9515-4CC6-8E0B-027C6667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6AAC-8268-4DB7-B4E2-397D59AA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3D5A-8FD5-4E36-AB25-A6671B68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DB15-BE7C-4E76-BC34-7F87D457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BDCE-9C85-4286-B57F-716FF4A3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6903F-2465-45C6-8375-6AA69D2A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8D594-72DC-4E66-9DDF-392E8442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396A-D4A7-491B-A636-CC277FE0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3D17-D3C2-44A8-809A-1AF33CB3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7D5-A86B-4B06-A47A-B1CAE364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01890-AB23-4EAF-93AF-9AB219AA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4BED-A56D-4BED-9BE3-7934CBB9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6D3E-7D36-46B0-A41F-E1A111F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EDA6-44B4-4EDD-AC7A-A1C75360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9AD8-635B-4767-B7D5-6020057D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156D-6393-4F8E-97AF-B3A09B04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E027D-901C-4B61-9458-BB524982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0DBC-9602-4BCA-A74A-B70829C5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B9233-0064-4753-A58C-D9CD39E8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EBC0-801C-4097-AFA7-61ADE5C7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785-5373-4FAE-9A6B-016757C4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214FC-8543-4FB7-89E0-D1C07404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E875C-37E5-4ED9-AFAC-E017E460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9A77-DC8C-414B-BE8D-4F55D94F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4A94-3804-4363-A6EF-1C13A174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2D8AD-BFD5-4BCB-9EE8-4EECAA42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E7A2-C58E-47F3-B86C-58D791BE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49A1F-5363-4650-B6AD-F3B8C5E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0C78-273F-4D99-8B4A-B202CDDE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6518A-C946-4EAA-BC8C-E130C669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4689F-F894-4182-B80C-14BAE756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4C1-F63C-437F-BC02-A2BC7C9F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DD1CB-F2A3-42D6-BDA6-3A06B093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23EA-291B-492D-813E-B20CD333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EF153-7988-4B77-9B09-C6C37CF7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5AB86-4295-49C5-A46D-3EDB69B5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1BBF0-21C5-45A2-9F59-2B576004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4EF77-8323-4207-A7E5-E30EBFF1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CD262-33D9-4A1F-BD60-C84A75BA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E2D6C-2415-4E24-9357-96CE8CD9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A16D8-F782-4EAC-B6EC-1D5DB0A2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70E4B-83AF-4C7D-862D-51472091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8E8-9E70-46B9-B919-94D02E4C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1ECF0-1E57-4499-B5C6-5E5BBBD6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65CBF-1E89-46A1-A9FD-C4BA0AFC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94ADE-3972-4128-AFDA-0310655D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F46A8-E93E-4280-8CD7-396415EA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D06E7D-BCC4-4A63-8E8D-372574F1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261E6-5894-4AFF-A392-CF70828E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3BBA1-DA1D-430F-89FA-4936D8E3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DA32C-200F-4736-A02A-19281214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C0D5D4-8039-46F1-B655-45870A7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4D890-E7D8-41C5-803D-F6C52C3F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106-8BF7-4B02-97C4-5FE1D2EF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E8165-CA4D-4BF5-B8A0-F117FDD3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26CC6-EA09-4C01-9C4D-D72E5B31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5A8A49-CA20-488A-A83F-72E1FDA3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C6BD7-F534-4535-9FA8-498A2C5A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A5877-5D5F-402A-8BE5-D3792053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AA0C2-A92F-433C-91C8-ED5DAE56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561AC-F2C9-42B0-AE19-F55D1A18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5EE5D-8649-4F59-902D-B12DEB01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C0BE77-6C07-45A5-A29E-933543E4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4C3DD-D211-46A4-A1C3-490AB63A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5AD-117E-4100-AFE5-678946AB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97CD4-44E8-43A9-BE2A-4F85A705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193F2-43DB-4D15-8602-0E9F569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614AB-C7F2-42A1-B4EC-8A40AA15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A2B59A-A901-4C03-A2FD-7B51BA6E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BC911-12DB-43F4-B9E6-585C907D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3BCB9-A754-44EB-9140-1B726990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B873F-43DD-432A-8D4C-6DB55B13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4E1C3-6B1E-4196-9093-4BA3559E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DD2D6-68DA-4C82-93D3-4DB64C6C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8831E-8E5C-42E6-8298-4671337A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777-61C0-4206-A045-10B841E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5E9CA-F30E-457F-960F-A450125C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8F6FA-22D1-4747-9461-06F9948B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5239D-94AE-4038-965D-A8E7B41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FE36-72AA-46E1-A0E5-BE38CF7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80A7E-903D-4C1C-9099-B8B67608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21FA9-B501-494C-9586-239D8735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CB297-B20D-430D-A265-8D98A6A1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AC7E3-7BE3-4657-BBDA-F3949B9B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F0ABC-9F8B-41B8-9A16-7866848D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624F7-C60C-4017-B2B8-04FF2E30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5B9E-9454-48E7-A07B-E1024FDD4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85D1-9412-4050-B71E-C132DBCAF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4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23AB-5493-4F02-94DA-FEC22C2CA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72CC-129B-424A-8D48-8D93E1C9A6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0652-DD48-461E-AF0B-A326E401B4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F868-9EF1-4012-AF9A-514E089CC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3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3953-B105-48DD-94A8-5820468A3D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816A-9C25-4D50-B1AC-815A054ECFA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E236-B416-43D3-88CD-31B0E3C705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287141" dir="18900000" blurRad="0" rotWithShape="0">
              <a:srgbClr val="0000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ahoma"/>
              </a:rPr>
              <a:t>Тем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«АНТИГИСТАМИННЫЕ СРЕДСТВ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Человек имеет врожденную тя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 лекарствам. Стремление приним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лекарство это признак, котор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тличает человека от других животных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ильям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слер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 Teaching and Thinking, 1895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C1E7-0066-4D72-811A-919B15A038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0" y="18864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Реализация гиперэргических реакций осуществляе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уморальный механизм иммуногенеза (продукция антител)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леточный (иммунокомпетентные клетки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9FBF-1829-454B-BA60-FFF961E614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4732-D6C2-448B-B8A2-B00FFEDA5B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Астемизо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иод полужизни -5 дней, а его активного метаболита - 10 дней, поэтому стационарная концентрация достигается только через несколько неде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ициальная доза насыщающая в течение 7 дней, затем 1/3 от дозы насыщ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никает через плацентарный барьер и выводится материнским моло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начается по 10 мг 1 раз в день натощак. Суточная доза может повышаться д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2F42-7951-4001-AB98-25DDA531723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Цетиризин (зиртек, цетр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выпуск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0,01 и 0,02 табле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ме блокад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-рецепторов, ингибирует миграцию эозинофилов и снижает экспрессию молекул адгезии, тем самым сдерживает формирование поздней фазы аллергической реак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отсутствует антихолинэргическое и антисеротониновое действ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лонгированный эффе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F888-1CD2-41DF-8A3E-DF61FEE9EE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Цетиризин (зиртек, цетр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вызывает выраженной сонлив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всасывается и практически не метаболизирует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больших дозах эффективнее других антигистаминных ЛС при бронхообструкци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словленной вдыханием пыльцы раст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значаетс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10 мг 1 раз в день (вечером) или по 5 мг 2 раза в д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D44C-7776-48DB-AB43-0E66A33FFA2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Эбастин («Кестин»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а выпус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10 мг таблет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стро всасывается и почти полностью метаболизируется в печени и кишечнике, превращаясь в активный метаболит в печени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ребаст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местный приём с жирной пищей увеличивает абсорбцию и образование активного метаболита на 50% (что, однако, не изменяет клинического эффект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ывание с белками плазмы (в т.ч. активного метаболита) более 95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аребастина - 15-19 час; при хронической почечной недостаточности 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/2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растает до 23-26 час, с печеночной - до 27 ча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893B-C067-40AB-A12D-B1948F8BFE7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Эбастин («Кестин»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увеличением возраста (вплоть до преклонного) фармакокинетика существенно не меняет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6% препарата выводится с мочой в виде активного метаболи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роникает через ГЭБ - отсутствие седативного эффек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влияет на способность к вождению автомобиля; совместим с транквилизаторами и приёмом алкогол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женное противоаллергическое действие начинается через 1 час после приёма и сохраняется в течение 48 ча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5-дневного курса антигистаминная активность сохраняется в течение 72 час за счёт действия активных метаболи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F394-0943-40F1-B14E-49B55AB2E01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Эбастин («Кестин»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ежесуточном приеме 10 мг равновесная концентрация достигается через 3-5 дн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отсутствует антихолинергическая актив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изменяет показателей ЭКГ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значаетс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1 раз в сутки в дозе 1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4C77-9C21-400E-817D-49DFF7057F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Oval 5"/>
          <p:cNvSpPr/>
          <p:nvPr/>
        </p:nvSpPr>
        <p:spPr>
          <a:xfrm>
            <a:off x="755640" y="549360"/>
            <a:ext cx="7488360" cy="1942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ффинит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к Н1-рецептор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900000" y="2708280"/>
            <a:ext cx="7201080" cy="396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медрол &lt; прометазин &lt; супрастин &l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емастин = астемизол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рфенадин = фенкарол&l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тиризин &lt; лоратадин&l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ривастин = эбаст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E525-467F-453D-8E06-81C5BCE93D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Oval 4"/>
          <p:cNvSpPr/>
          <p:nvPr/>
        </p:nvSpPr>
        <p:spPr>
          <a:xfrm>
            <a:off x="755640" y="549360"/>
            <a:ext cx="7488360" cy="1942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НТИСЕРОТОНИН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ктив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Rectangle 5"/>
          <p:cNvSpPr/>
          <p:nvPr/>
        </p:nvSpPr>
        <p:spPr>
          <a:xfrm>
            <a:off x="900000" y="3068640"/>
            <a:ext cx="6912000" cy="25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Ципрогепт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Димебо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Сетастин</a:t>
            </a:r>
            <a:r>
              <a:rPr b="0" lang="ru-RU" sz="40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B4DF-C6B7-4E77-8849-54BC2C32B7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imes New Roman"/>
              </a:rPr>
              <a:t>Фексофенадина гидрохлорид («Телфаст»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ED9B-EAE9-4A1A-B259-92CEDC9FF0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 выпуска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0,12 и 0,18 таб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гистаминный препара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оспецифический антагонист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рецепторов гистам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стро всасывается, пик концентрации через 1-3 ча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ейная фармакокинет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действия 24 часа (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-14 час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лиминация в неизмененном виде с желчью и моч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наблюдается толерантности и куму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250920" y="189000"/>
            <a:ext cx="8642160" cy="115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ЕКСОФЕН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Times New Roman"/>
              </a:rPr>
              <a:t>Типы аллергических реакций</a:t>
            </a:r>
            <a:br>
              <a:rPr sz="4400"/>
            </a:b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(P.G.H.Gell, P.R.A.Coombs, 1968</a:t>
            </a:r>
            <a:r>
              <a:rPr b="1" i="1" lang="ru-RU" sz="36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атогенетическая классифик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филактический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зависим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итотоксическ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мунокомплексный (Артюсо-подобная реакц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медленная (клеточноопосредованная) гиперчувстви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6F85-01E2-4DE8-A07F-D5D9545627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339A-BA59-4E1E-85F8-24DB8F9303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требуется изменения дозы пожилым и больным с нарушением функции печ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утствие клинически значимого взаимодействия с другими препаратами и пищ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но применять одновременно с кетоназолом, эритромицином без коррекции до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язывание с белками плазмы на 60-70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проникает через ГЭБ и не влияет на ЦНС (не влияет на вождение автомобиля).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не зависимости от дозы не оказывает седативного эффекта - высокий профиль безопасности (сопоставим с плацеб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250920" y="189000"/>
            <a:ext cx="8642160" cy="115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ЕКСОФЕН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97E4-5269-459C-B814-67C5871D4F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потенцирует действие транквилизаторов и алкого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бладает антихолинергической и антиадренергической активно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влияет на ЭКГ и биохимические показат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ично биотрансформируется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ня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 сезонном аллергорините по 120 мг/сут; при хронической идиопатической крапивнице по 180 мг/с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4"/>
          <p:cNvSpPr/>
          <p:nvPr/>
        </p:nvSpPr>
        <p:spPr>
          <a:xfrm>
            <a:off x="250920" y="189000"/>
            <a:ext cx="8642160" cy="115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ЕКСОФЕН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Анафилактический (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gE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-зависимый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работка специфических реагинов (антитела клас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в ответ на поступление в организм антиге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его повторном поступлении быстро происходит его взаимодействие со специфическими реагинами, фиксированными на тучных клетках и базофилах. В результате этого, без активации системы комплемента, происходит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егрануляция лаброцитов и освобождение БА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E8AF-DFDC-4D2E-B1FD-C68A729488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90512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лергический рин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лергический конъюнктив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лергическая крапивн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топический дермат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топическая форма бронхиально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т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филактический ш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7CCE-C0AA-4A32-BCE2-7EA2D4C158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Цитотоксиче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тела взаимодействуют с естественными или вторично фиксированными на мембранах клетки антиген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ализации обязательно участие комплем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цесс могут также вовлекаться Т-киллеры, цитотоксические лимфоциты, фагоци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ие высвободившихся из клеток БАВ потенцируется лизосомальными ферментами и провоспалительными медиаторами. Развивается цитолиз и аллергическое вос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дко антигены собственных клеток организма перестают распознаваться как «свои», становятся для иммунной системы «чужими» и к ним начинают вырабатываться антите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5004-CFBB-43DE-A76F-F68CD2CE1A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утоиммунные заболев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оиммунные реакции (гемотрансфузионные осложне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которые варианты лекарственной непереносимости (тромбоцитопеническая пурпур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3877-07C0-4056-98E8-90D998046D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ммунокомплексный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(Артюсо-подобная реакция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циркулирующей крови происходит образование иммунных комплексов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антиген+антител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 затем они фиксируются на клеточных мембранах эндотелия сосуд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этом активируется комплемент и индуцируется фагоцитоз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ется острая воспалительная реакция, поддерживаемая не только БАВ аллергии, но и лизосомальными ферментами и провоспалительными энзимами поврежденных клеток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F5EE-FBB7-4B84-961C-5A000445B0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II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мунокомплексный гломерулонефр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моррагический васкулит (болезнь Шенлейна-Генох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ывороточная болез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D8F6-95F9-47CC-8541-D62C24D122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медленная (клеточноопосредованная) гиперчувствите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е антигена с рецепторами компетентных Т-лимфоцитов приводит к их бласттрансформации, пролиферации и дифференцировке в цитотоксические лимфоциты. Клетки-киллеры и цитотоксические Т-лимфоциты, оказывая повреждающее действие на клетки с фиксированным антигеном, приводят к замедленному типу воспалительной реак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еточно-инфильтративное и гранулематозн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а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ет быть последующим компонентом реакций немедленного тип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2DB2-7A06-4025-BDA3-1279C7B068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V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беркулиновая проба Мант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актный дермат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акции отторжения трансплантан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которые варианты течения бактериальных и вирусных инфе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015D-C4E0-47A5-9E4B-21F32F7AE5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93ff"/>
                </a:solidFill>
                <a:latin typeface="Times New Roman"/>
              </a:rPr>
              <a:t>Пла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d93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5d93ff"/>
                </a:solidFill>
                <a:latin typeface="Times New Roman"/>
              </a:rPr>
              <a:t>Молекулярная фармакология гистамина и антигистаминовых средст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ие аллергии. Типы аллергических реакций и их клинические эквивал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ое строение и физико-химические свойства гистамина. Его биосинтез, депонирование и высвобождение. Распределение по органам и тканям, специфические и неспецифические депо гистамина. Факторы либерализации гистамина из депо. Либерализаторы гистами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аболизм гистамина. Функции гистамина в организме, его роль в патологии. Участие гистамина в воспалительных и аллергических процесс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723D-D79D-4F64-B399-D4BC7C17E1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890F-497B-4865-9E7C-D6CA92342A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bbe0e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Медиация аллергического воспа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506840" cy="5661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Преформир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медиа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Гиста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еротон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Эозинофильный хемотаксический фактор анафилак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Нейтрофильный хемотаксический фактор анафилак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ротеа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Вновь синтезируемые медиа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Тромбоцитактивирующий факт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PSA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Лейкотрие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ростагландины и тромбокс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83A3-917B-4348-BCDA-3CF4F10CDB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В патогенезе любого типа аллергии выделяю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три стад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4C6F-1C0D-4C62-9D12-FA824CF0AD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900000" y="1557360"/>
            <a:ext cx="7488360" cy="3311640"/>
          </a:xfrm>
          <a:prstGeom prst="ellipse">
            <a:avLst/>
          </a:prstGeom>
          <a:solidFill>
            <a:srgbClr val="ffff99"/>
          </a:solidFill>
          <a:ln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СТАДИ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АЛЛЕРГИЧЕСКОГ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ВОСПАЛ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0C91-4975-4E4F-81E1-1DDBD04F5C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вет на поступление в организм антигена происходит выработка специфических антител или компетентных Т-лимфоци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4"/>
          <p:cNvSpPr/>
          <p:nvPr/>
        </p:nvSpPr>
        <p:spPr>
          <a:xfrm>
            <a:off x="1692360" y="333360"/>
            <a:ext cx="5832360" cy="1008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ММУНОЛОГ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D7F2-8DAA-44B3-A28E-2AAB79E95C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вторном поступлении антигена происходит его взаимодействие со специфическими антителами или рецепторами коммитированных Т-лимфоцитов. В результате происходит дегрануляция тучных клеток и базофилов 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вобождением медиаторов аллергии (гистамин, серотонин, брадикинин, медленно реагирующая субстанция анафилаксии, простагландин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1692360" y="333360"/>
            <a:ext cx="5832360" cy="1008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АТОХИМ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C039-B2C5-404B-B0BB-20C72BDACC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берализованные в предыдущую стадию БАВ оказывают неблагоприятное воздействие через клеточные рецепторы на окружающие тк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4"/>
          <p:cNvSpPr/>
          <p:nvPr/>
        </p:nvSpPr>
        <p:spPr>
          <a:xfrm>
            <a:off x="1692360" y="333360"/>
            <a:ext cx="5832360" cy="1008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АТОФИЗИОЛОГ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971640" y="5734080"/>
            <a:ext cx="7056360" cy="93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иперэргическое воспа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AutoShape 6"/>
          <p:cNvSpPr/>
          <p:nvPr/>
        </p:nvSpPr>
        <p:spPr>
          <a:xfrm rot="5400000">
            <a:off x="3492360" y="4076640"/>
            <a:ext cx="2159280" cy="1152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перэргическое воспа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BB17-28B4-4215-BB6B-03BA225B1C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3" name="Схема 3" descr=""/>
          <p:cNvPicPr/>
          <p:nvPr/>
        </p:nvPicPr>
        <p:blipFill>
          <a:blip r:embed="rId1"/>
          <a:stretch/>
        </p:blipFill>
        <p:spPr>
          <a:xfrm>
            <a:off x="281160" y="1390680"/>
            <a:ext cx="8508960" cy="407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Через Н1-рецепторы гистамин вызывае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бронх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кишеч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ма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сосудов малого круга кровообращ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ение сосудистой проницаем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ение секреции слизистых желез но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ение продукции простагланди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FAF8-EB3C-44E4-8B6E-E1E29AFFAB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Через Н2-рецепторы гистамин вызывае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персекреция желез желуд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ние слизи в дыхательных пут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ение супрессорного действия Т-лимфоцит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рможение миграции эозинофи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BA36-816E-47D3-9448-B403CD08B3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очетанная стимуляция Н1- и Н2-рецептор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0" y="190512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новение чувства зуд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ширение периферических сосуд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брилляция желудочков (снижение порога возбудимости на уровне АВ-узла через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на уровне проводящей системы желудочков через Н2-рецептор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ABF4-EF73-4D1A-B448-3C1F8C24F3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цепторы гистамина, их типы и распределение в организме. Механизмы трансмембранной передачи сигнала, опосредованные рецепторами гистами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рмакологические свойства гистамина, его влияние на сердеч­но-сосудистую систему, гладкомышечные органы и желудочную секрец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тигистаминовые средства. Блокаторы Н1- и Н2-рецепторов, их фармакологические свойства и применение в клинике. Методы изучения антигистаминной активности фармакологических препар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5B56-263D-48C8-89E4-36730F2B28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Н3-рецепто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меют пресинаптическую локализацию, их возбуждение вызывает уменьшение высвобождения из нервных окончаний ряда медиатор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влен также и внутриклеточный тип Н-рецеп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8502-9BBF-42F9-BCBA-029AE2904C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сновные клинические эффекты гистамина (по М.М.Дейлу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50920" y="1336680"/>
          <a:ext cx="8642160" cy="5529240"/>
        </p:xfrm>
        <a:graphic>
          <a:graphicData uri="http://schemas.openxmlformats.org/drawingml/2006/table">
            <a:tbl>
              <a:tblPr/>
              <a:tblGrid>
                <a:gridCol w="2430360"/>
                <a:gridCol w="6211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рга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линические прояв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ж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д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ёк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емия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ие ГМК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) Отёк слизистой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секреция слизи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оконстрикция (Н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   и   кишеч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ие ГМК (Н2), кишечные колик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ение продукции пепсина и соляной кислоты (Н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ечно­сосудист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ие АД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итма (Н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овые пазух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д, отёк слизистой, ринорея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FCB5-3709-4910-8DAA-71A6EB0F93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CC99-A35F-4CF9-9628-4730EA98C1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Oval 5"/>
          <p:cNvSpPr/>
          <p:nvPr/>
        </p:nvSpPr>
        <p:spPr>
          <a:xfrm>
            <a:off x="395280" y="260280"/>
            <a:ext cx="8353440" cy="1008000"/>
          </a:xfrm>
          <a:prstGeom prst="ellipse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ГИСТАМИН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250920" y="1989000"/>
            <a:ext cx="2736720" cy="3961080"/>
          </a:xfrm>
          <a:prstGeom prst="rect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ок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цепто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кан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увствитель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гистами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203640" y="1989000"/>
            <a:ext cx="2736720" cy="3961080"/>
          </a:xfrm>
          <a:prstGeom prst="rect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берализ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6156360" y="1989000"/>
            <a:ext cx="2736720" cy="3961080"/>
          </a:xfrm>
          <a:prstGeom prst="rect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нте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Line 9"/>
          <p:cNvSpPr/>
          <p:nvPr/>
        </p:nvSpPr>
        <p:spPr>
          <a:xfrm flipH="1">
            <a:off x="1547280" y="1197000"/>
            <a:ext cx="792360" cy="79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6877080" y="1197000"/>
            <a:ext cx="647640" cy="79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4572000" y="1268280"/>
            <a:ext cx="0" cy="64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4284720" y="1557360"/>
            <a:ext cx="5745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804000" y="1557360"/>
            <a:ext cx="719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A792-1A78-4F81-AE2D-85CA30539B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Times New Roman"/>
              </a:rPr>
              <a:t>Классификация по химическому строению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79280" y="1125360"/>
          <a:ext cx="8783640" cy="4861080"/>
        </p:xfrm>
        <a:graphic>
          <a:graphicData uri="http://schemas.openxmlformats.org/drawingml/2006/table">
            <a:tbl>
              <a:tblPr/>
              <a:tblGrid>
                <a:gridCol w="4392720"/>
                <a:gridCol w="43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НОЛ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фенгидрамин (димедрол); тавег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ОТИАЗ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польф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ИЛЕНДИ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праст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ПЕРИД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ипрогептад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ДРОКАРБОЛ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зол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ИПРОЛ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криваст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ИНУКЛ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каро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ЗАТ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оратад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1193-3B58-4366-A869-8442CE213E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Н1-антагонисты со стабилизирующим действием на тучные клетк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395280" y="1600200"/>
          <a:ext cx="8497800" cy="4708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народное наз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рговое наз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выпус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тотиф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ит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етки по 1 м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сатом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нс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етки п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м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зеласт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лергод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5% назальный спрей; глазные кап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B536-C352-42DF-8EAE-27F8C5FB396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казания к назначению (общие)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лергический ринит (г.о. сезо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зомоторный рин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филактика и лечение крапивницы, зуда, последствий укуса насеком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карственная аллерг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удящие дерматоз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ссонни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AC0B-9067-42AA-9BEF-D00EF902A85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отивопоказания к назначению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укома (холиноблокад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ержка мочеиспускания (холиноблокад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тология печени (терфенадин, астемизол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пилепс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рфир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менность (ципрогептадин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фессии, требующие повышенного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DEA1-E1D8-4279-B7ED-CE63F6D5BF3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bd71"/>
                </a:solidFill>
                <a:latin typeface="Times New Roman"/>
              </a:rPr>
              <a:t>АНТИГИСТАМИННЫЕ СРЕДСТВА</a:t>
            </a:r>
            <a:br>
              <a:rPr sz="5400"/>
            </a:br>
            <a:r>
              <a:rPr b="1" lang="en-US" sz="54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1" lang="ru-RU" sz="54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9247-2E83-4F37-AA43-1F7EC0939F4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НТАГОНИСТЫ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-РЕЦЕПТОРОВ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нкурентные блокаторы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-рецепторов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кол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лассически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-противогистаминные препар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Oval 4"/>
          <p:cNvSpPr/>
          <p:nvPr/>
        </p:nvSpPr>
        <p:spPr>
          <a:xfrm>
            <a:off x="1908000" y="333360"/>
            <a:ext cx="5185080" cy="1008000"/>
          </a:xfrm>
          <a:prstGeom prst="ellipse">
            <a:avLst/>
          </a:prstGeom>
          <a:solidFill>
            <a:srgbClr val="f8a5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инонимы фарм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2D25-75C1-44AE-8621-3B4418F67B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179280" y="2060640"/>
            <a:ext cx="8713800" cy="432108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ение ГМК бронхов, кишечника, ма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нижение уровня АД (частичн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величение капиллярной проницаемости (отёк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перемия, зуд кож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лабление прекапиллярных сфинктер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хикард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755640" y="189000"/>
            <a:ext cx="7488360" cy="1152360"/>
          </a:xfrm>
          <a:prstGeom prst="ellipse">
            <a:avLst/>
          </a:prstGeom>
          <a:solidFill>
            <a:srgbClr val="f8a500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страняют эффекты гистам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AutoShape 6"/>
          <p:cNvSpPr/>
          <p:nvPr/>
        </p:nvSpPr>
        <p:spPr>
          <a:xfrm>
            <a:off x="3419640" y="1413000"/>
            <a:ext cx="2232000" cy="107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d93ff"/>
                </a:solidFill>
                <a:latin typeface="Times New Roman"/>
              </a:rPr>
              <a:t>Исторический очер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10 г. Берджер, Дейл и Ледлоу выделили гистамин из спорыньи, произвели е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тез и обнаружили, что он вызывает сильное сокращение гладкой мускулатуры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уровня 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19 г. Кеннон обнаружил «шокоподобное» действие гистамина при его внутривенн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ии живот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27 г. Бест и Дейл обнаружили гистамин в лёгких и других тканях. Было показано, что гистамин высвобождается при ожогах, реакциях антиген-антитело, воспален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рассматривать его, как один из медиаторов аллергии и воспа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ла назревать идея о создании препаратов, регулирующих гистаминэргические процес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C7DC-2226-4559-8D03-F51A59424A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D277-7ECD-4BDD-982A-591E72D0278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2124000" y="260280"/>
            <a:ext cx="5112000" cy="14400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1-антагонист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 ВЛИЯЮ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324000" y="2349360"/>
            <a:ext cx="3887640" cy="1513080"/>
          </a:xfrm>
          <a:prstGeom prst="ellipse">
            <a:avLst/>
          </a:prstGeom>
          <a:noFill/>
          <a:ln w="63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креци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елудоч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елё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4859280" y="2349360"/>
            <a:ext cx="3888000" cy="1513080"/>
          </a:xfrm>
          <a:prstGeom prst="ellipse">
            <a:avLst/>
          </a:prstGeom>
          <a:noFill/>
          <a:ln w="63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2- и Н3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цепт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5837-675A-4A22-AE8C-F1ECC34428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val 4"/>
          <p:cNvSpPr/>
          <p:nvPr/>
        </p:nvSpPr>
        <p:spPr>
          <a:xfrm>
            <a:off x="250920" y="1989000"/>
            <a:ext cx="4176720" cy="2448000"/>
          </a:xfrm>
          <a:prstGeom prst="ellipse">
            <a:avLst/>
          </a:prstGeom>
          <a:solidFill>
            <a:srgbClr val="ccffff"/>
          </a:solidFill>
          <a:ln w="889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леку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гистаминн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4932360" y="333360"/>
            <a:ext cx="3887640" cy="165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00 молек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су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4932360" y="2276640"/>
            <a:ext cx="3887640" cy="165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5 молек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ишеч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4932360" y="4221000"/>
            <a:ext cx="3887640" cy="165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0,01 молек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ж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Line 8"/>
          <p:cNvSpPr/>
          <p:nvPr/>
        </p:nvSpPr>
        <p:spPr>
          <a:xfrm flipV="1">
            <a:off x="3348000" y="1125000"/>
            <a:ext cx="1440000" cy="100836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3276720" y="4365720"/>
            <a:ext cx="1511280" cy="64764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4500720" y="3213000"/>
            <a:ext cx="358560" cy="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B43E-FB05-47CE-A96A-AB6D5E9C45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ectangle 17"/>
          <p:cNvSpPr/>
          <p:nvPr/>
        </p:nvSpPr>
        <p:spPr>
          <a:xfrm>
            <a:off x="1042920" y="836640"/>
            <a:ext cx="6913800" cy="4824360"/>
          </a:xfrm>
          <a:prstGeom prst="rect">
            <a:avLst/>
          </a:prstGeom>
          <a:solidFill>
            <a:srgbClr val="ccffff"/>
          </a:solidFill>
          <a:ln w="63360">
            <a:solidFill>
              <a:srgbClr val="00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Устранить кожные проя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в 10 000 раз трудне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чем сосудист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17C2-59C7-4C65-965A-59A3A9057C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57200" y="1600200"/>
          <a:ext cx="8229600" cy="5224320"/>
        </p:xfrm>
        <a:graphic>
          <a:graphicData uri="http://schemas.openxmlformats.org/drawingml/2006/table">
            <a:tbl>
              <a:tblPr/>
              <a:tblGrid>
                <a:gridCol w="2890800"/>
                <a:gridCol w="5338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Этанол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phenhydramine      Carbinoxami          Clemastine Dimenhydrinate         Phenytoloxamine Doxylamine              Diphenylpyra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Фенотиаз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tazine        Trimeprazine     Oxomemazine Dimethothiazine Alimemaz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Этиленди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pelennamine            Mepyramine   Pyrilamine Chloropyramine           Antaso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Алкил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loropheniramine      Brompheniramine Dexchlorpheniramine Triprolidine      Dimetind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Пипераз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zine                        Chlorcyclizine Hydroxyzine                   Mecliz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Пиперид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proheptadine               Azata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6" name="Oval 81"/>
          <p:cNvSpPr/>
          <p:nvPr/>
        </p:nvSpPr>
        <p:spPr>
          <a:xfrm>
            <a:off x="1403280" y="189000"/>
            <a:ext cx="6408720" cy="1224000"/>
          </a:xfrm>
          <a:prstGeom prst="ellipse">
            <a:avLst/>
          </a:prstGeom>
          <a:solidFill>
            <a:srgbClr val="ffff99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ГЕНЕРА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86C9-2F30-4808-8322-583CBCAAED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0" y="189000"/>
          <a:ext cx="9144000" cy="7111800"/>
        </p:xfrm>
        <a:graphic>
          <a:graphicData uri="http://schemas.openxmlformats.org/drawingml/2006/table">
            <a:tbl>
              <a:tblPr/>
              <a:tblGrid>
                <a:gridCol w="1471680"/>
                <a:gridCol w="1485720"/>
                <a:gridCol w="1741680"/>
                <a:gridCol w="936720"/>
                <a:gridCol w="784080"/>
                <a:gridCol w="941400"/>
                <a:gridCol w="1782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ус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дозирир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м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вегил Ривтагил Клем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1м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мг-2мл (0,05%-2,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бгидрол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золин Омери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же 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ча­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таз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польфен Дипраз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же    25    и 50мг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пулы   2,5%-2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­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енгид-рам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едрол Аллерг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20,30,50мг; Амп.1%-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 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рив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прек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с. 8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мгхЗ р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прогеп-тад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тол Ципрод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4 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мгхЗ р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опира-м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р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25мг; Амп. 2%-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ча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ифенад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кар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25, 50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карфе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50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т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идекс, лодерик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1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CA1B-B5BE-4960-B159-317E7ABE9A1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Характеристика препаратов 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абсорбируются в Ж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накапливаются в ткан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зкая селективность (неполное (30%) экранирование Н1-рецепторов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тковременность действия (в среднем до 6 часов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проникают через ГЭБ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имущественно печеночный метаболизм (70%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ывают индукцию микросомальных ферментов печени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8181-1A07-479F-90E2-28FF70B8E3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Times New Roman"/>
              </a:rPr>
              <a:t>Характеристика препаратов </a:t>
            </a: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ирокий спектр фармакологической актив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стноанестезирующе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инидиноподобно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дативно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муляция аппети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хифилакс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локада центральных Н1-рецепторов и угнетени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метилтрансферазы (депринирующий эффект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75B4-0490-472B-BFD0-F837FC307B0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сть применения высоких терапевтических доз для достижения эффективного связывания гистаминовых рецептор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иду конкурентного блокирования обладают непродолжительным действием (необходимость неоднократного использования в течение суток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ранирование других рецепторов приводит к целому ряду нежелательных эффектов, что ограничивает использование даже при наличии прямых показаний (сухость слизистой при бронхиальной астм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длительном применении снижается терапевтическая эффективность, что диктует необходимость в смене препарат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395280" y="260280"/>
            <a:ext cx="4176720" cy="9367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Резюм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95A4-56F0-44E3-86E2-5ED4B7B76A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имо специфического анатагонизма с гистамином и противоаллергической активности, Н1-блокаторы имеют и другие свой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9810-1A2C-4ADA-8112-A79B3376929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Times New Roman"/>
              </a:rPr>
              <a:t>Дополнительные фармакологические эффект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медрол, дипразин, супраст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угнетают ЦНС (седативный, снотвор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праз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нцирует действие депринирующих средств (наркотических анальгетиков, анестетиков, средств для наркоза); в токсических дозах - возбуждение, бессонница, тремо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медро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может иметь парадоксальный эффект на ЦНС (беспокойств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праз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небольшой степени снижает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35-1937 гг. Бове синтезировал и изучил на противогистаминную активность множество химических соединений и выявил несколько эффективных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явилась но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ппа антигистаминных препар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ми противогистаминными препаратами были антреган, неоантреган (мепирамин, пириламин), фенетазин (этизин) и прометазин (дипрозин, пипольфен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50-е годы в практику широко вошёл дифенгидрамин (димедрол). Затем появляются: супрастин, тавегил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препаратов, лишённых седативного эффекта (диазолин, впоследствии создан оригинальный отечественный препарат фенкарол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3E64-E7CE-4F49-AF0C-FBB311B5D5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8F9D-F1A2-4529-953F-CE8D5CC42D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вегил, фенкарол, терфенад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ладают минимальной седативной активнос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азол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 ЦНС практически не влия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медрол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ладает отчетливой ганглиоблокирующей активностью (понижает АД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праз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как представитель фенотиазинов) блокирует а-адренорецепто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празин, димедрол, супраст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ладают умеренной спазмолитической активнос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икарфе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локирует серотониновые рецепторы (выраженный противозудный эффек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енкарол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ладает низкой липофильностью, плохо проникает через ГЭБ и практи-­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ски лишен седативного эффе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Times New Roman"/>
              </a:rPr>
              <a:t>Дополнительные фармакологические эффе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0816-8CEC-45A0-BCBA-D1E57338F8F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Реестр побочных эффектов препаратов </a:t>
            </a: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тковременность эфф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-холиноблокада (сухость слизистых оболочек, задержка мочеиспуска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дация (потенцируется транквилизаторами, этанолом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епсия (тошнота, рвота, диарея, боли в эпигастри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диотоксичность (удлинени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хифилакс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0FFA-6F71-4CD1-A3AE-5A87F183BA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Частная фармаколог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антигистаминных средств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Monotype Corsiva"/>
              </a:rPr>
              <a:t>I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генераци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D7CC-DF5E-4B30-9F71-F89934EF27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ДИФЕНГИДРАМ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67A4-4CE4-40AE-84F9-9A93EC5BDF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% раствор в ампулах по 1мл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аблетки 0,05, 0,03; 0,02 (для детей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уппозитории с димедролом для детей (0,005; 0,001; 0,015; 0,0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4"/>
          <p:cNvSpPr/>
          <p:nvPr/>
        </p:nvSpPr>
        <p:spPr>
          <a:xfrm>
            <a:off x="395280" y="333360"/>
            <a:ext cx="4105440" cy="934920"/>
          </a:xfrm>
          <a:prstGeom prst="ellipse">
            <a:avLst/>
          </a:prstGeom>
          <a:solidFill>
            <a:srgbClr val="ccffff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ы выпу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CB65-6EB2-4A83-B8EC-A038E88E59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ектр эфф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тигистамин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тивовоспалитель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типиретическ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датив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нотвор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тиворвот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стноанестезирующ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5C2A-5E27-498F-A0C9-58250E3AAC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тся в первую очередь для предупреждения или ослабления аллергических реак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женная антигистаминная активность: экранируе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истаминовые рецепторы и  устраняет  эффекты  гистамин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ие  на ЦНС  обусловлено  блокадой 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цепторов мозга и угнетением центральных холинергических структу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дает холинолитической активностью (в умеренной степени блокирует холинорецепторы вегетативных ганглиев - снижение уровня А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8770-409D-4A96-91B4-CB0F00DC3C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агонизм с гистамином проявляется в большей степени по отношению к местным сосудистым реакциям при воспалении и аллергии, чем к системным (т.е. снижению уровня АД). Однако при дефиците ОЦК при парентеральном введении возможно прогрессирование гипотензии (ганглиоблокирующий эффек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редственное спазмолитическое действие (расслабление ГМК ЖК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ьная холинолитическая активность и влияние на 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рецеп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людей с локальными повреждениями мозга и эпилепсией активирует (даже в низких дозах) судорожные разряды на ЭЭГ и может провоцировать эпипристу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A762-619B-47F5-9F99-5EA28FF5A7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азывает седативное, снотворное действие имеющее некоторое сходство с нейролептиками (применяют при нарушениях засыпания, предоперационная подготовк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ренное противорвотное действие (эффективен для предотвращения синдрома укачивания и при болезни Меньер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азывает сильное местноанестезирующее действие (при приеме внутрь кратковременное онемение слизистой оболочки полости рт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E600-6B72-4BD8-8933-27622AC74E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орошо всасывается при приёме внутрь, проникает через ГЭ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болизм печеночный; почечная экскреция и с молоком (седация у детей грудного возрас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7 ч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действия 3-5 ча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БА мало эффективен, но может использоваться в сочетании с теофиллином, эфедрино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большей степени эффективен при бронхоспазме, вызванном либераторами гистамина (тубокурарин, морфин, сомбрев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Антигистаминные сред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спользуются при воспалительных процессах в патогенезе которых ведущую роль играет гистамин. Речь идет в первую очередь об аллергическом воспалении и других вариантах флогогенной реакции (псевдоаллергической, инфекционно-токсической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Антигистаминные сред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являются основными фармакотерапевтическими средствами контроля за аллергией, поскольку симптоматика всех без исключения аллергореакций опосредуется гистами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E48B-AF8F-4B73-9C9F-B75F434561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A1DC-6BFB-43DF-970A-8BCAD9BDC4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огда используется при ЯБЖ и гиперацидном гастрите, однако, при этом более эффективны 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блокат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уменьшения побочных реакций при гемотрансфузиях, использовании ферментных препар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CDFD-77F8-4623-A40A-3CFB0522C5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я (крапивница, сенная лихорадка, ангионевротический отек, капилляротоксикоз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оконъюнктив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зомоторный рин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ывороточная болез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удящие дерматоз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БЖ и гиперацидный гастрит (в составе комбинированной терапи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ушения сна (самостоятельно и с другим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медик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25092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каз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DC5C-E8A6-4877-BF14-26245ADAB6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кинсониз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ширные травмы кожи и мягких тканей (ожоги, размозже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рея, морская и воздушная болез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вота береме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евая болез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дром Мень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шель различной этиологии (сироп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пирование гипертермии в сочетании с другими средствами (литические смес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каз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0C18-6D25-41ED-9DE7-A07525DE18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снотворного по 1 таб (30 или 50мг) перед с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кожно вводить нельзя (раздражающее действ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ём внутрь по 30-50мг х 1-3 раза/сут; курс лечения 10-15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/мышечно по 10-50мг/с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/венно капельным методом по 20-50мг в 75-100мл физиологического раств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чи 1-2 раза/сут после очистительной клизмы или самопроизвольного очищения кишеч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ъюнктивальный мешок 0,2-0,5% раствор по 1-2 капли 2-5 раз/с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10% мазь, крем при зудящих дерматозах (осторожно, т.к. всасыв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шие дозы при приёме внутр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0,1 г (разовая) и 0,25г (суточ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шие дозы в/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разовая 0,05г (5мл 1% р-ра) и суточная 0,15г (15мл 1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830C-901D-4845-9081-212809C431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онемение» слизистых оболочек при приёме внутрь (местноанестезирующее действ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окружение, головная б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шнота, сухость во рт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лив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ая слаб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ная возбудимость (дети, стар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боч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ффек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Line 6"/>
          <p:cNvSpPr/>
          <p:nvPr/>
        </p:nvSpPr>
        <p:spPr>
          <a:xfrm>
            <a:off x="684360" y="5084640"/>
            <a:ext cx="7775280" cy="0"/>
          </a:xfrm>
          <a:prstGeom prst="line">
            <a:avLst/>
          </a:prstGeom>
          <a:ln w="442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Line 7"/>
          <p:cNvSpPr/>
          <p:nvPr/>
        </p:nvSpPr>
        <p:spPr>
          <a:xfrm>
            <a:off x="684360" y="4508640"/>
            <a:ext cx="7775280" cy="0"/>
          </a:xfrm>
          <a:prstGeom prst="line">
            <a:avLst/>
          </a:prstGeom>
          <a:ln w="442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1091-3378-4828-B1C3-B98492F5FD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оугольная глауком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ГПЖ, стеноз шейки мочевого пузы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нозирующая язва желудка и ДП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тматический стат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ременность, лактация - под конт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вводить подкожно (раздражает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едосторож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468360" y="4508640"/>
            <a:ext cx="799128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ды работ, требующие повышенного вним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быстрых психических реак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9E79-BB3A-4870-9781-AC4ED2CF45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хость во рт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труднение дых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бужд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утанность созн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дение уровня АД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 детей - судорог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чение - симптоматическое.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ередозиро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FEB4-17E3-4FE0-87B0-7370DE11A6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Times New Roman"/>
              </a:rPr>
              <a:t>ПРОМЕТАЗ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ИПОЛЬФЕ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ДИПРАЗ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4603-D05C-4523-81EC-B6E14BBE92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53440" cy="24480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блетки 0,025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раже 0,025 и 0,05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вор ампулированный 2,5%-2м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395280" y="33336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ормы выпу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19A6-9968-481E-AA0C-4C3F65B227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дное фенотиазина; по строению и, частично, по фармакологическим свойствам близок к аминази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ффективное антигистаминное средство (сильна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блокад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рошо всасывается при приёме внут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разных путях введения проникает через ГЭ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d93ff"/>
                </a:solidFill>
                <a:latin typeface="Times New Roman"/>
              </a:rPr>
              <a:t>Характеристика аллергических реакций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99C1-C390-406A-B9E9-E2939EFE8B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7618-1B16-4527-99AC-15D23E6F16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00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женное влияние на ЦНС: сильная седативная активность, потенцирует действие наркотических, снотворных, анальгетиков и местных анестет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ает температуру те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упреждает и успокаивает рво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укачивающее 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ьное альфа-адреноблокирующее 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ренное  периферическое и центральное холиноблокирующее действие (причи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бочных эффектов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E971-95A6-4BAC-B651-7C484893BC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лергия (крапивница, сывороточная болезнь, сенная лихорадка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азомоторный и аллергоринит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вматизм с выраженным аллергокомпонент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карственная аллергия; зудящие дерматоз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олезнь Меньера; морская и воздушная болезнь; хоре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болевания ЦНС, сопровождающиеся повышением проницаемости сосуд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к компонент для потенцированного наркоз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оставе литических смесе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потенцирования действия анальгетиков, местных анестетиков; в качестве противорвотного сред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9FA0-1CC7-44DC-8C4E-F3281F3086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25 мг 2-3 раза/сут (внутрь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1-2мл 2,5% раствора (в/м); и 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е литических смесей до 5-10мл 0,5% раствора или 2мл 2,5% раствора (в/в). Нельзя п/к (раздражающее действ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едупреждения укачивания по 25-50мг однократно за час до от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ысшие доз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зовая 75мг, суточная 500мг (внутрь); внутримышечно: разовая 50м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2мл 2,5% раствора), суточная 250мг (10мл 2,5% раство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324000" y="26028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ежим доз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D523-AA3D-466D-BC5B-14B9E52D2F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324000" y="26028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бочные эффек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Line 7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69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Rectangle 8"/>
          <p:cNvSpPr/>
          <p:nvPr/>
        </p:nvSpPr>
        <p:spPr>
          <a:xfrm>
            <a:off x="179280" y="1773360"/>
            <a:ext cx="3240360" cy="647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179280" y="2852640"/>
            <a:ext cx="3240360" cy="647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/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Rectangle 10"/>
          <p:cNvSpPr/>
          <p:nvPr/>
        </p:nvSpPr>
        <p:spPr>
          <a:xfrm>
            <a:off x="179280" y="3933720"/>
            <a:ext cx="3240360" cy="647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/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Rectangle 12"/>
          <p:cNvSpPr/>
          <p:nvPr/>
        </p:nvSpPr>
        <p:spPr>
          <a:xfrm>
            <a:off x="3995640" y="1773360"/>
            <a:ext cx="475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шнота, онемение слизист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Rectangle 13"/>
          <p:cNvSpPr/>
          <p:nvPr/>
        </p:nvSpPr>
        <p:spPr>
          <a:xfrm>
            <a:off x="3995640" y="2852640"/>
            <a:ext cx="475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езненные инфильтрат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вводить на новокаине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Rectangle 14"/>
          <p:cNvSpPr/>
          <p:nvPr/>
        </p:nvSpPr>
        <p:spPr>
          <a:xfrm>
            <a:off x="3995640" y="3860640"/>
            <a:ext cx="475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зкое снижение уровня А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Rectangle 15"/>
          <p:cNvSpPr/>
          <p:nvPr/>
        </p:nvSpPr>
        <p:spPr>
          <a:xfrm>
            <a:off x="179280" y="4869000"/>
            <a:ext cx="8569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ушение функции печени и поч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Line 16"/>
          <p:cNvSpPr/>
          <p:nvPr/>
        </p:nvSpPr>
        <p:spPr>
          <a:xfrm>
            <a:off x="3564000" y="21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Line 17"/>
          <p:cNvSpPr/>
          <p:nvPr/>
        </p:nvSpPr>
        <p:spPr>
          <a:xfrm>
            <a:off x="356400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Line 18"/>
          <p:cNvSpPr/>
          <p:nvPr/>
        </p:nvSpPr>
        <p:spPr>
          <a:xfrm>
            <a:off x="356400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6CD9-5E6B-4EC9-9B66-7E13441733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КЛЕМАСТ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ТАВЕГИ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РИВТАГИ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F464-9EA2-4914-A6F7-FDE0F70B39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Клемастин (ТАВЕГИ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троению и фармсвойствам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близок к димедрол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о активнее его и действует более продолжительно (8-12 ч после однократного приём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меренный седативный эфф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нливость у 9,1%), но обычно в первые дни приема; усиливает действие снотворных и алкоголя. В процессе лечения нельзя применять алкогольные напитки. Не назначается водител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жим дозиро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нутрь по 1мг 2 раза в день, суточную дозу можно увеличить до 3-4 таб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/д: головная боль, сухость во рту, тошнота, зап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при беременности, кормлении грудью, совместно с ингибиторами МАО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7F00-6151-41EA-B479-0944938903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52AB-EAC2-4EB5-B5C7-13C2F29FDF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ФЕНКАРО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A954-4A0C-4681-A9ED-5AB60ED38F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5 и 50 мг таблетк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0мг (таблетки для детской практики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4"/>
          <p:cNvSpPr/>
          <p:nvPr/>
        </p:nvSpPr>
        <p:spPr>
          <a:xfrm>
            <a:off x="971640" y="260280"/>
            <a:ext cx="7200720" cy="1989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ы выпу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07AB-CC4E-4DEA-9E95-24801B7B67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игинальный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ечественны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антигистаминный   препарат   с    высокой   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окирующей активно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личие от других препарато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ации (димедрол, дипразин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хо проникает через ГЭ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оэтому практическ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угнетает ЦН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низкая липофильность). В этой связи может быть причислен к препарата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4"/>
          <p:cNvSpPr/>
          <p:nvPr/>
        </p:nvSpPr>
        <p:spPr>
          <a:xfrm>
            <a:off x="1619280" y="33336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906 г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rqu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ил использовать термин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аллерг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ругой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g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действие) для обозначе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змененной реактивности организма в виде толерантности или гиперчувстви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4AAD-352B-425F-9B34-EA0D9CF06D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2627280" y="189000"/>
            <a:ext cx="38894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лерг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Line 5"/>
          <p:cNvSpPr/>
          <p:nvPr/>
        </p:nvSpPr>
        <p:spPr>
          <a:xfrm>
            <a:off x="1763640" y="1341360"/>
            <a:ext cx="5472360" cy="0"/>
          </a:xfrm>
          <a:prstGeom prst="line">
            <a:avLst/>
          </a:prstGeom>
          <a:ln w="63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654B-EA88-4BAB-A8AC-A1A8D3C6F6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бладает адренолитической и холинолитической (слабая) актив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ен предупреждать осложнения, возникающие при проведении специфическ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осенсиблизации у больных поллиноз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 механизму действ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личен от димедрола и других антигистаминов: он не тольк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окируе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рецепторы, но и уменьшает содержание гистамина в тканях (активиру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каневую диаминоксидазу - фермент, инактивирующий гистамин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4"/>
          <p:cNvSpPr/>
          <p:nvPr/>
        </p:nvSpPr>
        <p:spPr>
          <a:xfrm>
            <a:off x="1619280" y="33336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FB9A-BB58-4345-962D-30AC59676F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зкая токсичность, хорошо перенос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выраженного холинолитического эффекта позволяет назначать фенкарол больным, которым противопоказаны препараты, обладающие антихолинергической актив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4"/>
          <p:cNvSpPr/>
          <p:nvPr/>
        </p:nvSpPr>
        <p:spPr>
          <a:xfrm>
            <a:off x="1619280" y="33336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5153-4FDE-4402-808A-C87A6A1929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1619280" y="18900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Rectangle 5"/>
          <p:cNvSpPr/>
          <p:nvPr/>
        </p:nvSpPr>
        <p:spPr>
          <a:xfrm>
            <a:off x="468360" y="1413000"/>
            <a:ext cx="8136000" cy="1224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ежим дозиров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нутрь после еды по 0,025-0,05 г х 3-4 раза/сут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с 10-20 дне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Rectangle 6"/>
          <p:cNvSpPr/>
          <p:nvPr/>
        </p:nvSpPr>
        <p:spPr>
          <a:xfrm>
            <a:off x="468360" y="3141720"/>
            <a:ext cx="8136000" cy="2951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линоз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нная лихорад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трая и хроническая крапивниц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ек Квинк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лергорини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рматозы (экземы, нейродермит, кожный зуд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лергия на лекарства, пищевые продукты и др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179280" y="2781360"/>
            <a:ext cx="3168720" cy="8636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оказ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6BC7-FDDA-44B6-B5C2-EDFDF588A4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/д: сухость во рту, диспеп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использоваться у водителей, однако предварительно проверить, нет ли индиивидуальной повышенной чувств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осторожностью при тяжёлых ССС, патологии ЖКТ (ЯБЖ) (раздражающее действиее). Не рекомендуется в первый триместр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вязи с отсутствием выраженного седативного действия допускается к применению водителям, которым противопоказаны А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 (фенкарол можно отнести к препарата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). Однако перед назначением проверить, нет ли повышенной чувствительности (седация, снотворное действ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4"/>
          <p:cNvSpPr/>
          <p:nvPr/>
        </p:nvSpPr>
        <p:spPr>
          <a:xfrm>
            <a:off x="1619280" y="18900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3044-681A-4961-B41B-D4436AD969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В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аже по 0,05 и 0,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труктуре близок к димеб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е от димебона (а также димедрола, дипразина, супрастина) не оказывает седативного, снотворного эфф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начается внутрь после еды по 50-200мг 1-2 раза в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шие дозы: разовая 0,3 г, суточная - 0,6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/п: язвенная болезнь и воспалительные заболевания ЖКТ (раздражает СОЖ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900000" y="189000"/>
            <a:ext cx="7417080" cy="1268280"/>
          </a:xfrm>
          <a:prstGeom prst="rect">
            <a:avLst/>
          </a:prstGeom>
          <a:solidFill>
            <a:srgbClr val="cc99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ебгидроли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(диазолин)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877B-467B-452B-97F6-CD9CD3D128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В: 0,025 таб; 2%-1мл (ам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ное этилендиамина, сходство с дипрази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ферическая антихолинэргическая а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дативный эффе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начается внутрь во время еды по 25 мг 2-3 раза в день; суточная доза может бы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а до 6 таблет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яжёлых и острых случаях вводится в/венно или в/мышечно: по 1-2мл 2% рас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/д: сонливость, общая слабость, диспеп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/п: глаукома, ДГПЖ, ЯБЖ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900000" y="189000"/>
            <a:ext cx="7417080" cy="1268280"/>
          </a:xfrm>
          <a:prstGeom prst="rect">
            <a:avLst/>
          </a:prstGeom>
          <a:solidFill>
            <a:srgbClr val="cc99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Хлоропирами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(«Супрастин»)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A513-5C5C-4BF6-8543-27FBD1F692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1403280" y="1125360"/>
            <a:ext cx="6193080" cy="4175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НТИГИСТАМИННЫ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СТВ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ГЕНЕРАЦ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AE99-232E-48D1-B162-2B315F16CC6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обенности антигистаминных средств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ий аффинитет к Н1-рецептора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ыстрое начало 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статочная продолжительность эффекта (до 24 часов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ются 1 раз в сутки на протяжении длительного времени без снижения терапевтического эфф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сочетанного экранирования других типов рецептор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зкая проходимость через ГЭБ (т.к. низкая липофиль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A8A4-D05D-4079-9B1C-35DA5EF9A8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нические аллергические заболева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логодичный аллергорини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ническая рецидивирующая крапивниц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новное качество препаратов второй генерации - высокий аффинитет к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-рецептор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Oval 4"/>
          <p:cNvSpPr/>
          <p:nvPr/>
        </p:nvSpPr>
        <p:spPr>
          <a:xfrm>
            <a:off x="395280" y="333360"/>
            <a:ext cx="4753080" cy="115092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ее широ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естр показ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AutoShape 5"/>
          <p:cNvSpPr/>
          <p:nvPr/>
        </p:nvSpPr>
        <p:spPr>
          <a:xfrm rot="19588800">
            <a:off x="5508360" y="404280"/>
            <a:ext cx="431640" cy="1440000"/>
          </a:xfrm>
          <a:custGeom>
            <a:avLst/>
            <a:gdLst>
              <a:gd name="textAreaLeft" fmla="*/ 57600 w 431640"/>
              <a:gd name="textAreaRight" fmla="*/ 374040 w 43164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78A5-8D2A-4CE5-A604-05293BB3BD2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9540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Противопоказания к назначению препаратов </a:t>
            </a: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кетоконазола, итраконазола, миконазо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эритромицина, джозамицина (макроли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хини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лекарственных средств, удлиняющих интервал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 включая антиаритм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ные с нарушениями сердечного рит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мпенсированные заболевания ССС, нейроэндокринной, печени, поч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ные с врожденным удлинением интервал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T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ЭК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ременность и период лак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(РЕАКЦИИ ГИПЕРЧУВСТВИТЕЛЬНОС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3300"/>
                </a:solidFill>
                <a:uFillTx/>
                <a:latin typeface="Monotype Corsiva"/>
              </a:rPr>
              <a:t>ДЕФИНИЦ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атологически повышенные иммунные реакции на антиген , вызывающие повреждение тканей сенсибилизированного макроорган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Аллергия развивается в результате повторного воздействия на сенсибилизированный организм причинно-значимого аллергена.</a:t>
            </a: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33D3-7E41-4954-9C3B-39FC1EE377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WordArt 4"/>
          <p:cNvSpPr txBox="1"/>
          <p:nvPr/>
        </p:nvSpPr>
        <p:spPr>
          <a:xfrm>
            <a:off x="2627280" y="189000"/>
            <a:ext cx="38894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лерг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Line 5"/>
          <p:cNvSpPr/>
          <p:nvPr/>
        </p:nvSpPr>
        <p:spPr>
          <a:xfrm>
            <a:off x="1763640" y="1341360"/>
            <a:ext cx="5472360" cy="0"/>
          </a:xfrm>
          <a:prstGeom prst="line">
            <a:avLst/>
          </a:prstGeom>
          <a:ln w="63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9B43-B02F-4EE3-85D3-A1790B1B1D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bd71"/>
                </a:solidFill>
                <a:latin typeface="Times New Roman"/>
              </a:rPr>
              <a:t>Характеристика побочных эффектов антигистаминных препаратов </a:t>
            </a:r>
            <a:r>
              <a:rPr b="1" lang="en-US" sz="3600" spc="-1" strike="noStrike">
                <a:solidFill>
                  <a:srgbClr val="dbbd71"/>
                </a:solidFill>
                <a:latin typeface="Times New Roman"/>
              </a:rPr>
              <a:t>II </a:t>
            </a:r>
            <a:r>
              <a:rPr b="1" lang="ru-RU" sz="3600" spc="-1" strike="noStrike">
                <a:solidFill>
                  <a:srgbClr val="dbbd71"/>
                </a:solidFill>
                <a:latin typeface="Times New Roman"/>
              </a:rPr>
              <a:t>поколе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инство препаратов метаболизируются в печени с участием цитохрома Р-450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торые лекарства: макролиды (эритромицин), азольные противогрибковые (кетоконазол, интраконазол, миконазол) могут ингибировать активность этой ферментной сис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этих препаратов с антигистаминными ведёт к замедлению метаболизма последних, повышению концентрации в плазме и по­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шению риска побочных эффектов. Особенно с астемизолом и терфенадином - усиление их кардиотоксического эффекта (удлинен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2227-36FC-4F2D-A12B-F5BCF850D8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ет избегать совместного применен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стемизол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 антиаритмиками (амиодарон, дизопирамид, новокаинамид, хинидин, соталол), ингибиторами МАО (метролиндол), ТАД (амитриптилин), антипсихотиками (пимозид, сердиндол) из-за высокого риска развит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желудочковых аритм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8328-34A1-4E75-9B65-D4E9F1BC0C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964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показания к назначению препаратов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9647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етанное назначение антимикотиков (кетоконазол, итраконазол, миконазол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временное применение макролид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временное использование средств, удлиняющих интервал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включая антиаритмк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циенты с нарушением сердечного рит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, период лакт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Oval 4"/>
          <p:cNvSpPr/>
          <p:nvPr/>
        </p:nvSpPr>
        <p:spPr>
          <a:xfrm>
            <a:off x="0" y="333360"/>
            <a:ext cx="2627280" cy="647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C158-21C9-4EB4-99A0-BB3FF561953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едставители антигистаминных средств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имический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перидинов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fenad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 (Телда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зат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ratad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Кларити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идазол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emizol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Гисмана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пераз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triz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Зите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ипрол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rivast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Семпрекс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сипиперид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bast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Кести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Rectangle 32"/>
          <p:cNvSpPr/>
          <p:nvPr/>
        </p:nvSpPr>
        <p:spPr>
          <a:xfrm>
            <a:off x="395280" y="6308640"/>
            <a:ext cx="8353440" cy="5493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фенад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ъят с рынка: смертельные аритмии при совместном приёме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ими препарат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6955-4D84-4CC5-AE73-A6DCD924D50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Частная фармакологическая характеристи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018F-58C5-4CB5-8D9B-80E70776E0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Лоратадин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(кларитин, лорат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а выпуска: 0,01 табле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уктурно близок к ципрогептадину и кетотифе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влияет на ЦНС (не проникает через ГЭБ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седативного и холиноблокирующего 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чало терапевтического действвия через 30 мин после приё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носительно длительное действие (24 час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ща не влияет на абсорбцию препарата в ж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CFF0-3A26-48DC-9095-6384BB35A2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Лоратадин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(кларитин, лорат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ниверсальное противовоспалительное действие (блокад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рецепторов различных клеток, ингибирует освобождение гистамина тучными клетками, базофилами, синтез и освобожден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хемотаксис эозинофил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тигистаминный эффект клинически проявляется уже после однократного приёма и выражен при коротком курсе (3-4 дн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тивовоспалительное действие при длительном курсе (1-2 недел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развивается толерантность (6 мес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6FF9-067F-494B-A409-B683397C5D2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Лоратадин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(кларитин, лорат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нимается раз в су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е эффекта быстрее, чем при приёме других антигистаминн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вышает аппетит, совместим с другими препарат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тенцирует антидепрессанты, психотропн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переносится и не имеет побочных эффектов (в сравнении с плацеб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тивопоказа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ри лактации и индивидуальной непереносим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D557-346F-4D37-B607-9447D420EC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Астемизо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выпуска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0,01 табле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ая активность и длительность 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риёме внутрь быстро всасывает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к концентрации через 1-4 ч после приё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ведение из организма продолжается до 10-14 дн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лишен седативного и холинолитического действия (через ГЭБ не про­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ает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5686-372D-4AF8-841B-FBD987A680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Астемизо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связывается с мускариновыми и дофаминовыми рецептор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абая антисеротониновая актив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выраженного седативного влия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дко вызывает психомоторные наруш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тенцирует действие этанола и бензодиазепин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повышать массу тела (при регулярном применении улучшает аппетит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7:37:34Z</dcterms:created>
  <dc:creator>Илья</dc:creator>
  <dc:description/>
  <dc:language>en-US</dc:language>
  <cp:lastModifiedBy>Ilya</cp:lastModifiedBy>
  <dcterms:modified xsi:type="dcterms:W3CDTF">2007-12-06T08:09:59Z</dcterms:modified>
  <cp:revision>115</cp:revision>
  <dc:subject/>
  <dc:title>ТЕМА:   «АНТИГИСТАМИННЫЕ  СРЕДСТВА»</dc:title>
</cp:coreProperties>
</file>