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31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F3C-73BA-496C-A723-5F17CF7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108-7CD2-4F62-9109-19887B9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2D7-5B40-4CD2-A47F-281D4820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D91-E0B1-487F-AC8C-5D39DD1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3928-3923-46E3-B9DC-DB68A4A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ACE-EDDE-43EB-A9FA-5D48DD6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346D-1AAE-42C5-8FB4-E000386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600B-587A-4683-B6DA-3F48C401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AB52-E429-4B25-9CD8-1E4F2E5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8528-8680-421C-85C9-B2F9434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06A-DD6D-4F28-A6DF-D21E4F3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F4-8579-444D-83D0-76A40A6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6DF5-3EF8-4D7D-A88E-F6D38C8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1FA-3A98-497B-BC05-76EB1423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A99E-BD0D-48E8-84FC-05ED0F0C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C73-28F2-4F63-AE8D-7208BDB2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EA72-8B92-4EAE-9E34-21F540C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FA16-9B30-408A-A39B-AB67899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28F0-9DBE-4F55-81BA-9238C6CF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AAAF-B9D5-4E6A-94B8-4ADBC3D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717F-4B32-47EF-B285-CE1CA0D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EBAD-7D1A-42EA-9916-0BCC072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54A-9D04-46DC-87DA-6D8B3B1B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3605-55C3-4EE6-BF58-D083CD1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5317-F06C-4312-8ED1-D33B2FA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2687-3655-4D28-A71B-533FA9F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FC93-BF05-4527-9571-A4F8BB3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AEDF-9F0E-4989-B615-281E969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33C4-0855-4193-B9E6-3531965B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DF3A-5C15-4395-A22B-36AA47AA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3949-24FE-49D6-9890-CB018111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275B-E108-4347-B542-CC0F5EB7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411E-161D-4763-A160-A9C88CB9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F68-7F3B-46C3-8E96-C206E63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4520-0353-4568-8AC5-7FD256A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F415-0B2C-4643-9525-75A379A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E2DA-390D-4411-9950-E033EC1C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3B1E-0D13-423F-9455-B19B94E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006F-AB94-4E7C-8CFE-47E242E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E7CD-75B8-4C30-BCC0-C6D9B2B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9368-F3E1-4BCF-B120-2BAFBB5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D1D4-502A-47F0-A95E-B7C9A63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E8FC-ECBF-4DF2-941D-C4F29F5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7E5-290F-4632-9C36-2A28B57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C5C-A91C-4D63-91E3-76E27D42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11C-7082-4DAF-AE6C-1B59C8E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CF1-3BD4-45EE-A4E8-1B4C3BC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BA4-6797-4518-803A-8AF0944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EBB28-82F4-4770-B889-1B71419EE9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8CBACA-6BE0-44B3-95D3-7B8150900F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F0943-180B-4009-BA2D-92A40C6BEA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F45D96-2A1F-408D-8206-AABC2B3E936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4.wmf"/><Relationship Id="rId3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0.wmf"/><Relationship Id="rId2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2.wmf"/><Relationship Id="rId2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0.wmf"/><Relationship Id="rId2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6.wmf"/><Relationship Id="rId2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6.wmf"/><Relationship Id="rId3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1.wmf"/><Relationship Id="rId3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5.wmf"/><Relationship Id="rId3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7.wmf"/><Relationship Id="rId2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9"/>
          <p:cNvSpPr/>
          <p:nvPr/>
        </p:nvSpPr>
        <p:spPr>
          <a:xfrm>
            <a:off x="4881960" y="260280"/>
            <a:ext cx="2730600" cy="455400"/>
          </a:xfrm>
          <a:prstGeom prst="rect">
            <a:avLst/>
          </a:prstGeom>
          <a:solidFill>
            <a:schemeClr val="bg1"/>
          </a:solidFill>
          <a:ln w="381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 группы «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93840" y="333360"/>
            <a:ext cx="3628440" cy="3945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ктическое занятие № 4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158920" y="1197000"/>
            <a:ext cx="4458960" cy="36396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МЕННЫЙ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6156360" y="5373720"/>
            <a:ext cx="2734920" cy="360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-й модуль 2-го сем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1805760" y="2205000"/>
            <a:ext cx="5068440" cy="1186920"/>
          </a:xfrm>
          <a:prstGeom prst="rect">
            <a:avLst/>
          </a:prstGeom>
          <a:solidFill>
            <a:srgbClr val="ffff00"/>
          </a:solidFill>
          <a:ln w="762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№ </a:t>
            </a: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2616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борник вопросов, упражнений и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по курсу общей физики в системе РИТМ. Часть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тр. 179 – 1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971640" y="3789360"/>
            <a:ext cx="6695640" cy="943200"/>
          </a:xfrm>
          <a:prstGeom prst="rect">
            <a:avLst/>
          </a:prstGeom>
          <a:solidFill>
            <a:schemeClr val="bg1"/>
          </a:solidFill>
          <a:ln w="762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 решением задач необходимо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зобрать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теоретические основ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 рассматриваемой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иведены в данной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250920" y="174600"/>
            <a:ext cx="8642160" cy="7290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2. (В.14.24) Конденсатор емкостью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1 мкФ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езистор с сопротивл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к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олное сопротивление цепи, если конденсатор и резистор включены : 1) последовательно; 2) паралл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179280" y="1052640"/>
            <a:ext cx="1007640" cy="118440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1 мк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1403280" y="1052640"/>
            <a:ext cx="49683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Цепь из последоват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56"/>
          <p:cNvGraphicFramePr/>
          <p:nvPr/>
        </p:nvGraphicFramePr>
        <p:xfrm>
          <a:off x="1332000" y="2060640"/>
          <a:ext cx="3526920" cy="528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42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60640"/>
                    <a:ext cx="3526920" cy="5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57"/>
          <p:cNvGraphicFramePr/>
          <p:nvPr/>
        </p:nvGraphicFramePr>
        <p:xfrm>
          <a:off x="250920" y="2637000"/>
          <a:ext cx="4105080" cy="585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44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37000"/>
                    <a:ext cx="4105080" cy="5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58"/>
          <p:cNvGraphicFramePr/>
          <p:nvPr/>
        </p:nvGraphicFramePr>
        <p:xfrm>
          <a:off x="1476360" y="1438200"/>
          <a:ext cx="3382560" cy="5504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46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438200"/>
                    <a:ext cx="3382560" cy="550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7" name="Object 61"/>
          <p:cNvGraphicFramePr/>
          <p:nvPr/>
        </p:nvGraphicFramePr>
        <p:xfrm>
          <a:off x="4859280" y="2924280"/>
          <a:ext cx="2269800" cy="360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48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2924280"/>
                    <a:ext cx="2269800" cy="3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65"/>
          <p:cNvSpPr/>
          <p:nvPr/>
        </p:nvSpPr>
        <p:spPr>
          <a:xfrm>
            <a:off x="250920" y="3390840"/>
            <a:ext cx="1584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1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69"/>
          <p:cNvGraphicFramePr/>
          <p:nvPr/>
        </p:nvGraphicFramePr>
        <p:xfrm>
          <a:off x="5580000" y="1484280"/>
          <a:ext cx="1368000" cy="3204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51" name="Object 6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0000" y="148428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70"/>
          <p:cNvGraphicFramePr/>
          <p:nvPr/>
        </p:nvGraphicFramePr>
        <p:xfrm>
          <a:off x="7786800" y="1052640"/>
          <a:ext cx="1149120" cy="2158560"/>
        </p:xfrm>
        <a:graphic>
          <a:graphicData uri="http://schemas.openxmlformats.org/presentationml/2006/ole">
            <p:oleObj progId="Visio.Drawing.11" r:id="rId11" spid="">
              <p:embed/>
              <p:pic>
                <p:nvPicPr>
                  <p:cNvPr id="453" name="Object 7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86800" y="1052640"/>
                    <a:ext cx="1149120" cy="21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Line 72"/>
          <p:cNvSpPr/>
          <p:nvPr/>
        </p:nvSpPr>
        <p:spPr>
          <a:xfrm flipH="1">
            <a:off x="5148000" y="162864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3"/>
          <p:cNvSpPr/>
          <p:nvPr/>
        </p:nvSpPr>
        <p:spPr>
          <a:xfrm>
            <a:off x="5075280" y="1916280"/>
            <a:ext cx="252072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74"/>
          <p:cNvGraphicFramePr/>
          <p:nvPr/>
        </p:nvGraphicFramePr>
        <p:xfrm>
          <a:off x="2050920" y="3357720"/>
          <a:ext cx="2449080" cy="6062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457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3357720"/>
                    <a:ext cx="2449080" cy="6062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8" name="Object 75"/>
          <p:cNvGraphicFramePr/>
          <p:nvPr/>
        </p:nvGraphicFramePr>
        <p:xfrm>
          <a:off x="4716360" y="3357720"/>
          <a:ext cx="3887280" cy="6440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459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6360" y="3357720"/>
                    <a:ext cx="3887280" cy="6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77"/>
          <p:cNvGraphicFramePr/>
          <p:nvPr/>
        </p:nvGraphicFramePr>
        <p:xfrm>
          <a:off x="6300720" y="4076640"/>
          <a:ext cx="2661840" cy="1301400"/>
        </p:xfrm>
        <a:graphic>
          <a:graphicData uri="http://schemas.openxmlformats.org/presentationml/2006/ole">
            <p:oleObj progId="Visio.Drawing.11" r:id="rId17" spid="">
              <p:embed/>
              <p:pic>
                <p:nvPicPr>
                  <p:cNvPr id="461" name="Object 7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4076640"/>
                    <a:ext cx="2661840" cy="13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78"/>
          <p:cNvSpPr/>
          <p:nvPr/>
        </p:nvSpPr>
        <p:spPr>
          <a:xfrm>
            <a:off x="324000" y="4221000"/>
            <a:ext cx="46796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Цепь из паралл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81"/>
          <p:cNvGraphicFramePr/>
          <p:nvPr/>
        </p:nvGraphicFramePr>
        <p:xfrm>
          <a:off x="4572000" y="4621320"/>
          <a:ext cx="145692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464" name="Object 8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4621320"/>
                    <a:ext cx="14569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82"/>
          <p:cNvGraphicFramePr/>
          <p:nvPr/>
        </p:nvGraphicFramePr>
        <p:xfrm>
          <a:off x="179280" y="4653000"/>
          <a:ext cx="3836520" cy="55836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466" name="Object 8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9280" y="4653000"/>
                    <a:ext cx="383652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7" name="Object 83"/>
          <p:cNvGraphicFramePr/>
          <p:nvPr/>
        </p:nvGraphicFramePr>
        <p:xfrm>
          <a:off x="179280" y="5300640"/>
          <a:ext cx="3455640" cy="53316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468" name="Object 8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9280" y="5300640"/>
                    <a:ext cx="3455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Line 84"/>
          <p:cNvSpPr/>
          <p:nvPr/>
        </p:nvSpPr>
        <p:spPr>
          <a:xfrm flipH="1">
            <a:off x="4140000" y="479736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85"/>
          <p:cNvGraphicFramePr/>
          <p:nvPr/>
        </p:nvGraphicFramePr>
        <p:xfrm>
          <a:off x="179280" y="5950080"/>
          <a:ext cx="4032000" cy="5900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471" name="Object 8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9280" y="5950080"/>
                    <a:ext cx="4032000" cy="5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91"/>
          <p:cNvGraphicFramePr/>
          <p:nvPr/>
        </p:nvGraphicFramePr>
        <p:xfrm>
          <a:off x="4572000" y="5589720"/>
          <a:ext cx="2204640" cy="36792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73" name="Object 9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5589720"/>
                    <a:ext cx="220464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93"/>
          <p:cNvGraphicFramePr/>
          <p:nvPr/>
        </p:nvGraphicFramePr>
        <p:xfrm>
          <a:off x="6946920" y="5445000"/>
          <a:ext cx="1872720" cy="60120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475" name="Object 9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46920" y="5445000"/>
                    <a:ext cx="187272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6" name="Line 94"/>
          <p:cNvSpPr/>
          <p:nvPr/>
        </p:nvSpPr>
        <p:spPr>
          <a:xfrm>
            <a:off x="6732360" y="630864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95"/>
          <p:cNvSpPr/>
          <p:nvPr/>
        </p:nvSpPr>
        <p:spPr>
          <a:xfrm>
            <a:off x="4356000" y="5516280"/>
            <a:ext cx="360" cy="115272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6"/>
          <p:cNvSpPr/>
          <p:nvPr/>
        </p:nvSpPr>
        <p:spPr>
          <a:xfrm>
            <a:off x="4211640" y="5067360"/>
            <a:ext cx="20174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торная  диаграм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97"/>
          <p:cNvGraphicFramePr/>
          <p:nvPr/>
        </p:nvGraphicFramePr>
        <p:xfrm>
          <a:off x="4740120" y="6140520"/>
          <a:ext cx="3647880" cy="601200"/>
        </p:xfrm>
        <a:graphic>
          <a:graphicData uri="http://schemas.openxmlformats.org/presentationml/2006/ole">
            <p:oleObj progId="Equation.3" r:id="rId31" spid="">
              <p:embed/>
              <p:pic>
                <p:nvPicPr>
                  <p:cNvPr id="480" name="Object 9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40120" y="6140520"/>
                    <a:ext cx="364788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Line 98"/>
          <p:cNvSpPr/>
          <p:nvPr/>
        </p:nvSpPr>
        <p:spPr>
          <a:xfrm>
            <a:off x="107640" y="4149720"/>
            <a:ext cx="6048360" cy="36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9"/>
          <p:cNvSpPr/>
          <p:nvPr/>
        </p:nvSpPr>
        <p:spPr>
          <a:xfrm>
            <a:off x="7310880" y="292428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8"/>
          <p:cNvSpPr/>
          <p:nvPr/>
        </p:nvSpPr>
        <p:spPr>
          <a:xfrm>
            <a:off x="250920" y="1249200"/>
            <a:ext cx="1225080" cy="185292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35,4 мк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0 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0,7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7"/>
          <p:cNvSpPr/>
          <p:nvPr/>
        </p:nvSpPr>
        <p:spPr>
          <a:xfrm>
            <a:off x="250920" y="390600"/>
            <a:ext cx="8713440" cy="7581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3. (В.14.25) В цепь переменного тока напряж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дователь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емкости,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35,4 мкФ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00 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= 0,7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ток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падение напряжения на емк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8"/>
          <p:cNvSpPr/>
          <p:nvPr/>
        </p:nvSpPr>
        <p:spPr>
          <a:xfrm>
            <a:off x="1692360" y="1341360"/>
            <a:ext cx="10792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59"/>
          <p:cNvGraphicFramePr/>
          <p:nvPr/>
        </p:nvGraphicFramePr>
        <p:xfrm>
          <a:off x="2916360" y="1341360"/>
          <a:ext cx="201420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87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41360"/>
                    <a:ext cx="20142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8" name="Rectangle 60"/>
          <p:cNvSpPr/>
          <p:nvPr/>
        </p:nvSpPr>
        <p:spPr>
          <a:xfrm>
            <a:off x="6133320" y="191628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61"/>
          <p:cNvGraphicFramePr/>
          <p:nvPr/>
        </p:nvGraphicFramePr>
        <p:xfrm>
          <a:off x="1619280" y="2492280"/>
          <a:ext cx="5184360" cy="587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90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492280"/>
                    <a:ext cx="5184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62"/>
          <p:cNvSpPr/>
          <p:nvPr/>
        </p:nvSpPr>
        <p:spPr>
          <a:xfrm>
            <a:off x="6735240" y="342900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64"/>
          <p:cNvGraphicFramePr/>
          <p:nvPr/>
        </p:nvGraphicFramePr>
        <p:xfrm>
          <a:off x="7246800" y="1341360"/>
          <a:ext cx="1645920" cy="2474640"/>
        </p:xfrm>
        <a:graphic>
          <a:graphicData uri="http://schemas.openxmlformats.org/presentationml/2006/ole">
            <p:oleObj progId="Visio.Drawing.11" r:id="rId5" spid="">
              <p:embed/>
              <p:pic>
                <p:nvPicPr>
                  <p:cNvPr id="493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6800" y="134136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65"/>
          <p:cNvGraphicFramePr/>
          <p:nvPr/>
        </p:nvGraphicFramePr>
        <p:xfrm>
          <a:off x="431640" y="3236760"/>
          <a:ext cx="61560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95" name="Object 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" y="3236760"/>
                    <a:ext cx="6156000" cy="6235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96" name="Object 67"/>
          <p:cNvGraphicFramePr/>
          <p:nvPr/>
        </p:nvGraphicFramePr>
        <p:xfrm>
          <a:off x="2098800" y="1800360"/>
          <a:ext cx="3742920" cy="568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97" name="Object 6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98800" y="1800360"/>
                    <a:ext cx="3742920" cy="568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98" name="Object 78"/>
          <p:cNvGraphicFramePr/>
          <p:nvPr/>
        </p:nvGraphicFramePr>
        <p:xfrm>
          <a:off x="5580000" y="1341360"/>
          <a:ext cx="136800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499" name="Object 7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134136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Line 79"/>
          <p:cNvSpPr/>
          <p:nvPr/>
        </p:nvSpPr>
        <p:spPr>
          <a:xfrm flipH="1">
            <a:off x="5074920" y="153180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0"/>
          <p:cNvSpPr/>
          <p:nvPr/>
        </p:nvSpPr>
        <p:spPr>
          <a:xfrm>
            <a:off x="395280" y="3990960"/>
            <a:ext cx="4463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81"/>
          <p:cNvGraphicFramePr/>
          <p:nvPr/>
        </p:nvGraphicFramePr>
        <p:xfrm>
          <a:off x="5121360" y="4076640"/>
          <a:ext cx="2736360" cy="3600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03" name="Object 8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21360" y="4076640"/>
                    <a:ext cx="2736360" cy="3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Rectangle 82"/>
          <p:cNvSpPr/>
          <p:nvPr/>
        </p:nvSpPr>
        <p:spPr>
          <a:xfrm>
            <a:off x="8076600" y="4076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3"/>
          <p:cNvSpPr/>
          <p:nvPr/>
        </p:nvSpPr>
        <p:spPr>
          <a:xfrm>
            <a:off x="395280" y="5445000"/>
            <a:ext cx="2447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к в цепи и напряжение на элементах цепи согласно (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85"/>
          <p:cNvGraphicFramePr/>
          <p:nvPr/>
        </p:nvGraphicFramePr>
        <p:xfrm>
          <a:off x="2987640" y="5445000"/>
          <a:ext cx="2253960" cy="5536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07" name="Object 8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445000"/>
                    <a:ext cx="225396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87"/>
          <p:cNvGraphicFramePr/>
          <p:nvPr/>
        </p:nvGraphicFramePr>
        <p:xfrm>
          <a:off x="2124000" y="4591080"/>
          <a:ext cx="6768720" cy="70920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09" name="Object 8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4000" y="4591080"/>
                    <a:ext cx="6768720" cy="70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Rectangle 88"/>
          <p:cNvSpPr/>
          <p:nvPr/>
        </p:nvSpPr>
        <p:spPr>
          <a:xfrm>
            <a:off x="395280" y="4653000"/>
            <a:ext cx="1584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89"/>
          <p:cNvGraphicFramePr/>
          <p:nvPr/>
        </p:nvGraphicFramePr>
        <p:xfrm>
          <a:off x="5508720" y="5560920"/>
          <a:ext cx="275544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12" name="Object 8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5560920"/>
                    <a:ext cx="2755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90"/>
          <p:cNvGraphicFramePr/>
          <p:nvPr/>
        </p:nvGraphicFramePr>
        <p:xfrm>
          <a:off x="5219640" y="6165720"/>
          <a:ext cx="3704760" cy="32040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514" name="Object 9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9640" y="6165720"/>
                    <a:ext cx="370476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91"/>
          <p:cNvGraphicFramePr/>
          <p:nvPr/>
        </p:nvGraphicFramePr>
        <p:xfrm>
          <a:off x="1187280" y="6093000"/>
          <a:ext cx="3704760" cy="58716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516" name="Object 9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87280" y="6093000"/>
                    <a:ext cx="37047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1"/>
          <p:cNvSpPr/>
          <p:nvPr/>
        </p:nvSpPr>
        <p:spPr>
          <a:xfrm>
            <a:off x="250920" y="260280"/>
            <a:ext cx="8713440" cy="515880"/>
          </a:xfrm>
          <a:prstGeom prst="rect">
            <a:avLst/>
          </a:prstGeom>
          <a:solidFill>
            <a:schemeClr val="bg1"/>
          </a:solidFill>
          <a:ln w="1905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4. (В.14.26)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м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параллельно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сдвиг фаз между напряжением и током равен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250920" y="1052640"/>
            <a:ext cx="1152000" cy="115524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мГ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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1547640" y="1052640"/>
            <a:ext cx="4608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пишем закон Ома и воспользуемся выражением ЭДС самоиндукци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2"/>
          <p:cNvSpPr/>
          <p:nvPr/>
        </p:nvSpPr>
        <p:spPr>
          <a:xfrm>
            <a:off x="8461800" y="319104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43"/>
          <p:cNvGraphicFramePr/>
          <p:nvPr/>
        </p:nvGraphicFramePr>
        <p:xfrm>
          <a:off x="1979640" y="1766880"/>
          <a:ext cx="1294920" cy="337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22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66880"/>
                    <a:ext cx="1294920" cy="3376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3" name="Rectangle 45"/>
          <p:cNvSpPr/>
          <p:nvPr/>
        </p:nvSpPr>
        <p:spPr>
          <a:xfrm>
            <a:off x="468360" y="5157720"/>
            <a:ext cx="3312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общим током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8"/>
          <p:cNvGraphicFramePr/>
          <p:nvPr/>
        </p:nvGraphicFramePr>
        <p:xfrm>
          <a:off x="4068720" y="5240160"/>
          <a:ext cx="1488600" cy="623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25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5240160"/>
                    <a:ext cx="148860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6" name="Object 53"/>
          <p:cNvGraphicFramePr/>
          <p:nvPr/>
        </p:nvGraphicFramePr>
        <p:xfrm>
          <a:off x="4140360" y="2468520"/>
          <a:ext cx="1603080" cy="3520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527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468520"/>
                    <a:ext cx="160308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5"/>
          <p:cNvGraphicFramePr/>
          <p:nvPr/>
        </p:nvGraphicFramePr>
        <p:xfrm>
          <a:off x="1476360" y="2325600"/>
          <a:ext cx="2158560" cy="577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529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2325600"/>
                    <a:ext cx="2158560" cy="577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0" name="Object 56"/>
          <p:cNvGraphicFramePr/>
          <p:nvPr/>
        </p:nvGraphicFramePr>
        <p:xfrm>
          <a:off x="468360" y="3046320"/>
          <a:ext cx="3366720" cy="5583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31" name="Object 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3046320"/>
                    <a:ext cx="336672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Line 57"/>
          <p:cNvSpPr/>
          <p:nvPr/>
        </p:nvSpPr>
        <p:spPr>
          <a:xfrm flipH="1">
            <a:off x="3420720" y="196668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58"/>
          <p:cNvGraphicFramePr/>
          <p:nvPr/>
        </p:nvGraphicFramePr>
        <p:xfrm>
          <a:off x="4500720" y="3046320"/>
          <a:ext cx="3835080" cy="59796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34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3046320"/>
                    <a:ext cx="3835080" cy="5979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Line 59"/>
          <p:cNvSpPr/>
          <p:nvPr/>
        </p:nvSpPr>
        <p:spPr>
          <a:xfrm>
            <a:off x="4427280" y="4054320"/>
            <a:ext cx="505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60"/>
          <p:cNvGraphicFramePr/>
          <p:nvPr/>
        </p:nvGraphicFramePr>
        <p:xfrm>
          <a:off x="5022720" y="3767040"/>
          <a:ext cx="863280" cy="5583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37" name="Object 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2720" y="3767040"/>
                    <a:ext cx="86328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61"/>
          <p:cNvGraphicFramePr/>
          <p:nvPr/>
        </p:nvGraphicFramePr>
        <p:xfrm>
          <a:off x="6084720" y="3767040"/>
          <a:ext cx="880560" cy="5569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39" name="Object 6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3767040"/>
                    <a:ext cx="8805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5"/>
          <p:cNvGraphicFramePr/>
          <p:nvPr/>
        </p:nvGraphicFramePr>
        <p:xfrm>
          <a:off x="3848040" y="1679400"/>
          <a:ext cx="2236320" cy="5821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41" name="Object 6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8040" y="1679400"/>
                    <a:ext cx="2236320" cy="5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Line 66"/>
          <p:cNvSpPr/>
          <p:nvPr/>
        </p:nvSpPr>
        <p:spPr>
          <a:xfrm flipH="1">
            <a:off x="3708360" y="26110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68"/>
          <p:cNvGraphicFramePr/>
          <p:nvPr/>
        </p:nvGraphicFramePr>
        <p:xfrm>
          <a:off x="476280" y="3767040"/>
          <a:ext cx="3817440" cy="59796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44" name="Object 6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80" y="3767040"/>
                    <a:ext cx="381744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69"/>
          <p:cNvSpPr/>
          <p:nvPr/>
        </p:nvSpPr>
        <p:spPr>
          <a:xfrm>
            <a:off x="5844240" y="247176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0"/>
          <p:cNvSpPr/>
          <p:nvPr/>
        </p:nvSpPr>
        <p:spPr>
          <a:xfrm>
            <a:off x="3924000" y="3333600"/>
            <a:ext cx="505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71"/>
          <p:cNvGraphicFramePr/>
          <p:nvPr/>
        </p:nvGraphicFramePr>
        <p:xfrm>
          <a:off x="6372360" y="1125360"/>
          <a:ext cx="2536560" cy="1391760"/>
        </p:xfrm>
        <a:graphic>
          <a:graphicData uri="http://schemas.openxmlformats.org/presentationml/2006/ole">
            <p:oleObj progId="Visio.Drawing.11" r:id="rId21" spid="">
              <p:embed/>
              <p:pic>
                <p:nvPicPr>
                  <p:cNvPr id="548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72360" y="1125360"/>
                    <a:ext cx="2536560" cy="13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Line 72"/>
          <p:cNvSpPr/>
          <p:nvPr/>
        </p:nvSpPr>
        <p:spPr>
          <a:xfrm>
            <a:off x="5724360" y="5529240"/>
            <a:ext cx="504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73"/>
          <p:cNvGraphicFramePr/>
          <p:nvPr/>
        </p:nvGraphicFramePr>
        <p:xfrm>
          <a:off x="6307200" y="5405400"/>
          <a:ext cx="2298240" cy="29340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551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7200" y="5405400"/>
                    <a:ext cx="2298240" cy="2934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74"/>
          <p:cNvGraphicFramePr/>
          <p:nvPr/>
        </p:nvGraphicFramePr>
        <p:xfrm>
          <a:off x="3005280" y="6027840"/>
          <a:ext cx="3511080" cy="56952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553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05280" y="6027840"/>
                    <a:ext cx="3511080" cy="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75"/>
          <p:cNvGraphicFramePr/>
          <p:nvPr/>
        </p:nvGraphicFramePr>
        <p:xfrm>
          <a:off x="6227640" y="4508640"/>
          <a:ext cx="2217240" cy="40428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555" name="Object 7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27640" y="4508640"/>
                    <a:ext cx="2217240" cy="4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76"/>
          <p:cNvSpPr/>
          <p:nvPr/>
        </p:nvSpPr>
        <p:spPr>
          <a:xfrm>
            <a:off x="395280" y="4495680"/>
            <a:ext cx="554472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согласно векторной диаграмм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о гипотенуза прямоугольного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4"/>
          <p:cNvSpPr/>
          <p:nvPr/>
        </p:nvSpPr>
        <p:spPr>
          <a:xfrm>
            <a:off x="324000" y="189000"/>
            <a:ext cx="8496000" cy="729000"/>
          </a:xfrm>
          <a:prstGeom prst="rect">
            <a:avLst/>
          </a:prstGeom>
          <a:solidFill>
            <a:schemeClr val="bg1"/>
          </a:solidFill>
          <a:ln w="1905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В.14.27) Активное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соединены параллельно и включены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27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известно, что цепь поглощает мощность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404 В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двиг фаз между напряжением и током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7"/>
          <p:cNvSpPr/>
          <p:nvPr/>
        </p:nvSpPr>
        <p:spPr>
          <a:xfrm>
            <a:off x="5869440" y="146052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0"/>
          <p:cNvSpPr/>
          <p:nvPr/>
        </p:nvSpPr>
        <p:spPr>
          <a:xfrm>
            <a:off x="1476360" y="1244520"/>
            <a:ext cx="15886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глощаемая цепью мощ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1"/>
          <p:cNvSpPr/>
          <p:nvPr/>
        </p:nvSpPr>
        <p:spPr>
          <a:xfrm>
            <a:off x="324000" y="1243080"/>
            <a:ext cx="1007640" cy="136836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7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404 В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92"/>
          <p:cNvGraphicFramePr/>
          <p:nvPr/>
        </p:nvGraphicFramePr>
        <p:xfrm>
          <a:off x="6372360" y="1244520"/>
          <a:ext cx="2536560" cy="139176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562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244520"/>
                    <a:ext cx="2536560" cy="13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93"/>
          <p:cNvGraphicFramePr/>
          <p:nvPr/>
        </p:nvGraphicFramePr>
        <p:xfrm>
          <a:off x="3159000" y="1244520"/>
          <a:ext cx="2464920" cy="5662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64" name="Object 9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9000" y="1244520"/>
                    <a:ext cx="2464920" cy="5662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Rectangle 94"/>
          <p:cNvSpPr/>
          <p:nvPr/>
        </p:nvSpPr>
        <p:spPr>
          <a:xfrm>
            <a:off x="1478520" y="2090880"/>
            <a:ext cx="1595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1) найдем т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95"/>
          <p:cNvGraphicFramePr/>
          <p:nvPr/>
        </p:nvGraphicFramePr>
        <p:xfrm>
          <a:off x="3294000" y="1928880"/>
          <a:ext cx="2122200" cy="6663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567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4000" y="1928880"/>
                    <a:ext cx="2122200" cy="666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8" name="Rectangle 96"/>
          <p:cNvSpPr/>
          <p:nvPr/>
        </p:nvSpPr>
        <p:spPr>
          <a:xfrm>
            <a:off x="5797800" y="2035080"/>
            <a:ext cx="389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7"/>
          <p:cNvSpPr/>
          <p:nvPr/>
        </p:nvSpPr>
        <p:spPr>
          <a:xfrm>
            <a:off x="322200" y="2781360"/>
            <a:ext cx="43938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решения предыдущей задачи для такой же цепи (1) следуют два уравнения, из которых найд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Object 98"/>
          <p:cNvGraphicFramePr/>
          <p:nvPr/>
        </p:nvGraphicFramePr>
        <p:xfrm>
          <a:off x="5170320" y="2805120"/>
          <a:ext cx="14886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571" name="Object 9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70320" y="2805120"/>
                    <a:ext cx="14886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99"/>
          <p:cNvGraphicFramePr/>
          <p:nvPr/>
        </p:nvGraphicFramePr>
        <p:xfrm>
          <a:off x="5234040" y="3500280"/>
          <a:ext cx="2217240" cy="4042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73" name="Object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4040" y="3500280"/>
                    <a:ext cx="2217240" cy="4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0"/>
          <p:cNvSpPr/>
          <p:nvPr/>
        </p:nvSpPr>
        <p:spPr>
          <a:xfrm>
            <a:off x="322200" y="3429000"/>
            <a:ext cx="453672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по векторной диаграмме – это гипотенуза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01"/>
          <p:cNvSpPr/>
          <p:nvPr/>
        </p:nvSpPr>
        <p:spPr>
          <a:xfrm>
            <a:off x="4932360" y="2781360"/>
            <a:ext cx="215640" cy="1152000"/>
          </a:xfrm>
          <a:prstGeom prst="leftBrace">
            <a:avLst>
              <a:gd name="adj1" fmla="val 44485"/>
              <a:gd name="adj2" fmla="val 50000"/>
            </a:avLst>
          </a:prstGeom>
          <a:noFill/>
          <a:ln w="1905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2"/>
          <p:cNvSpPr/>
          <p:nvPr/>
        </p:nvSpPr>
        <p:spPr>
          <a:xfrm>
            <a:off x="6734160" y="30682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103"/>
          <p:cNvGraphicFramePr/>
          <p:nvPr/>
        </p:nvGraphicFramePr>
        <p:xfrm>
          <a:off x="7164360" y="2946240"/>
          <a:ext cx="1158480" cy="293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78" name="Object 10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2946240"/>
                    <a:ext cx="1158480" cy="29340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9" name="Rectangle 104"/>
          <p:cNvSpPr/>
          <p:nvPr/>
        </p:nvSpPr>
        <p:spPr>
          <a:xfrm>
            <a:off x="8462160" y="297972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5"/>
          <p:cNvSpPr/>
          <p:nvPr/>
        </p:nvSpPr>
        <p:spPr>
          <a:xfrm>
            <a:off x="7598880" y="3573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6"/>
          <p:cNvSpPr/>
          <p:nvPr/>
        </p:nvSpPr>
        <p:spPr>
          <a:xfrm>
            <a:off x="329400" y="4292640"/>
            <a:ext cx="17172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1) и (4) следует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107"/>
          <p:cNvGraphicFramePr/>
          <p:nvPr/>
        </p:nvGraphicFramePr>
        <p:xfrm>
          <a:off x="2136600" y="4149720"/>
          <a:ext cx="2606400" cy="70308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83" name="Object 10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6600" y="4149720"/>
                    <a:ext cx="26064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Line 108"/>
          <p:cNvSpPr/>
          <p:nvPr/>
        </p:nvSpPr>
        <p:spPr>
          <a:xfrm>
            <a:off x="4835520" y="45082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109"/>
          <p:cNvGraphicFramePr/>
          <p:nvPr/>
        </p:nvGraphicFramePr>
        <p:xfrm>
          <a:off x="5330880" y="4149720"/>
          <a:ext cx="2201400" cy="7030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86" name="Object 10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0880" y="4149720"/>
                    <a:ext cx="2201400" cy="70308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7" name="Rectangle 110"/>
          <p:cNvSpPr/>
          <p:nvPr/>
        </p:nvSpPr>
        <p:spPr>
          <a:xfrm>
            <a:off x="7644600" y="436572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1"/>
          <p:cNvSpPr/>
          <p:nvPr/>
        </p:nvSpPr>
        <p:spPr>
          <a:xfrm>
            <a:off x="324000" y="5210280"/>
            <a:ext cx="31762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 подстановки (5) в (3) получае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12"/>
          <p:cNvGraphicFramePr/>
          <p:nvPr/>
        </p:nvGraphicFramePr>
        <p:xfrm>
          <a:off x="3732120" y="5084640"/>
          <a:ext cx="2352240" cy="6062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90" name="Object 1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2120" y="5084640"/>
                    <a:ext cx="23522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13"/>
          <p:cNvSpPr/>
          <p:nvPr/>
        </p:nvSpPr>
        <p:spPr>
          <a:xfrm>
            <a:off x="419040" y="5950080"/>
            <a:ext cx="13392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3) следует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Object 114"/>
          <p:cNvGraphicFramePr/>
          <p:nvPr/>
        </p:nvGraphicFramePr>
        <p:xfrm>
          <a:off x="2238480" y="5778360"/>
          <a:ext cx="470988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93" name="Object 1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8480" y="5778360"/>
                    <a:ext cx="470988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2"/>
          <p:cNvSpPr/>
          <p:nvPr/>
        </p:nvSpPr>
        <p:spPr>
          <a:xfrm>
            <a:off x="250920" y="260280"/>
            <a:ext cx="8569080" cy="78732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6. (В.14.28)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20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адение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сопротивлении, если известно, что падение напряжения на конденса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а на напряжение индуктивности равно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3"/>
          <p:cNvSpPr/>
          <p:nvPr/>
        </p:nvSpPr>
        <p:spPr>
          <a:xfrm>
            <a:off x="250920" y="1125360"/>
            <a:ext cx="936360" cy="124272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20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258920" y="1182600"/>
            <a:ext cx="6490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Object 87"/>
          <p:cNvGraphicFramePr/>
          <p:nvPr/>
        </p:nvGraphicFramePr>
        <p:xfrm>
          <a:off x="2050920" y="1268280"/>
          <a:ext cx="201420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98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20142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9" name="Rectangle 88"/>
          <p:cNvSpPr/>
          <p:nvPr/>
        </p:nvSpPr>
        <p:spPr>
          <a:xfrm>
            <a:off x="8390880" y="1395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Object 89"/>
          <p:cNvGraphicFramePr/>
          <p:nvPr/>
        </p:nvGraphicFramePr>
        <p:xfrm>
          <a:off x="1258920" y="2205000"/>
          <a:ext cx="531000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601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531000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90"/>
          <p:cNvSpPr/>
          <p:nvPr/>
        </p:nvSpPr>
        <p:spPr>
          <a:xfrm>
            <a:off x="6590520" y="371628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Object 92"/>
          <p:cNvGraphicFramePr/>
          <p:nvPr/>
        </p:nvGraphicFramePr>
        <p:xfrm>
          <a:off x="7246800" y="1989000"/>
          <a:ext cx="1645920" cy="2474640"/>
        </p:xfrm>
        <a:graphic>
          <a:graphicData uri="http://schemas.openxmlformats.org/presentationml/2006/ole">
            <p:oleObj progId="Visio.Drawing.11" r:id="rId5" spid="">
              <p:embed/>
              <p:pic>
                <p:nvPicPr>
                  <p:cNvPr id="604" name="Object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6800" y="198900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93"/>
          <p:cNvGraphicFramePr/>
          <p:nvPr/>
        </p:nvGraphicFramePr>
        <p:xfrm>
          <a:off x="503280" y="2876400"/>
          <a:ext cx="61560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606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2876400"/>
                    <a:ext cx="61560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95"/>
          <p:cNvGraphicFramePr/>
          <p:nvPr/>
        </p:nvGraphicFramePr>
        <p:xfrm>
          <a:off x="4211640" y="1197000"/>
          <a:ext cx="4068360" cy="6170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608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1197000"/>
                    <a:ext cx="4068360" cy="6170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9" name="Object 106"/>
          <p:cNvGraphicFramePr/>
          <p:nvPr/>
        </p:nvGraphicFramePr>
        <p:xfrm>
          <a:off x="2556000" y="1812960"/>
          <a:ext cx="136800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610" name="Object 10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6000" y="181296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108"/>
          <p:cNvSpPr/>
          <p:nvPr/>
        </p:nvSpPr>
        <p:spPr>
          <a:xfrm>
            <a:off x="1258920" y="1832040"/>
            <a:ext cx="11520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ви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Object 113"/>
          <p:cNvGraphicFramePr/>
          <p:nvPr/>
        </p:nvGraphicFramePr>
        <p:xfrm>
          <a:off x="498600" y="3597120"/>
          <a:ext cx="5806800" cy="6235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613" name="Object 1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8600" y="3597120"/>
                    <a:ext cx="58068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Rectangle 121"/>
          <p:cNvSpPr/>
          <p:nvPr/>
        </p:nvSpPr>
        <p:spPr>
          <a:xfrm>
            <a:off x="684360" y="4365720"/>
            <a:ext cx="547164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123"/>
          <p:cNvGraphicFramePr/>
          <p:nvPr/>
        </p:nvGraphicFramePr>
        <p:xfrm>
          <a:off x="395280" y="5013360"/>
          <a:ext cx="5327280" cy="3884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616" name="Object 1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5013360"/>
                    <a:ext cx="5327280" cy="38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Line 125"/>
          <p:cNvSpPr/>
          <p:nvPr/>
        </p:nvSpPr>
        <p:spPr>
          <a:xfrm>
            <a:off x="5794200" y="5229000"/>
            <a:ext cx="3589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126"/>
          <p:cNvGraphicFramePr/>
          <p:nvPr/>
        </p:nvGraphicFramePr>
        <p:xfrm>
          <a:off x="6226200" y="5013360"/>
          <a:ext cx="1152000" cy="39960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619" name="Object 1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6200" y="5013360"/>
                    <a:ext cx="11520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27"/>
          <p:cNvGraphicFramePr/>
          <p:nvPr/>
        </p:nvGraphicFramePr>
        <p:xfrm>
          <a:off x="2987640" y="5589720"/>
          <a:ext cx="2271240" cy="5886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621" name="Object 1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87640" y="5589720"/>
                    <a:ext cx="2271240" cy="58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29"/>
          <p:cNvGraphicFramePr/>
          <p:nvPr/>
        </p:nvGraphicFramePr>
        <p:xfrm>
          <a:off x="1403280" y="5661000"/>
          <a:ext cx="1026720" cy="3790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623" name="Object 1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03280" y="5661000"/>
                    <a:ext cx="1026720" cy="379080"/>
                  </a:xfrm>
                  <a:prstGeom prst="rect">
                    <a:avLst/>
                  </a:prstGeom>
                  <a:ln w="2844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4" name="Line 130"/>
          <p:cNvSpPr/>
          <p:nvPr/>
        </p:nvSpPr>
        <p:spPr>
          <a:xfrm>
            <a:off x="2555640" y="5876640"/>
            <a:ext cx="3589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642760" y="225360"/>
            <a:ext cx="3334320" cy="363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ТИЧЕСКИЕ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5280" y="771480"/>
            <a:ext cx="8353080" cy="1794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оложения теори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Установившиеся вынужденные электромагнитные колебания можно рассматривать как переменный ток, протекающий в цепи, содержащей резис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катушку индуктивност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менный ток можно считать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квазистационарны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.е. мгновенные значения тока можно считать во всех точках цепи одинаковыми, т.к. его изменения являются медленными в сравнении со скоростью распространения ЭМ волны (скоростью света) вдоль этой электрической це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Для мгновенных значений квазистационарных токов выполняется закон Ома и следующие из него правила Кирхгоф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70080" y="2692440"/>
            <a:ext cx="6472080" cy="302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мотрим процессы в простейших электрических цепях с переменным токо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324000" y="4076640"/>
          <a:ext cx="3168360" cy="618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6640"/>
                    <a:ext cx="3168360" cy="6188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6" name="Rectangle 9"/>
          <p:cNvSpPr/>
          <p:nvPr/>
        </p:nvSpPr>
        <p:spPr>
          <a:xfrm>
            <a:off x="324000" y="3416400"/>
            <a:ext cx="7200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резис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рамка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словия квазистационар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ток через резистор определяется законом Ома (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 внешний источник переменной ЭДС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4186080" y="4221000"/>
          <a:ext cx="1747440" cy="3837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6080" y="4221000"/>
                    <a:ext cx="1747440" cy="38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5"/>
          <p:cNvSpPr/>
          <p:nvPr/>
        </p:nvSpPr>
        <p:spPr>
          <a:xfrm>
            <a:off x="6732720" y="4135320"/>
            <a:ext cx="10792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6"/>
          <p:cNvGraphicFramePr/>
          <p:nvPr/>
        </p:nvGraphicFramePr>
        <p:xfrm>
          <a:off x="7943760" y="4005360"/>
          <a:ext cx="875880" cy="615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43760" y="4005360"/>
                    <a:ext cx="875880" cy="6156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324000" y="4933800"/>
            <a:ext cx="6552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глядно представить соотношение между переменным током и напряжением в цепи можно векторной диаграммой, построенной для амплитудных значений гармонических функци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3637800" y="4292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95280" y="3213000"/>
            <a:ext cx="705636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24000" y="5805360"/>
            <a:ext cx="6624360" cy="5742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: сдвиг фаз между амплитудо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екущего через резистор, и падением напряжения на резис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ен ну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014520" y="4292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7"/>
          <p:cNvGraphicFramePr/>
          <p:nvPr/>
        </p:nvGraphicFramePr>
        <p:xfrm>
          <a:off x="7308720" y="4789440"/>
          <a:ext cx="1503000" cy="180792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188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4789440"/>
                    <a:ext cx="150300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468360" y="595440"/>
            <a:ext cx="8135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атушку индуктив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цепи течет переменный, приводящий к возникновению ЭДС самоиндукции в катушке. Закон Ом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68000" y="452160"/>
            <a:ext cx="820908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468360" y="1316160"/>
          <a:ext cx="159336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16160"/>
                    <a:ext cx="159336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7670160" y="13874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195280" y="153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2627280" y="1171440"/>
          <a:ext cx="194436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171440"/>
                    <a:ext cx="194436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13"/>
          <p:cNvSpPr/>
          <p:nvPr/>
        </p:nvSpPr>
        <p:spPr>
          <a:xfrm>
            <a:off x="4716360" y="153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4"/>
          <p:cNvGraphicFramePr/>
          <p:nvPr/>
        </p:nvGraphicFramePr>
        <p:xfrm>
          <a:off x="5148360" y="1204920"/>
          <a:ext cx="2087280" cy="5853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9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204920"/>
                    <a:ext cx="2087280" cy="5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468360" y="1892160"/>
            <a:ext cx="6048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делим из (3) дифференциал ток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проинтегрируем по времен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оянная интегрирования равна нулю, т.к. отсутствует постоянный 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6"/>
          <p:cNvGraphicFramePr/>
          <p:nvPr/>
        </p:nvGraphicFramePr>
        <p:xfrm>
          <a:off x="6659640" y="1892160"/>
          <a:ext cx="1871280" cy="577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1892160"/>
                    <a:ext cx="1871280" cy="57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17"/>
          <p:cNvSpPr/>
          <p:nvPr/>
        </p:nvSpPr>
        <p:spPr>
          <a:xfrm>
            <a:off x="4643280" y="465264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8"/>
          <p:cNvGraphicFramePr/>
          <p:nvPr/>
        </p:nvGraphicFramePr>
        <p:xfrm>
          <a:off x="828720" y="2679840"/>
          <a:ext cx="4538160" cy="637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8720" y="2679840"/>
                    <a:ext cx="4538160" cy="637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19"/>
          <p:cNvGraphicFramePr/>
          <p:nvPr/>
        </p:nvGraphicFramePr>
        <p:xfrm>
          <a:off x="6156360" y="2679840"/>
          <a:ext cx="899640" cy="632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0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2679840"/>
                    <a:ext cx="899640" cy="6328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Rectangle 20"/>
          <p:cNvSpPr/>
          <p:nvPr/>
        </p:nvSpPr>
        <p:spPr>
          <a:xfrm>
            <a:off x="5511240" y="282420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539640" y="3462480"/>
            <a:ext cx="3455640" cy="758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4) получаем реактивное индуктивное сопротивление катушки (для постоянного тока,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получаем 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2"/>
          <p:cNvGraphicFramePr/>
          <p:nvPr/>
        </p:nvGraphicFramePr>
        <p:xfrm>
          <a:off x="4749840" y="3465360"/>
          <a:ext cx="1550520" cy="7297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1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49840" y="3465360"/>
                    <a:ext cx="1550520" cy="7297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23"/>
          <p:cNvSpPr/>
          <p:nvPr/>
        </p:nvSpPr>
        <p:spPr>
          <a:xfrm>
            <a:off x="6662160" y="36752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6"/>
          <p:cNvGraphicFramePr/>
          <p:nvPr/>
        </p:nvGraphicFramePr>
        <p:xfrm>
          <a:off x="2268360" y="5013360"/>
          <a:ext cx="3225600" cy="38556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1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8360" y="5013360"/>
                    <a:ext cx="3225600" cy="385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Rectangle 27"/>
          <p:cNvSpPr/>
          <p:nvPr/>
        </p:nvSpPr>
        <p:spPr>
          <a:xfrm>
            <a:off x="540360" y="4386240"/>
            <a:ext cx="36604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вим в (3) выражение амплитуды ЭД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получим падение напряжения на катуш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148360" y="4429080"/>
          <a:ext cx="1125000" cy="3679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8360" y="4429080"/>
                    <a:ext cx="1125000" cy="3679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Rectangle 29"/>
          <p:cNvSpPr/>
          <p:nvPr/>
        </p:nvSpPr>
        <p:spPr>
          <a:xfrm>
            <a:off x="5798520" y="5084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6662160" y="4454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682560" y="5589720"/>
            <a:ext cx="777672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 из сравнения (4) и (7) следует, что падение напряжения на индуктивности опережает по фазе ток, текущий через катушку, на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539640" y="6308640"/>
            <a:ext cx="820872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37"/>
          <p:cNvGraphicFramePr/>
          <p:nvPr/>
        </p:nvGraphicFramePr>
        <p:xfrm>
          <a:off x="7380360" y="2781360"/>
          <a:ext cx="1487160" cy="2376000"/>
        </p:xfrm>
        <a:graphic>
          <a:graphicData uri="http://schemas.openxmlformats.org/presentationml/2006/ole">
            <p:oleObj progId="Visio.Drawing.11" r:id="rId19" spid="">
              <p:embed/>
              <p:pic>
                <p:nvPicPr>
                  <p:cNvPr id="223" name="Object 3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80360" y="2781360"/>
                    <a:ext cx="1487160" cy="23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39640" y="595440"/>
            <a:ext cx="8135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онденса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нденсатор непрерывно перезаряжается, в результате в цепи течет переменный ток. Напряжение ЭДС полностью приложено к конденсатору. Пренебрегая сопротивлением проводов,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684360" y="1585800"/>
          <a:ext cx="99648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85800"/>
                    <a:ext cx="99648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7"/>
          <p:cNvSpPr/>
          <p:nvPr/>
        </p:nvSpPr>
        <p:spPr>
          <a:xfrm>
            <a:off x="6158880" y="1628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849320" y="17730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9"/>
          <p:cNvGraphicFramePr/>
          <p:nvPr/>
        </p:nvGraphicFramePr>
        <p:xfrm>
          <a:off x="2340000" y="1484280"/>
          <a:ext cx="139968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84280"/>
                    <a:ext cx="139968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Line 10"/>
          <p:cNvSpPr/>
          <p:nvPr/>
        </p:nvSpPr>
        <p:spPr>
          <a:xfrm>
            <a:off x="3850920" y="180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2"/>
          <p:cNvGraphicFramePr/>
          <p:nvPr/>
        </p:nvGraphicFramePr>
        <p:xfrm>
          <a:off x="4443480" y="1609560"/>
          <a:ext cx="1496520" cy="3488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3480" y="1609560"/>
                    <a:ext cx="1496520" cy="3488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4" name="Rectangle 13"/>
          <p:cNvSpPr/>
          <p:nvPr/>
        </p:nvSpPr>
        <p:spPr>
          <a:xfrm>
            <a:off x="658800" y="2263680"/>
            <a:ext cx="237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ем ток, используя выражение для заряда (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4"/>
          <p:cNvGraphicFramePr/>
          <p:nvPr/>
        </p:nvGraphicFramePr>
        <p:xfrm>
          <a:off x="3178080" y="2205000"/>
          <a:ext cx="3908160" cy="658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3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205000"/>
                    <a:ext cx="3908160" cy="658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Rectangle 15"/>
          <p:cNvSpPr/>
          <p:nvPr/>
        </p:nvSpPr>
        <p:spPr>
          <a:xfrm>
            <a:off x="7212960" y="2349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6"/>
          <p:cNvGraphicFramePr/>
          <p:nvPr/>
        </p:nvGraphicFramePr>
        <p:xfrm>
          <a:off x="684360" y="3706920"/>
          <a:ext cx="2428560" cy="6584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3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706920"/>
                    <a:ext cx="2428560" cy="658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Rectangle 17"/>
          <p:cNvSpPr/>
          <p:nvPr/>
        </p:nvSpPr>
        <p:spPr>
          <a:xfrm>
            <a:off x="3253680" y="386244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612720" y="3068640"/>
            <a:ext cx="5758920" cy="5742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9) находим реактивное емкостное сопротивление конденса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торое для постоянного тока (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очень большое 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</a:rPr>
              <a:t>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</a:rPr>
              <a:t>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850920" y="400500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20"/>
          <p:cNvGraphicFramePr/>
          <p:nvPr/>
        </p:nvGraphicFramePr>
        <p:xfrm>
          <a:off x="4816440" y="3716280"/>
          <a:ext cx="952200" cy="601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4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16440" y="3716280"/>
                    <a:ext cx="95220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5" name="Rectangle 21"/>
          <p:cNvSpPr/>
          <p:nvPr/>
        </p:nvSpPr>
        <p:spPr>
          <a:xfrm>
            <a:off x="691920" y="4508640"/>
            <a:ext cx="5847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новкой (10) в (8) получим падение напряжение на конденсатор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2"/>
          <p:cNvGraphicFramePr/>
          <p:nvPr/>
        </p:nvGraphicFramePr>
        <p:xfrm>
          <a:off x="755640" y="4954680"/>
          <a:ext cx="3382560" cy="6012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47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954680"/>
                    <a:ext cx="3382560" cy="6012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Rectangle 23"/>
          <p:cNvSpPr/>
          <p:nvPr/>
        </p:nvSpPr>
        <p:spPr>
          <a:xfrm>
            <a:off x="5898600" y="386064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4285440" y="507996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611280" y="5805360"/>
            <a:ext cx="784836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 из сравнения (9) и (12) следует, что ток, текущий через конденсатор, опережает по фазе падение напряжения на конденсаторе на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6"/>
          <p:cNvSpPr/>
          <p:nvPr/>
        </p:nvSpPr>
        <p:spPr>
          <a:xfrm>
            <a:off x="468000" y="6524280"/>
            <a:ext cx="820908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9"/>
          <p:cNvGraphicFramePr/>
          <p:nvPr/>
        </p:nvGraphicFramePr>
        <p:xfrm>
          <a:off x="5087880" y="4941720"/>
          <a:ext cx="1282320" cy="60120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53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87880" y="4941720"/>
                    <a:ext cx="128232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4" name="Object 34"/>
          <p:cNvGraphicFramePr/>
          <p:nvPr/>
        </p:nvGraphicFramePr>
        <p:xfrm>
          <a:off x="7093080" y="3070080"/>
          <a:ext cx="1607760" cy="2518920"/>
        </p:xfrm>
        <a:graphic>
          <a:graphicData uri="http://schemas.openxmlformats.org/presentationml/2006/ole">
            <p:oleObj progId="Visio.Drawing.11" r:id="rId17" spid="">
              <p:embed/>
              <p:pic>
                <p:nvPicPr>
                  <p:cNvPr id="255" name="Object 3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93080" y="3070080"/>
                    <a:ext cx="1607760" cy="25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Line 36"/>
          <p:cNvSpPr/>
          <p:nvPr/>
        </p:nvSpPr>
        <p:spPr>
          <a:xfrm>
            <a:off x="395280" y="404640"/>
            <a:ext cx="842472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492360" y="4068720"/>
            <a:ext cx="5400360" cy="2122200"/>
          </a:xfrm>
          <a:prstGeom prst="rect">
            <a:avLst/>
          </a:prstGeom>
          <a:solidFill>
            <a:srgbClr val="ffcc66"/>
          </a:solidFill>
          <a:ln w="76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ПРАВОЧНЫЙ МАТЕРИА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меди: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кг/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ельное сопротивление меди: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0,017 мкОм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гнитная постоянная: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4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н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ая постоянная: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8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ость света в вакууме:             с = 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250920" y="3409920"/>
            <a:ext cx="30967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Закон Ома для переменного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708360" y="3338640"/>
          <a:ext cx="939600" cy="5299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38640"/>
                    <a:ext cx="939600" cy="529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48"/>
          <p:cNvGraphicFramePr/>
          <p:nvPr/>
        </p:nvGraphicFramePr>
        <p:xfrm>
          <a:off x="303120" y="4778280"/>
          <a:ext cx="1371240" cy="415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2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4778280"/>
                    <a:ext cx="1371240" cy="415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Rectangle 49"/>
          <p:cNvSpPr/>
          <p:nvPr/>
        </p:nvSpPr>
        <p:spPr>
          <a:xfrm>
            <a:off x="250920" y="3914640"/>
            <a:ext cx="295236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Связь между эффективными (действующими) и амплитудными значениями тока и напряжени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50"/>
          <p:cNvGraphicFramePr/>
          <p:nvPr/>
        </p:nvGraphicFramePr>
        <p:xfrm>
          <a:off x="212760" y="5715000"/>
          <a:ext cx="3068280" cy="5950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5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60" y="5715000"/>
                    <a:ext cx="3068280" cy="595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Rectangle 51"/>
          <p:cNvSpPr/>
          <p:nvPr/>
        </p:nvSpPr>
        <p:spPr>
          <a:xfrm>
            <a:off x="468360" y="5281560"/>
            <a:ext cx="27363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Мощность переменного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52"/>
          <p:cNvGraphicFramePr/>
          <p:nvPr/>
        </p:nvGraphicFramePr>
        <p:xfrm>
          <a:off x="1743120" y="4778280"/>
          <a:ext cx="1514160" cy="415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8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3120" y="4778280"/>
                    <a:ext cx="1514160" cy="415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Object 53"/>
          <p:cNvGraphicFramePr/>
          <p:nvPr/>
        </p:nvGraphicFramePr>
        <p:xfrm>
          <a:off x="1116000" y="2563920"/>
          <a:ext cx="2131560" cy="7203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70" name="Object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2563920"/>
                    <a:ext cx="2131560" cy="720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1" name="Object 54"/>
          <p:cNvGraphicFramePr/>
          <p:nvPr/>
        </p:nvGraphicFramePr>
        <p:xfrm>
          <a:off x="3995640" y="979560"/>
          <a:ext cx="1012320" cy="6156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72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979560"/>
                    <a:ext cx="1012320" cy="6156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Rectangle 55"/>
          <p:cNvSpPr/>
          <p:nvPr/>
        </p:nvSpPr>
        <p:spPr>
          <a:xfrm>
            <a:off x="5435640" y="907920"/>
            <a:ext cx="316836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активное сопротивление катушки индуктивности переменному то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индуктивность катушки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56"/>
          <p:cNvGraphicFramePr/>
          <p:nvPr/>
        </p:nvGraphicFramePr>
        <p:xfrm>
          <a:off x="6586560" y="1700280"/>
          <a:ext cx="890280" cy="3283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75" name="Object 5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6560" y="1700280"/>
                    <a:ext cx="890280" cy="3283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Rectangle 57"/>
          <p:cNvSpPr/>
          <p:nvPr/>
        </p:nvSpPr>
        <p:spPr>
          <a:xfrm>
            <a:off x="250920" y="1771560"/>
            <a:ext cx="4105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лное сопротивление переменному току последовательной цепи, состоящей из активного сопротивления, электроемкости и индуктив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8"/>
          <p:cNvSpPr/>
          <p:nvPr/>
        </p:nvSpPr>
        <p:spPr>
          <a:xfrm>
            <a:off x="4859280" y="2131920"/>
            <a:ext cx="410508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Угол сдвига фазы между током и напряжением в последовательной цепи, содержащей активное сопротивление, электроемкость и индуктивность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9"/>
          <p:cNvSpPr/>
          <p:nvPr/>
        </p:nvSpPr>
        <p:spPr>
          <a:xfrm>
            <a:off x="250920" y="907920"/>
            <a:ext cx="360000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Реактивное сопротивление конденсатора переменному току 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электроемкость конденсатора;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круговая частота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60"/>
          <p:cNvGraphicFramePr/>
          <p:nvPr/>
        </p:nvGraphicFramePr>
        <p:xfrm>
          <a:off x="6084720" y="2924280"/>
          <a:ext cx="1825200" cy="5569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80" name="Object 6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2924280"/>
                    <a:ext cx="1825200" cy="556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Rectangle 61"/>
          <p:cNvSpPr/>
          <p:nvPr/>
        </p:nvSpPr>
        <p:spPr>
          <a:xfrm>
            <a:off x="2148840" y="369720"/>
            <a:ext cx="4781880" cy="363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формулы для решени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539640" y="189000"/>
            <a:ext cx="8135640" cy="94212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1. (В.14.23)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ти полное сопротивление цеп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азность фаз между напряжением и током при разных способах включения сопротивл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мкост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ссмотреть следующие случаи : 1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2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3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4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5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50920" y="1268280"/>
            <a:ext cx="705780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Цепь переменного тока из последовательно соединенных резистора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4790520" y="22035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2"/>
          <p:cNvGraphicFramePr/>
          <p:nvPr/>
        </p:nvGraphicFramePr>
        <p:xfrm>
          <a:off x="539640" y="2168640"/>
          <a:ext cx="1368000" cy="32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86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68640"/>
                    <a:ext cx="136800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Object 34"/>
          <p:cNvGraphicFramePr/>
          <p:nvPr/>
        </p:nvGraphicFramePr>
        <p:xfrm>
          <a:off x="611280" y="2708280"/>
          <a:ext cx="3384360" cy="5076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8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3384360" cy="50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8"/>
          <p:cNvGraphicFramePr/>
          <p:nvPr/>
        </p:nvGraphicFramePr>
        <p:xfrm>
          <a:off x="250920" y="3284640"/>
          <a:ext cx="3960360" cy="5662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90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284640"/>
                    <a:ext cx="3960360" cy="56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0"/>
          <p:cNvGraphicFramePr/>
          <p:nvPr/>
        </p:nvGraphicFramePr>
        <p:xfrm>
          <a:off x="2124000" y="2060640"/>
          <a:ext cx="2518920" cy="5569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92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060640"/>
                    <a:ext cx="2518920" cy="556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Rectangle 41"/>
          <p:cNvSpPr/>
          <p:nvPr/>
        </p:nvSpPr>
        <p:spPr>
          <a:xfrm>
            <a:off x="324000" y="4782960"/>
            <a:ext cx="381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4498920" y="3716280"/>
            <a:ext cx="2088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треугольника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3"/>
          <p:cNvGraphicFramePr/>
          <p:nvPr/>
        </p:nvGraphicFramePr>
        <p:xfrm>
          <a:off x="6730920" y="4427640"/>
          <a:ext cx="2233080" cy="3553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96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0920" y="4427640"/>
                    <a:ext cx="22330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44"/>
          <p:cNvGraphicFramePr/>
          <p:nvPr/>
        </p:nvGraphicFramePr>
        <p:xfrm>
          <a:off x="4284720" y="4746600"/>
          <a:ext cx="1949040" cy="601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98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4746600"/>
                    <a:ext cx="194904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9" name="Rectangle 45"/>
          <p:cNvSpPr/>
          <p:nvPr/>
        </p:nvSpPr>
        <p:spPr>
          <a:xfrm>
            <a:off x="1118880" y="561168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46"/>
          <p:cNvGraphicFramePr/>
          <p:nvPr/>
        </p:nvGraphicFramePr>
        <p:xfrm>
          <a:off x="971640" y="6043680"/>
          <a:ext cx="1837800" cy="6980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01" name="Object 4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6043680"/>
                    <a:ext cx="183780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Rectangle 47"/>
          <p:cNvSpPr/>
          <p:nvPr/>
        </p:nvSpPr>
        <p:spPr>
          <a:xfrm>
            <a:off x="3276720" y="5635800"/>
            <a:ext cx="25207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8"/>
          <p:cNvGraphicFramePr/>
          <p:nvPr/>
        </p:nvGraphicFramePr>
        <p:xfrm>
          <a:off x="3467160" y="6067440"/>
          <a:ext cx="2258640" cy="6235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04" name="Object 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67160" y="6067440"/>
                    <a:ext cx="225864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5" name="Rectangle 49"/>
          <p:cNvSpPr/>
          <p:nvPr/>
        </p:nvSpPr>
        <p:spPr>
          <a:xfrm>
            <a:off x="6086520" y="5635800"/>
            <a:ext cx="28080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0"/>
          <p:cNvGraphicFramePr/>
          <p:nvPr/>
        </p:nvGraphicFramePr>
        <p:xfrm>
          <a:off x="6734160" y="6067440"/>
          <a:ext cx="1580760" cy="5695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07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4160" y="6067440"/>
                    <a:ext cx="1580760" cy="569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8" name="Object 54"/>
          <p:cNvGraphicFramePr/>
          <p:nvPr/>
        </p:nvGraphicFramePr>
        <p:xfrm>
          <a:off x="5940360" y="2171880"/>
          <a:ext cx="136800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09" name="Object 5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40360" y="217188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56"/>
          <p:cNvGraphicFramePr/>
          <p:nvPr/>
        </p:nvGraphicFramePr>
        <p:xfrm>
          <a:off x="7586640" y="1341360"/>
          <a:ext cx="1377720" cy="2592000"/>
        </p:xfrm>
        <a:graphic>
          <a:graphicData uri="http://schemas.openxmlformats.org/presentationml/2006/ole">
            <p:oleObj progId="Visio.Drawing.11" r:id="rId21" spid="">
              <p:embed/>
              <p:pic>
                <p:nvPicPr>
                  <p:cNvPr id="311" name="Object 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86640" y="1341360"/>
                    <a:ext cx="1377720" cy="25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57"/>
          <p:cNvSpPr/>
          <p:nvPr/>
        </p:nvSpPr>
        <p:spPr>
          <a:xfrm>
            <a:off x="4500720" y="2708280"/>
            <a:ext cx="3024000" cy="9712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8"/>
          <p:cNvSpPr/>
          <p:nvPr/>
        </p:nvSpPr>
        <p:spPr>
          <a:xfrm flipH="1">
            <a:off x="5364000" y="2347560"/>
            <a:ext cx="43164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9"/>
          <p:cNvSpPr/>
          <p:nvPr/>
        </p:nvSpPr>
        <p:spPr>
          <a:xfrm>
            <a:off x="4356000" y="2707920"/>
            <a:ext cx="360" cy="187200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60"/>
          <p:cNvGraphicFramePr/>
          <p:nvPr/>
        </p:nvGraphicFramePr>
        <p:xfrm>
          <a:off x="343080" y="3932280"/>
          <a:ext cx="3776400" cy="56628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316" name="Object 6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3080" y="3932280"/>
                    <a:ext cx="3776400" cy="56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Line 61"/>
          <p:cNvSpPr/>
          <p:nvPr/>
        </p:nvSpPr>
        <p:spPr>
          <a:xfrm flipH="1" flipV="1">
            <a:off x="250560" y="4579920"/>
            <a:ext cx="6193080" cy="144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62"/>
          <p:cNvGraphicFramePr/>
          <p:nvPr/>
        </p:nvGraphicFramePr>
        <p:xfrm>
          <a:off x="7091280" y="4005360"/>
          <a:ext cx="1452240" cy="3488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19" name="Object 6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91280" y="4005360"/>
                    <a:ext cx="1452240" cy="34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63"/>
          <p:cNvSpPr/>
          <p:nvPr/>
        </p:nvSpPr>
        <p:spPr>
          <a:xfrm>
            <a:off x="6443640" y="4581360"/>
            <a:ext cx="360" cy="93492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64"/>
          <p:cNvGraphicFramePr/>
          <p:nvPr/>
        </p:nvGraphicFramePr>
        <p:xfrm>
          <a:off x="7602480" y="4897440"/>
          <a:ext cx="1433160" cy="33156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322" name="Object 6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02480" y="4897440"/>
                    <a:ext cx="14331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5"/>
          <p:cNvGraphicFramePr/>
          <p:nvPr/>
        </p:nvGraphicFramePr>
        <p:xfrm>
          <a:off x="6588000" y="4911840"/>
          <a:ext cx="934560" cy="31716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324" name="Object 6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88000" y="4911840"/>
                    <a:ext cx="93456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Line 66"/>
          <p:cNvSpPr/>
          <p:nvPr/>
        </p:nvSpPr>
        <p:spPr>
          <a:xfrm flipH="1" flipV="1">
            <a:off x="250560" y="5514840"/>
            <a:ext cx="8785440" cy="144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8"/>
          <p:cNvSpPr/>
          <p:nvPr/>
        </p:nvSpPr>
        <p:spPr>
          <a:xfrm>
            <a:off x="322200" y="404640"/>
            <a:ext cx="6913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Цепь переменного тока из паралл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0"/>
          <p:cNvGraphicFramePr/>
          <p:nvPr/>
        </p:nvGraphicFramePr>
        <p:xfrm>
          <a:off x="395280" y="1305000"/>
          <a:ext cx="1188720" cy="32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05000"/>
                    <a:ext cx="118872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9" name="Rectangle 45"/>
          <p:cNvSpPr/>
          <p:nvPr/>
        </p:nvSpPr>
        <p:spPr>
          <a:xfrm>
            <a:off x="1042920" y="4869000"/>
            <a:ext cx="381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47"/>
          <p:cNvGraphicFramePr/>
          <p:nvPr/>
        </p:nvGraphicFramePr>
        <p:xfrm>
          <a:off x="6327720" y="3930480"/>
          <a:ext cx="2204640" cy="3679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31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7720" y="3930480"/>
                    <a:ext cx="220464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48"/>
          <p:cNvGraphicFramePr/>
          <p:nvPr/>
        </p:nvGraphicFramePr>
        <p:xfrm>
          <a:off x="5099040" y="4892760"/>
          <a:ext cx="2425320" cy="6235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33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4892760"/>
                    <a:ext cx="242532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Rectangle 49"/>
          <p:cNvSpPr/>
          <p:nvPr/>
        </p:nvSpPr>
        <p:spPr>
          <a:xfrm>
            <a:off x="399600" y="580536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0"/>
          <p:cNvGraphicFramePr/>
          <p:nvPr/>
        </p:nvGraphicFramePr>
        <p:xfrm>
          <a:off x="2050920" y="5661000"/>
          <a:ext cx="2015640" cy="6649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36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5661000"/>
                    <a:ext cx="2015640" cy="6649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Rectangle 51"/>
          <p:cNvSpPr/>
          <p:nvPr/>
        </p:nvSpPr>
        <p:spPr>
          <a:xfrm>
            <a:off x="4427640" y="5734080"/>
            <a:ext cx="2015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52"/>
          <p:cNvGraphicFramePr/>
          <p:nvPr/>
        </p:nvGraphicFramePr>
        <p:xfrm>
          <a:off x="6588000" y="5675400"/>
          <a:ext cx="2198160" cy="7059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39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675400"/>
                    <a:ext cx="2198160" cy="70596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0" name="Object 55"/>
          <p:cNvGraphicFramePr/>
          <p:nvPr/>
        </p:nvGraphicFramePr>
        <p:xfrm>
          <a:off x="5780160" y="1236600"/>
          <a:ext cx="145692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41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80160" y="1236600"/>
                    <a:ext cx="14569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58"/>
          <p:cNvSpPr/>
          <p:nvPr/>
        </p:nvSpPr>
        <p:spPr>
          <a:xfrm>
            <a:off x="611280" y="4060800"/>
            <a:ext cx="496836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тока в  элементах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0"/>
          <p:cNvGraphicFramePr/>
          <p:nvPr/>
        </p:nvGraphicFramePr>
        <p:xfrm>
          <a:off x="1833480" y="1224000"/>
          <a:ext cx="3025440" cy="5583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44" name="Object 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3480" y="1224000"/>
                    <a:ext cx="302544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61"/>
          <p:cNvGraphicFramePr/>
          <p:nvPr/>
        </p:nvGraphicFramePr>
        <p:xfrm>
          <a:off x="1312920" y="1916280"/>
          <a:ext cx="3619080" cy="55836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46" name="Object 6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12920" y="1916280"/>
                    <a:ext cx="361908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Line 62"/>
          <p:cNvSpPr/>
          <p:nvPr/>
        </p:nvSpPr>
        <p:spPr>
          <a:xfrm flipH="1" flipV="1">
            <a:off x="4932360" y="1484280"/>
            <a:ext cx="431640" cy="727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63"/>
          <p:cNvGraphicFramePr/>
          <p:nvPr/>
        </p:nvGraphicFramePr>
        <p:xfrm>
          <a:off x="1042920" y="2600280"/>
          <a:ext cx="4177800" cy="61236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49" name="Object 6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2600280"/>
                    <a:ext cx="4177800" cy="61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65"/>
          <p:cNvGraphicFramePr/>
          <p:nvPr/>
        </p:nvGraphicFramePr>
        <p:xfrm>
          <a:off x="5778360" y="2637000"/>
          <a:ext cx="863280" cy="55836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51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78360" y="2637000"/>
                    <a:ext cx="86328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66"/>
          <p:cNvGraphicFramePr/>
          <p:nvPr/>
        </p:nvGraphicFramePr>
        <p:xfrm>
          <a:off x="5778360" y="3355920"/>
          <a:ext cx="1098360" cy="323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353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78360" y="3355920"/>
                    <a:ext cx="109836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4" name="AutoShape 67"/>
          <p:cNvSpPr/>
          <p:nvPr/>
        </p:nvSpPr>
        <p:spPr>
          <a:xfrm>
            <a:off x="5435640" y="263700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68"/>
          <p:cNvGraphicFramePr/>
          <p:nvPr/>
        </p:nvGraphicFramePr>
        <p:xfrm>
          <a:off x="7451640" y="404640"/>
          <a:ext cx="1526760" cy="2879280"/>
        </p:xfrm>
        <a:graphic>
          <a:graphicData uri="http://schemas.openxmlformats.org/presentationml/2006/ole">
            <p:oleObj progId="Visio.Drawing.11" r:id="rId23" spid="">
              <p:embed/>
              <p:pic>
                <p:nvPicPr>
                  <p:cNvPr id="356" name="Object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51640" y="404640"/>
                    <a:ext cx="1526760" cy="28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9"/>
          <p:cNvGraphicFramePr/>
          <p:nvPr/>
        </p:nvGraphicFramePr>
        <p:xfrm>
          <a:off x="5796000" y="1646280"/>
          <a:ext cx="1136160" cy="28548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58" name="Object 6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96000" y="1646280"/>
                    <a:ext cx="11361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70"/>
          <p:cNvSpPr/>
          <p:nvPr/>
        </p:nvSpPr>
        <p:spPr>
          <a:xfrm>
            <a:off x="5508720" y="1197000"/>
            <a:ext cx="142560" cy="720360"/>
          </a:xfrm>
          <a:prstGeom prst="leftBrace">
            <a:avLst>
              <a:gd name="adj1" fmla="val 42037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71"/>
          <p:cNvGraphicFramePr/>
          <p:nvPr/>
        </p:nvGraphicFramePr>
        <p:xfrm>
          <a:off x="6327720" y="4362480"/>
          <a:ext cx="1267920" cy="35064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361" name="Object 7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27720" y="4362480"/>
                    <a:ext cx="1267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AutoShape 72"/>
          <p:cNvSpPr/>
          <p:nvPr/>
        </p:nvSpPr>
        <p:spPr>
          <a:xfrm>
            <a:off x="6083280" y="3859200"/>
            <a:ext cx="144000" cy="863280"/>
          </a:xfrm>
          <a:prstGeom prst="leftBrace">
            <a:avLst>
              <a:gd name="adj1" fmla="val 49817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73"/>
          <p:cNvGraphicFramePr/>
          <p:nvPr/>
        </p:nvGraphicFramePr>
        <p:xfrm>
          <a:off x="1168560" y="3321000"/>
          <a:ext cx="3925440" cy="61236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364" name="Object 7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68560" y="3321000"/>
                    <a:ext cx="3925440" cy="612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1"/>
          <p:cNvSpPr/>
          <p:nvPr/>
        </p:nvSpPr>
        <p:spPr>
          <a:xfrm>
            <a:off x="611280" y="466560"/>
            <a:ext cx="6337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напряжения на каждом из элементов цепи. Закон Ома имеет ви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70"/>
          <p:cNvGraphicFramePr/>
          <p:nvPr/>
        </p:nvGraphicFramePr>
        <p:xfrm>
          <a:off x="7442280" y="476280"/>
          <a:ext cx="1450440" cy="252072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367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2280" y="476280"/>
                    <a:ext cx="145044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71"/>
          <p:cNvGraphicFramePr/>
          <p:nvPr/>
        </p:nvGraphicFramePr>
        <p:xfrm>
          <a:off x="824040" y="1411200"/>
          <a:ext cx="1515600" cy="3585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69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1411200"/>
                    <a:ext cx="15156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0" name="Object 73"/>
          <p:cNvGraphicFramePr/>
          <p:nvPr/>
        </p:nvGraphicFramePr>
        <p:xfrm>
          <a:off x="2595600" y="1297080"/>
          <a:ext cx="1544400" cy="5900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71" name="Object 7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5600" y="1297080"/>
                    <a:ext cx="1544400" cy="5900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2" name="Object 74"/>
          <p:cNvGraphicFramePr/>
          <p:nvPr/>
        </p:nvGraphicFramePr>
        <p:xfrm>
          <a:off x="755640" y="2060640"/>
          <a:ext cx="3909600" cy="3488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73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060640"/>
                    <a:ext cx="3909600" cy="34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76"/>
          <p:cNvGraphicFramePr/>
          <p:nvPr/>
        </p:nvGraphicFramePr>
        <p:xfrm>
          <a:off x="5254560" y="1268280"/>
          <a:ext cx="1620360" cy="379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75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4560" y="1268280"/>
                    <a:ext cx="16203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77"/>
          <p:cNvGraphicFramePr/>
          <p:nvPr/>
        </p:nvGraphicFramePr>
        <p:xfrm>
          <a:off x="981000" y="2492280"/>
          <a:ext cx="4454280" cy="65196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77" name="Object 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81000" y="2492280"/>
                    <a:ext cx="4454280" cy="6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Line 79"/>
          <p:cNvSpPr/>
          <p:nvPr/>
        </p:nvSpPr>
        <p:spPr>
          <a:xfrm flipH="1" flipV="1">
            <a:off x="4356000" y="1626840"/>
            <a:ext cx="431640" cy="1447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0"/>
          <p:cNvSpPr/>
          <p:nvPr/>
        </p:nvSpPr>
        <p:spPr>
          <a:xfrm>
            <a:off x="395280" y="3990960"/>
            <a:ext cx="842436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гласно векторной диаграмме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сумме векторов амплитуд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82"/>
          <p:cNvGraphicFramePr/>
          <p:nvPr/>
        </p:nvGraphicFramePr>
        <p:xfrm>
          <a:off x="611280" y="4676760"/>
          <a:ext cx="3646080" cy="4093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81" name="Object 8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4676760"/>
                    <a:ext cx="36460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3"/>
          <p:cNvGraphicFramePr/>
          <p:nvPr/>
        </p:nvGraphicFramePr>
        <p:xfrm>
          <a:off x="4881600" y="4653000"/>
          <a:ext cx="1561680" cy="6235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83" name="Object 8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81600" y="4653000"/>
                    <a:ext cx="156168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4" name="Rectangle 84"/>
          <p:cNvSpPr/>
          <p:nvPr/>
        </p:nvSpPr>
        <p:spPr>
          <a:xfrm>
            <a:off x="730440" y="5394240"/>
            <a:ext cx="19641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из (3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5"/>
          <p:cNvGraphicFramePr/>
          <p:nvPr/>
        </p:nvGraphicFramePr>
        <p:xfrm>
          <a:off x="900000" y="5826240"/>
          <a:ext cx="1653840" cy="6980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86" name="Object 8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826240"/>
                    <a:ext cx="165384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86"/>
          <p:cNvSpPr/>
          <p:nvPr/>
        </p:nvSpPr>
        <p:spPr>
          <a:xfrm>
            <a:off x="3010680" y="5411880"/>
            <a:ext cx="25005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87"/>
          <p:cNvGraphicFramePr/>
          <p:nvPr/>
        </p:nvGraphicFramePr>
        <p:xfrm>
          <a:off x="3216240" y="5843520"/>
          <a:ext cx="207612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89" name="Object 8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16240" y="5843520"/>
                    <a:ext cx="207612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0" name="Rectangle 88"/>
          <p:cNvSpPr/>
          <p:nvPr/>
        </p:nvSpPr>
        <p:spPr>
          <a:xfrm>
            <a:off x="5792760" y="5411880"/>
            <a:ext cx="2814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6534000" y="5908680"/>
          <a:ext cx="1212480" cy="3124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34000" y="5908680"/>
                    <a:ext cx="1212480" cy="3124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3" name="Object 95"/>
          <p:cNvGraphicFramePr/>
          <p:nvPr/>
        </p:nvGraphicFramePr>
        <p:xfrm>
          <a:off x="5246640" y="1700280"/>
          <a:ext cx="1196640" cy="6170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394" name="Object 9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46640" y="1700280"/>
                    <a:ext cx="119664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AutoShape 96"/>
          <p:cNvSpPr/>
          <p:nvPr/>
        </p:nvSpPr>
        <p:spPr>
          <a:xfrm>
            <a:off x="4932360" y="126828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7"/>
          <p:cNvGraphicFramePr/>
          <p:nvPr/>
        </p:nvGraphicFramePr>
        <p:xfrm>
          <a:off x="1028880" y="3213000"/>
          <a:ext cx="4338360" cy="65196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97" name="Object 9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28880" y="3213000"/>
                    <a:ext cx="4338360" cy="6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AutoShape 98"/>
          <p:cNvSpPr/>
          <p:nvPr/>
        </p:nvSpPr>
        <p:spPr>
          <a:xfrm>
            <a:off x="5722920" y="263700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99"/>
          <p:cNvGraphicFramePr/>
          <p:nvPr/>
        </p:nvGraphicFramePr>
        <p:xfrm>
          <a:off x="6012000" y="2739960"/>
          <a:ext cx="1079280" cy="36468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00" name="Object 9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12000" y="2739960"/>
                    <a:ext cx="1079280" cy="3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00"/>
          <p:cNvGraphicFramePr/>
          <p:nvPr/>
        </p:nvGraphicFramePr>
        <p:xfrm>
          <a:off x="6012000" y="3208320"/>
          <a:ext cx="1223640" cy="36468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402" name="Object 10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12000" y="3208320"/>
                    <a:ext cx="1223640" cy="3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3"/>
          <p:cNvSpPr/>
          <p:nvPr/>
        </p:nvSpPr>
        <p:spPr>
          <a:xfrm>
            <a:off x="468360" y="260280"/>
            <a:ext cx="8135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атушк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24"/>
          <p:cNvGraphicFramePr/>
          <p:nvPr/>
        </p:nvGraphicFramePr>
        <p:xfrm>
          <a:off x="468360" y="1222200"/>
          <a:ext cx="1942920" cy="3456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0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22200"/>
                    <a:ext cx="1942920" cy="3456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Object 26"/>
          <p:cNvGraphicFramePr/>
          <p:nvPr/>
        </p:nvGraphicFramePr>
        <p:xfrm>
          <a:off x="1187280" y="1820880"/>
          <a:ext cx="5113080" cy="5792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0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820880"/>
                    <a:ext cx="51130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8"/>
          <p:cNvGraphicFramePr/>
          <p:nvPr/>
        </p:nvGraphicFramePr>
        <p:xfrm>
          <a:off x="2027160" y="3992400"/>
          <a:ext cx="1041120" cy="2282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0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7160" y="3992400"/>
                    <a:ext cx="1041120" cy="22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29"/>
          <p:cNvGraphicFramePr/>
          <p:nvPr/>
        </p:nvGraphicFramePr>
        <p:xfrm>
          <a:off x="7102440" y="1700280"/>
          <a:ext cx="1645920" cy="247464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41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2440" y="170028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30"/>
          <p:cNvGraphicFramePr/>
          <p:nvPr/>
        </p:nvGraphicFramePr>
        <p:xfrm>
          <a:off x="755640" y="2484360"/>
          <a:ext cx="5903640" cy="5979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13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2484360"/>
                    <a:ext cx="590364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32"/>
          <p:cNvGraphicFramePr/>
          <p:nvPr/>
        </p:nvGraphicFramePr>
        <p:xfrm>
          <a:off x="2627280" y="1108080"/>
          <a:ext cx="3925440" cy="5950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415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27280" y="1108080"/>
                    <a:ext cx="3925440" cy="595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6" name="Rectangle 33"/>
          <p:cNvSpPr/>
          <p:nvPr/>
        </p:nvSpPr>
        <p:spPr>
          <a:xfrm>
            <a:off x="395280" y="3897360"/>
            <a:ext cx="6481440" cy="758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падений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3421080" y="4737240"/>
            <a:ext cx="2663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прямоугольного треугольника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35"/>
          <p:cNvGraphicFramePr/>
          <p:nvPr/>
        </p:nvGraphicFramePr>
        <p:xfrm>
          <a:off x="6170760" y="4724280"/>
          <a:ext cx="2793600" cy="3679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41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0760" y="4724280"/>
                    <a:ext cx="279360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36"/>
          <p:cNvGraphicFramePr/>
          <p:nvPr/>
        </p:nvGraphicFramePr>
        <p:xfrm>
          <a:off x="446040" y="4757760"/>
          <a:ext cx="2685600" cy="6076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421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6040" y="4757760"/>
                    <a:ext cx="2685600" cy="6076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2" name="Rectangle 37"/>
          <p:cNvSpPr/>
          <p:nvPr/>
        </p:nvSpPr>
        <p:spPr>
          <a:xfrm>
            <a:off x="825120" y="556092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38"/>
          <p:cNvGraphicFramePr/>
          <p:nvPr/>
        </p:nvGraphicFramePr>
        <p:xfrm>
          <a:off x="474840" y="5970600"/>
          <a:ext cx="2296800" cy="6980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4840" y="5970600"/>
                    <a:ext cx="229680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Rectangle 39"/>
          <p:cNvSpPr/>
          <p:nvPr/>
        </p:nvSpPr>
        <p:spPr>
          <a:xfrm>
            <a:off x="3297960" y="5572080"/>
            <a:ext cx="25005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0"/>
          <p:cNvGraphicFramePr/>
          <p:nvPr/>
        </p:nvGraphicFramePr>
        <p:xfrm>
          <a:off x="3130560" y="5994360"/>
          <a:ext cx="273636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427" name="Object 4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30560" y="5994360"/>
                    <a:ext cx="273636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8" name="Rectangle 41"/>
          <p:cNvSpPr/>
          <p:nvPr/>
        </p:nvSpPr>
        <p:spPr>
          <a:xfrm>
            <a:off x="6008760" y="5616720"/>
            <a:ext cx="2814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42"/>
          <p:cNvGraphicFramePr/>
          <p:nvPr/>
        </p:nvGraphicFramePr>
        <p:xfrm>
          <a:off x="6327720" y="6043680"/>
          <a:ext cx="2204640" cy="56952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430" name="Object 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7720" y="6043680"/>
                    <a:ext cx="2204640" cy="569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1" name="Object 43"/>
          <p:cNvGraphicFramePr/>
          <p:nvPr/>
        </p:nvGraphicFramePr>
        <p:xfrm>
          <a:off x="7380360" y="1236600"/>
          <a:ext cx="1368000" cy="32040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432" name="Object 4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80360" y="123660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Line 44"/>
          <p:cNvSpPr/>
          <p:nvPr/>
        </p:nvSpPr>
        <p:spPr>
          <a:xfrm flipH="1">
            <a:off x="6732360" y="1412640"/>
            <a:ext cx="5032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45"/>
          <p:cNvGraphicFramePr/>
          <p:nvPr/>
        </p:nvGraphicFramePr>
        <p:xfrm>
          <a:off x="822240" y="3162240"/>
          <a:ext cx="5765400" cy="6188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435" name="Object 4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22240" y="3162240"/>
                    <a:ext cx="576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46"/>
          <p:cNvGraphicFramePr/>
          <p:nvPr/>
        </p:nvGraphicFramePr>
        <p:xfrm>
          <a:off x="6512040" y="5157720"/>
          <a:ext cx="2223720" cy="36792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37" name="Object 4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12040" y="5157720"/>
                    <a:ext cx="222372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  <Words>1351</Words>
  <Paragraphs>1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28:18Z</dcterms:created>
  <dc:creator>Колпачева</dc:creator>
  <dc:description/>
  <dc:language>en-US</dc:language>
  <cp:lastModifiedBy>Gavrilov A.M.</cp:lastModifiedBy>
  <dcterms:modified xsi:type="dcterms:W3CDTF">2013-06-15T06:45:27Z</dcterms:modified>
  <cp:revision>2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