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A93E-C3FE-4A36-931F-2AB0AC3B61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320D-F725-4097-B5DE-24E39AA5F4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FDB-4E51-4918-99D3-62002399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799A-2712-463D-824F-172F7B21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A29-05B1-4116-88E9-616613C8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AC2-CB52-40C6-97F3-916FC034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3429-617F-4A7E-B249-39B6D5FC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9495-BECF-4B75-805E-A4EE9E4E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46F6-4FDF-4255-9F42-8245F397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766-13B3-41E6-B52E-797873FB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CBB-AC29-4550-948C-E3F0A583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168-552E-4B26-A8E3-027857E8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E07-596B-433C-A981-07475B7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82E-B0D1-441F-8833-8B8C2B29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CD70-5A05-4B3A-B316-651C7DE125F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2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33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5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37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5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число в тетрадь 02.11.2021 тема «Разновидности объектов и их классификац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самое главное ( слайд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ьте на вопросы ( слайд 14) ответы запишите в тетра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81bd"/>
                </a:solidFill>
                <a:latin typeface="Arial"/>
              </a:rPr>
              <a:t>Внимание!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70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1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7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182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183" name="Скругленный прямоугольник 7"/>
            <p:cNvSpPr/>
            <p:nvPr/>
          </p:nvSpPr>
          <p:spPr>
            <a:xfrm>
              <a:off x="1080720" y="1143000"/>
              <a:ext cx="4177080" cy="83664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Скругленный прямоугольник 8"/>
            <p:cNvSpPr/>
            <p:nvPr/>
          </p:nvSpPr>
          <p:spPr>
            <a:xfrm>
              <a:off x="46656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Скругленный прямоугольник 9"/>
            <p:cNvSpPr/>
            <p:nvPr/>
          </p:nvSpPr>
          <p:spPr>
            <a:xfrm>
              <a:off x="2338200" y="2664000"/>
              <a:ext cx="16574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Скругленный прямоугольник 10"/>
            <p:cNvSpPr/>
            <p:nvPr/>
          </p:nvSpPr>
          <p:spPr>
            <a:xfrm>
              <a:off x="420228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Скругленный прямоугольник 11"/>
            <p:cNvSpPr/>
            <p:nvPr/>
          </p:nvSpPr>
          <p:spPr>
            <a:xfrm>
              <a:off x="158400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Прямая соединительная линия 13"/>
            <p:cNvSpPr/>
            <p:nvPr/>
          </p:nvSpPr>
          <p:spPr>
            <a:xfrm flipH="1">
              <a:off x="1295280" y="1979640"/>
              <a:ext cx="1874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Прямая соединительная линия 15"/>
            <p:cNvSpPr/>
            <p:nvPr/>
          </p:nvSpPr>
          <p:spPr>
            <a:xfrm flipH="1">
              <a:off x="3166920" y="1979640"/>
              <a:ext cx="2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Прямая соединительная линия 17"/>
            <p:cNvSpPr/>
            <p:nvPr/>
          </p:nvSpPr>
          <p:spPr>
            <a:xfrm>
              <a:off x="3170160" y="1979640"/>
              <a:ext cx="185904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Прямая соединительная линия 19"/>
            <p:cNvSpPr/>
            <p:nvPr/>
          </p:nvSpPr>
          <p:spPr>
            <a:xfrm>
              <a:off x="3166920" y="3500640"/>
              <a:ext cx="1440" cy="608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195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196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198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00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08" name="Скругленный прямоугольник 3"/>
            <p:cNvGrpSpPr/>
            <p:nvPr/>
          </p:nvGrpSpPr>
          <p:grpSpPr>
            <a:xfrm>
              <a:off x="2790720" y="1292400"/>
              <a:ext cx="4226760" cy="950400"/>
              <a:chOff x="2790720" y="1292400"/>
              <a:chExt cx="4226760" cy="950400"/>
            </a:xfrm>
          </p:grpSpPr>
          <p:pic>
            <p:nvPicPr>
              <p:cNvPr id="209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"/>
              <p:cNvSpPr/>
              <p:nvPr/>
            </p:nvSpPr>
            <p:spPr>
              <a:xfrm>
                <a:off x="2891160" y="1369080"/>
                <a:ext cx="4030560" cy="76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Скругленный прямоугольник 4"/>
            <p:cNvSpPr/>
            <p:nvPr/>
          </p:nvSpPr>
          <p:spPr>
            <a:xfrm>
              <a:off x="1488600" y="2921400"/>
              <a:ext cx="3064680" cy="843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Скругленный прямоугольник 5"/>
            <p:cNvSpPr/>
            <p:nvPr/>
          </p:nvSpPr>
          <p:spPr>
            <a:xfrm>
              <a:off x="5210280" y="2921400"/>
              <a:ext cx="3064680" cy="843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Скругленный прямоугольник 6"/>
            <p:cNvGrpSpPr/>
            <p:nvPr/>
          </p:nvGrpSpPr>
          <p:grpSpPr>
            <a:xfrm>
              <a:off x="1193760" y="4488840"/>
              <a:ext cx="3656520" cy="1116720"/>
              <a:chOff x="1193760" y="4488840"/>
              <a:chExt cx="3656520" cy="1116720"/>
            </a:xfrm>
          </p:grpSpPr>
          <p:pic>
            <p:nvPicPr>
              <p:cNvPr id="214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88840"/>
                <a:ext cx="3656520" cy="11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1302480" y="4573440"/>
                <a:ext cx="3446280" cy="90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Скругленный прямоугольник 7"/>
            <p:cNvGrpSpPr/>
            <p:nvPr/>
          </p:nvGrpSpPr>
          <p:grpSpPr>
            <a:xfrm>
              <a:off x="4916160" y="4488840"/>
              <a:ext cx="3656520" cy="1116720"/>
              <a:chOff x="4916160" y="4488840"/>
              <a:chExt cx="3656520" cy="1116720"/>
            </a:xfrm>
          </p:grpSpPr>
          <p:pic>
            <p:nvPicPr>
              <p:cNvPr id="217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88840"/>
                <a:ext cx="3656520" cy="111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" name=""/>
              <p:cNvSpPr/>
              <p:nvPr/>
            </p:nvSpPr>
            <p:spPr>
              <a:xfrm>
                <a:off x="5024160" y="4573440"/>
                <a:ext cx="3446280" cy="90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Прямая соединительная линия 9"/>
            <p:cNvSpPr/>
            <p:nvPr/>
          </p:nvSpPr>
          <p:spPr>
            <a:xfrm flipH="1">
              <a:off x="3021120" y="217116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Прямая соединительная линия 11"/>
            <p:cNvSpPr/>
            <p:nvPr/>
          </p:nvSpPr>
          <p:spPr>
            <a:xfrm>
              <a:off x="4906080" y="2171160"/>
              <a:ext cx="183564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Прямая соединительная линия 13"/>
            <p:cNvSpPr/>
            <p:nvPr/>
          </p:nvSpPr>
          <p:spPr>
            <a:xfrm>
              <a:off x="3020400" y="3764520"/>
              <a:ext cx="4680" cy="7596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Прямая соединительная линия 15"/>
            <p:cNvSpPr/>
            <p:nvPr/>
          </p:nvSpPr>
          <p:spPr>
            <a:xfrm>
              <a:off x="6741720" y="3764520"/>
              <a:ext cx="4680" cy="7596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25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26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Натали</cp:lastModifiedBy>
  <dcterms:modified xsi:type="dcterms:W3CDTF">2021-11-02T05:34:07Z</dcterms:modified>
  <cp:revision>37</cp:revision>
  <dc:subject/>
  <dc:title>Презентация PowerPoint</dc:title>
</cp:coreProperties>
</file>