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592-277E-4987-B683-43CE4EAAC5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C3F-EEBF-4E23-AC1F-2D9BCF862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614-D0A9-4174-AE26-1788773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ADE-3314-4394-838C-696039F8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B1F-293A-4E29-BAC7-C9B4627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F66-16BF-4852-95F5-F39FA76D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A24-6A02-46FD-9659-1AF8B69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556-02D5-4DFD-9371-49F3DDE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882-C492-4C77-ACFA-7A80E54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E43-AF92-4AAA-AF22-4100CD84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C36-532A-4C5F-B55E-E49E82D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4AD-7B1D-463C-9C9D-5E13A40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AC4-D0C9-4E77-A7A1-1563C87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511-090A-4B60-A248-517DB9F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D1E4-5C07-4E91-B1E2-838028B2A3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3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5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7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число в тетрадь 02.11.2021 тема «Разновидности объектов и их классифика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самое главное ( слайд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вопросы ( слайд 14) ответы запишите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</a:rPr>
              <a:t>Внимание!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70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1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82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183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95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196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198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00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08" name="Скругленный прямоугольник 3"/>
            <p:cNvGrpSpPr/>
            <p:nvPr/>
          </p:nvGrpSpPr>
          <p:grpSpPr>
            <a:xfrm>
              <a:off x="2790720" y="1292400"/>
              <a:ext cx="4226760" cy="950400"/>
              <a:chOff x="2790720" y="1292400"/>
              <a:chExt cx="4226760" cy="950400"/>
            </a:xfrm>
          </p:grpSpPr>
          <p:pic>
            <p:nvPicPr>
              <p:cNvPr id="209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891160" y="1369080"/>
                <a:ext cx="4030560" cy="76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Скругленный прямоугольник 4"/>
            <p:cNvSpPr/>
            <p:nvPr/>
          </p:nvSpPr>
          <p:spPr>
            <a:xfrm>
              <a:off x="1488600" y="2921400"/>
              <a:ext cx="3064680" cy="84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Скругленный прямоугольник 5"/>
            <p:cNvSpPr/>
            <p:nvPr/>
          </p:nvSpPr>
          <p:spPr>
            <a:xfrm>
              <a:off x="5210280" y="2921400"/>
              <a:ext cx="3064680" cy="84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Скругленный прямоугольник 6"/>
            <p:cNvGrpSpPr/>
            <p:nvPr/>
          </p:nvGrpSpPr>
          <p:grpSpPr>
            <a:xfrm>
              <a:off x="1193760" y="4488840"/>
              <a:ext cx="3656520" cy="1116720"/>
              <a:chOff x="1193760" y="4488840"/>
              <a:chExt cx="3656520" cy="1116720"/>
            </a:xfrm>
          </p:grpSpPr>
          <p:pic>
            <p:nvPicPr>
              <p:cNvPr id="214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88840"/>
                <a:ext cx="3656520" cy="11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302480" y="4573440"/>
                <a:ext cx="3446280" cy="9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Скругленный прямоугольник 7"/>
            <p:cNvGrpSpPr/>
            <p:nvPr/>
          </p:nvGrpSpPr>
          <p:grpSpPr>
            <a:xfrm>
              <a:off x="4916160" y="4488840"/>
              <a:ext cx="3656520" cy="1116720"/>
              <a:chOff x="4916160" y="4488840"/>
              <a:chExt cx="3656520" cy="1116720"/>
            </a:xfrm>
          </p:grpSpPr>
          <p:pic>
            <p:nvPicPr>
              <p:cNvPr id="217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88840"/>
                <a:ext cx="3656520" cy="11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5024160" y="4573440"/>
                <a:ext cx="3446280" cy="9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Прямая соединительная линия 9"/>
            <p:cNvSpPr/>
            <p:nvPr/>
          </p:nvSpPr>
          <p:spPr>
            <a:xfrm flipH="1">
              <a:off x="3021120" y="217116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1"/>
            <p:cNvSpPr/>
            <p:nvPr/>
          </p:nvSpPr>
          <p:spPr>
            <a:xfrm>
              <a:off x="4906080" y="2171160"/>
              <a:ext cx="183564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3"/>
            <p:cNvSpPr/>
            <p:nvPr/>
          </p:nvSpPr>
          <p:spPr>
            <a:xfrm>
              <a:off x="3020400" y="3764520"/>
              <a:ext cx="4680" cy="7596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5"/>
            <p:cNvSpPr/>
            <p:nvPr/>
          </p:nvSpPr>
          <p:spPr>
            <a:xfrm>
              <a:off x="6741720" y="3764520"/>
              <a:ext cx="4680" cy="7596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25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6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Натали</cp:lastModifiedBy>
  <dcterms:modified xsi:type="dcterms:W3CDTF">2021-11-02T05:34:07Z</dcterms:modified>
  <cp:revision>37</cp:revision>
  <dc:subject/>
  <dc:title>Презентация PowerPoint</dc:title>
</cp:coreProperties>
</file>