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voltage.wav" ContentType="audio/x-wav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4.png" ContentType="image/png"/>
  <Override PartName="/ppt/media/image21.gif" ContentType="image/gif"/>
  <Override PartName="/ppt/media/image13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2.png" ContentType="image/png"/>
  <Override PartName="/ppt/media/image20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4CA-5D29-4CA7-B4E0-6C590023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DE6-CEC7-4761-882E-3FD8FE4C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5FF-5223-4304-AD72-AA1655E6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C19-06B5-4FA2-94BC-9DD3CA21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B49-BE20-45D5-9138-EED8D58F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F69-2582-4EE0-91B3-5E5094B2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3EF-9977-4AD8-9EB5-1D50276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1DB-2C45-4626-B59F-7340A29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85B-413A-4EE9-8AEE-C40E440E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8DC-1B57-4A47-B19E-E9D51824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00A-3040-4930-A9F8-42CBF05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0FF-89DC-471F-A483-42F9598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D801-5AAE-43AB-A24D-145F9A9E2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Даша\Картинки\123Ann123_2010_04_15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3929040" y="1571760"/>
            <a:ext cx="714240" cy="714240"/>
          </a:xfrm>
          <a:prstGeom prst="ellipse">
            <a:avLst/>
          </a:prstGeom>
          <a:solidFill>
            <a:srgbClr val="93cddd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0" y="1128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53735"/>
                </a:solidFill>
                <a:latin typeface="Arial"/>
              </a:rPr>
              <a:t>Применение фотоэффек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Даша\Картинки\83794-Royalty-Free-RF-Clipart-Illustration-Of-A-Background-Of-Blue-Electric-Plasma.jpg"/>
          <p:cNvPicPr/>
          <p:nvPr/>
        </p:nvPicPr>
        <p:blipFill>
          <a:blip r:embed="rId1"/>
          <a:srcRect l="0" t="0" r="0" b="50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1680" y="2286000"/>
            <a:ext cx="3214440" cy="413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0" t="3595" r="0" b="0"/>
          <a:stretch/>
        </p:blipFill>
        <p:spPr>
          <a:xfrm>
            <a:off x="5286240" y="4000680"/>
            <a:ext cx="2428920" cy="233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Даша\Картинки\Анимированные\55.gif"/>
          <p:cNvPicPr/>
          <p:nvPr/>
        </p:nvPicPr>
        <p:blipFill>
          <a:blip r:embed="rId4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8"/>
          <p:cNvSpPr/>
          <p:nvPr/>
        </p:nvSpPr>
        <p:spPr>
          <a:xfrm>
            <a:off x="357120" y="285840"/>
            <a:ext cx="8572680" cy="1285920"/>
          </a:xfrm>
          <a:prstGeom prst="rect">
            <a:avLst/>
          </a:prstGeom>
          <a:solidFill>
            <a:srgbClr val="b9cde5">
              <a:alpha val="78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57120" y="357120"/>
            <a:ext cx="85726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лемент – устройство, в котором энергия света управляет энергией электрического тока или преобразуется в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2"/>
          <p:cNvSpPr/>
          <p:nvPr/>
        </p:nvSpPr>
        <p:spPr>
          <a:xfrm>
            <a:off x="4071960" y="2357280"/>
            <a:ext cx="4857840" cy="1428840"/>
          </a:xfrm>
          <a:prstGeom prst="rect">
            <a:avLst/>
          </a:prstGeom>
          <a:solidFill>
            <a:srgbClr val="f2f2f2">
              <a:alpha val="64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071960" y="2357280"/>
            <a:ext cx="485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ый фотоэлемент, основанный на внешнем фотоэффекте, созда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ександр Григорьевич Стол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конц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Даша\Картинки\14_1e26aa.jpg"/>
          <p:cNvPicPr/>
          <p:nvPr/>
        </p:nvPicPr>
        <p:blipFill>
          <a:blip r:embed="rId1"/>
          <a:srcRect l="0" t="0" r="0" b="104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низ 8"/>
          <p:cNvSpPr/>
          <p:nvPr/>
        </p:nvSpPr>
        <p:spPr>
          <a:xfrm rot="2539800">
            <a:off x="3322440" y="1479600"/>
            <a:ext cx="660240" cy="10000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 rot="19384800">
            <a:off x="5353200" y="1531440"/>
            <a:ext cx="644400" cy="9399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428840" y="3429000"/>
            <a:ext cx="1643040" cy="306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294160" y="3643200"/>
            <a:ext cx="2635560" cy="2357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0"/>
          <p:cNvSpPr/>
          <p:nvPr/>
        </p:nvSpPr>
        <p:spPr>
          <a:xfrm>
            <a:off x="2714760" y="642960"/>
            <a:ext cx="4000320" cy="714240"/>
          </a:xfrm>
          <a:prstGeom prst="rect">
            <a:avLst/>
          </a:prstGeom>
          <a:solidFill>
            <a:srgbClr val="b3a2c7">
              <a:alpha val="83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714760" y="70164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ТОЭЛЕ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1000080" y="2571840"/>
            <a:ext cx="2571840" cy="571320"/>
          </a:xfrm>
          <a:prstGeom prst="rect">
            <a:avLst/>
          </a:prstGeom>
          <a:solidFill>
            <a:srgbClr val="604a7b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000080" y="2558880"/>
            <a:ext cx="2571840" cy="581400"/>
          </a:xfrm>
          <a:prstGeom prst="rect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куу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4500720" y="2571840"/>
            <a:ext cx="4071960" cy="571320"/>
          </a:xfrm>
          <a:prstGeom prst="rect">
            <a:avLst/>
          </a:prstGeom>
          <a:solidFill>
            <a:srgbClr val="604a7b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4500720" y="2571840"/>
            <a:ext cx="4071960" cy="1068840"/>
          </a:xfrm>
          <a:prstGeom prst="rect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провод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4" name="voltag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Даша\Картинки\456i.jpg"/>
          <p:cNvPicPr/>
          <p:nvPr/>
        </p:nvPicPr>
        <p:blipFill>
          <a:blip r:embed="rId1"/>
          <a:srcRect l="0" t="0" r="0" b="5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28760" y="1857240"/>
            <a:ext cx="258444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28760" y="51436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– ка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– проволочная петля (диск). Служит для улавливания фото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3143160" y="328608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тотелеграф, фототеле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но: воспроизведение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ходит в схему фотореле:  автоматы в метро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Даша\Картинки\02f91113b191f892dacc700977e7b5c3.jpg"/>
          <p:cNvPicPr/>
          <p:nvPr/>
        </p:nvPicPr>
        <p:blipFill>
          <a:blip r:embed="rId3"/>
          <a:stretch/>
        </p:blipFill>
        <p:spPr>
          <a:xfrm>
            <a:off x="5929200" y="4713120"/>
            <a:ext cx="3214800" cy="2144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8"/>
          <p:cNvSpPr/>
          <p:nvPr/>
        </p:nvSpPr>
        <p:spPr>
          <a:xfrm>
            <a:off x="2286000" y="0"/>
            <a:ext cx="5072040" cy="642960"/>
          </a:xfrm>
          <a:prstGeom prst="rect">
            <a:avLst/>
          </a:prstGeom>
          <a:solidFill>
            <a:srgbClr val="b3a2c7">
              <a:alpha val="66000"/>
            </a:srgbClr>
          </a:solidFill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286000" y="475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куумные фото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3143160" y="1214280"/>
            <a:ext cx="5572080" cy="1857600"/>
          </a:xfrm>
          <a:prstGeom prst="rect">
            <a:avLst/>
          </a:prstGeom>
          <a:solidFill>
            <a:srgbClr val="558ed5">
              <a:alpha val="6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143160" y="1214280"/>
            <a:ext cx="557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падании света на катод фотоэлемента в цепи возникает электрический ток, который включает то или иное ре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Даша\Картинки\83794-Royalty-Free-RF-Clipart-Illustration-Of-A-Background-Of-Blue-Electric-Plasma.jpg"/>
          <p:cNvPicPr/>
          <p:nvPr/>
        </p:nvPicPr>
        <p:blipFill>
          <a:blip r:embed="rId1"/>
          <a:srcRect l="0" t="0" r="0" b="50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Даша\Практика\2011 год\234.jpg"/>
          <p:cNvPicPr/>
          <p:nvPr/>
        </p:nvPicPr>
        <p:blipFill>
          <a:blip r:embed="rId2"/>
          <a:stretch/>
        </p:blipFill>
        <p:spPr>
          <a:xfrm>
            <a:off x="884160" y="2371680"/>
            <a:ext cx="3376800" cy="2706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5857920" y="4243320"/>
            <a:ext cx="2813040" cy="2328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5929200" y="4444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резис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0"/>
          <p:cNvSpPr/>
          <p:nvPr/>
        </p:nvSpPr>
        <p:spPr>
          <a:xfrm>
            <a:off x="642960" y="1285920"/>
            <a:ext cx="4071960" cy="1000080"/>
          </a:xfrm>
          <a:prstGeom prst="roundRect">
            <a:avLst>
              <a:gd name="adj" fmla="val 16667"/>
            </a:avLst>
          </a:prstGeom>
          <a:solidFill>
            <a:srgbClr val="b3a2c7">
              <a:alpha val="86000"/>
            </a:srgbClr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642960" y="129060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ют ЭДС и непосредственно преобразуют энергию излучения в энергию электрического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2"/>
          <p:cNvSpPr/>
          <p:nvPr/>
        </p:nvSpPr>
        <p:spPr>
          <a:xfrm>
            <a:off x="642960" y="5286240"/>
            <a:ext cx="4071960" cy="1000440"/>
          </a:xfrm>
          <a:prstGeom prst="roundRect">
            <a:avLst>
              <a:gd name="adj" fmla="val 16667"/>
            </a:avLst>
          </a:prstGeom>
          <a:solidFill>
            <a:srgbClr val="dbeef4">
              <a:alpha val="85000"/>
            </a:srgbClr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642960" y="53578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тока зависит от интенсивности падающего света и сопротивления н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с одним вырезанным углом 14"/>
          <p:cNvSpPr/>
          <p:nvPr/>
        </p:nvSpPr>
        <p:spPr>
          <a:xfrm>
            <a:off x="5214960" y="1214280"/>
            <a:ext cx="3643200" cy="1714680"/>
          </a:xfrm>
          <a:custGeom>
            <a:avLst/>
            <a:gdLst>
              <a:gd name="textAreaLeft" fmla="*/ 0 w 3643200"/>
              <a:gd name="textAreaRight" fmla="*/ 3500640 w 3643200"/>
              <a:gd name="textAreaTop" fmla="*/ 142920 h 1714680"/>
              <a:gd name="textAreaBottom" fmla="*/ 1715040 h 1714680"/>
            </a:gdLst>
            <a:ahLst/>
            <a:rect l="textAreaLeft" t="textAreaTop" r="textAreaRight" b="textAreaBottom"/>
            <a:pathLst>
              <a:path w="3643312" h="1714500">
                <a:moveTo>
                  <a:pt x="0" y="0"/>
                </a:moveTo>
                <a:lnTo>
                  <a:pt x="3357556" y="0"/>
                </a:lnTo>
                <a:lnTo>
                  <a:pt x="3643312" y="285756"/>
                </a:lnTo>
                <a:lnTo>
                  <a:pt x="3643312" y="1714500"/>
                </a:lnTo>
                <a:lnTo>
                  <a:pt x="0" y="1714500"/>
                </a:lnTo>
                <a:close/>
              </a:path>
            </a:pathLst>
          </a:custGeom>
          <a:solidFill>
            <a:srgbClr val="93cddd">
              <a:alpha val="86000"/>
            </a:srgbClr>
          </a:solidFill>
          <a:ln w="25560">
            <a:solidFill>
              <a:srgbClr val="3760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5286240" y="1442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фотоэлектрон остается внутри вещества, то наблюдается внутренний фото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Даша\Картинки\Анимированные\64.gif"/>
          <p:cNvPicPr/>
          <p:nvPr/>
        </p:nvPicPr>
        <p:blipFill>
          <a:blip r:embed="rId4"/>
          <a:stretch/>
        </p:blipFill>
        <p:spPr>
          <a:xfrm>
            <a:off x="7929720" y="271476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двумя скругленными соседними углами 17"/>
          <p:cNvSpPr/>
          <p:nvPr/>
        </p:nvSpPr>
        <p:spPr>
          <a:xfrm>
            <a:off x="1071720" y="142920"/>
            <a:ext cx="7358040" cy="642960"/>
          </a:xfrm>
          <a:custGeom>
            <a:avLst/>
            <a:gdLst>
              <a:gd name="textAreaLeft" fmla="*/ 31320 w 7358040"/>
              <a:gd name="textAreaRight" fmla="*/ 7326720 w 7358040"/>
              <a:gd name="textAreaTop" fmla="*/ 31320 h 642960"/>
              <a:gd name="textAreaBottom" fmla="*/ 643320 h 642960"/>
            </a:gdLst>
            <a:ahLst/>
            <a:rect l="textAreaLeft" t="textAreaTop" r="textAreaRight" b="textAreaBottom"/>
            <a:pathLst>
              <a:path w="7358062" h="642938">
                <a:moveTo>
                  <a:pt x="107158" y="0"/>
                </a:moveTo>
                <a:lnTo>
                  <a:pt x="7250904" y="0"/>
                </a:lnTo>
                <a:lnTo>
                  <a:pt x="7250904" y="0"/>
                </a:lnTo>
                <a:arcTo wR="107158" hR="107158" stAng="-5400000" swAng="5400000"/>
                <a:lnTo>
                  <a:pt x="7358062" y="642938"/>
                </a:lnTo>
                <a:lnTo>
                  <a:pt x="0" y="642938"/>
                </a:lnTo>
                <a:lnTo>
                  <a:pt x="0" y="107158"/>
                </a:lnTo>
                <a:lnTo>
                  <a:pt x="0" y="107158"/>
                </a:lnTo>
                <a:arcTo wR="107158" hR="107158" stAng="10800000" swAng="5400000"/>
                <a:close/>
              </a:path>
            </a:pathLst>
          </a:custGeom>
          <a:solidFill>
            <a:srgbClr val="4f81bd">
              <a:alpha val="7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71720" y="142920"/>
            <a:ext cx="7358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олупроводниковые фотоэлемен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5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C:\Даша\Картинки\4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Даша\Картинки\1251453493_svet2.jpg"/>
          <p:cNvPicPr/>
          <p:nvPr/>
        </p:nvPicPr>
        <p:blipFill>
          <a:blip r:embed="rId2"/>
          <a:stretch/>
        </p:blipFill>
        <p:spPr>
          <a:xfrm>
            <a:off x="214200" y="1857240"/>
            <a:ext cx="244332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Даша\Картинки\461782a0bedf.jpg"/>
          <p:cNvPicPr/>
          <p:nvPr/>
        </p:nvPicPr>
        <p:blipFill>
          <a:blip r:embed="rId3"/>
          <a:stretch/>
        </p:blipFill>
        <p:spPr>
          <a:xfrm>
            <a:off x="428760" y="4214880"/>
            <a:ext cx="1928520" cy="232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Даша\Картинки\intearth_big.jpg"/>
          <p:cNvPicPr/>
          <p:nvPr/>
        </p:nvPicPr>
        <p:blipFill>
          <a:blip r:embed="rId4"/>
          <a:stretch/>
        </p:blipFill>
        <p:spPr>
          <a:xfrm>
            <a:off x="6462720" y="4214880"/>
            <a:ext cx="2538360" cy="20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Даша\Картинки\800px-giant_photovoltaic_array.jpg"/>
          <p:cNvPicPr/>
          <p:nvPr/>
        </p:nvPicPr>
        <p:blipFill>
          <a:blip r:embed="rId5"/>
          <a:stretch/>
        </p:blipFill>
        <p:spPr>
          <a:xfrm>
            <a:off x="3143160" y="128592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Даша\Картинки\martin-residence-front-lit.jpg"/>
          <p:cNvPicPr/>
          <p:nvPr/>
        </p:nvPicPr>
        <p:blipFill>
          <a:blip r:embed="rId6"/>
          <a:stretch/>
        </p:blipFill>
        <p:spPr>
          <a:xfrm>
            <a:off x="6500880" y="1714680"/>
            <a:ext cx="2436840" cy="2004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с двумя скругленными соседними углами 9"/>
          <p:cNvSpPr/>
          <p:nvPr/>
        </p:nvSpPr>
        <p:spPr>
          <a:xfrm>
            <a:off x="1071720" y="142920"/>
            <a:ext cx="7358040" cy="642960"/>
          </a:xfrm>
          <a:custGeom>
            <a:avLst/>
            <a:gdLst>
              <a:gd name="textAreaLeft" fmla="*/ 31320 w 7358040"/>
              <a:gd name="textAreaRight" fmla="*/ 7326720 w 7358040"/>
              <a:gd name="textAreaTop" fmla="*/ 31320 h 642960"/>
              <a:gd name="textAreaBottom" fmla="*/ 643320 h 642960"/>
            </a:gdLst>
            <a:ahLst/>
            <a:rect l="textAreaLeft" t="textAreaTop" r="textAreaRight" b="textAreaBottom"/>
            <a:pathLst>
              <a:path w="7358062" h="642938">
                <a:moveTo>
                  <a:pt x="107158" y="0"/>
                </a:moveTo>
                <a:lnTo>
                  <a:pt x="7250904" y="0"/>
                </a:lnTo>
                <a:lnTo>
                  <a:pt x="7250904" y="0"/>
                </a:lnTo>
                <a:arcTo wR="107158" hR="107158" stAng="-5400000" swAng="5400000"/>
                <a:lnTo>
                  <a:pt x="7358062" y="642938"/>
                </a:lnTo>
                <a:lnTo>
                  <a:pt x="0" y="642938"/>
                </a:lnTo>
                <a:lnTo>
                  <a:pt x="0" y="107158"/>
                </a:lnTo>
                <a:lnTo>
                  <a:pt x="0" y="107158"/>
                </a:lnTo>
                <a:arcTo wR="107158" hR="107158" stAng="10800000" swAng="5400000"/>
                <a:close/>
              </a:path>
            </a:pathLst>
          </a:custGeom>
          <a:solidFill>
            <a:srgbClr val="4f81bd">
              <a:alpha val="7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071720" y="142920"/>
            <a:ext cx="7358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Полупроводниковые фотоэлемен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14"/>
          <p:cNvSpPr/>
          <p:nvPr/>
        </p:nvSpPr>
        <p:spPr>
          <a:xfrm>
            <a:off x="2643120" y="4214880"/>
            <a:ext cx="3500640" cy="20001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857680" y="4429080"/>
            <a:ext cx="30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лементы 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-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ходом создают ЭДС порядка 1-2 В. Выходная мощность достигает сотен ватт при КПД до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7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Даша\Картинки\14_1e26aa.jpg"/>
          <p:cNvPicPr/>
          <p:nvPr/>
        </p:nvPicPr>
        <p:blipFill>
          <a:blip r:embed="rId1"/>
          <a:srcRect l="0" t="0" r="0" b="1000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357200" y="1587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28760" y="1428840"/>
            <a:ext cx="8358120" cy="3385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азывают фотоэлемен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чем суть явления внешнего фотоэффек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иболее распространенные фотоэлем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ких устройствах (приборах) применяются фотореле и фоторезис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Даша\Картинки\Анимированные\70.gif"/>
          <p:cNvPicPr/>
          <p:nvPr/>
        </p:nvPicPr>
        <p:blipFill>
          <a:blip r:embed="rId2"/>
          <a:stretch/>
        </p:blipFill>
        <p:spPr>
          <a:xfrm>
            <a:off x="7286760" y="4640400"/>
            <a:ext cx="1714320" cy="22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Даша\Картинки\fileUnQ0f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Даша\Картинки\Анимированные\40.gif"/>
          <p:cNvPicPr/>
          <p:nvPr/>
        </p:nvPicPr>
        <p:blipFill>
          <a:blip r:embed="rId2"/>
          <a:stretch/>
        </p:blipFill>
        <p:spPr>
          <a:xfrm>
            <a:off x="0" y="5191200"/>
            <a:ext cx="142884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464328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8:44:07Z</dcterms:created>
  <dc:creator>Даша</dc:creator>
  <dc:description/>
  <dc:language>en-US</dc:language>
  <cp:lastModifiedBy>админ</cp:lastModifiedBy>
  <dcterms:modified xsi:type="dcterms:W3CDTF">2006-01-01T02:43:04Z</dcterms:modified>
  <cp:revision>58</cp:revision>
  <dc:subject/>
  <dc:title>Слайд 1</dc:title>
</cp:coreProperties>
</file>