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3.png" ContentType="image/png"/>
  <Override PartName="/ppt/media/image24.gif" ContentType="image/gif"/>
  <Override PartName="/ppt/media/image23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121-1F94-44B9-8AB1-F971FE01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D137-2A86-4A73-A3EA-B3088299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9E3E-6AC8-4295-8AB2-4EF1DF49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F32E-5398-4206-A440-3DABC1E1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66A0-C024-46AC-8FA3-B6AD7559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15D9-FC7D-457D-9A0E-59669F76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DFBD-E480-4E58-B3F5-10160F26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7496-4EAF-4B8E-9A74-96046C12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6C62-0214-49F4-9038-82176866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AE14-2338-4B07-8FDA-B18A06BD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D0D0-7450-4B54-9B81-3EB53A42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B896-2A22-4A36-8494-CC188040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E5C1-564B-4EE3-8697-E260F0C9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B02C-7946-4433-894A-1208B4C6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BA21-8F39-4BDC-9A59-6C486703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2ECB-1D93-4105-88C1-B9E90877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35F1-8D3F-4C27-91DC-9E67BB96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BCCD-46FD-4451-8CF9-C763C802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A0BE-316E-4941-8593-68EE9B6A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EFF-05D6-4CD1-AFAE-33212339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DEA-DC55-4656-99F7-E62F60E1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3DC2-CABC-4BD5-BBE3-E4BAD176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027-4118-49FC-AC3A-8FACAE34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097-A7CB-4E3D-82B9-F26F0CEB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06"/>
            </a:gs>
            <a:gs pos="100000">
              <a:srgbClr val="df54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6A49-F335-4F2B-B3F3-57B43354B3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06"/>
            </a:gs>
            <a:gs pos="100000">
              <a:srgbClr val="df54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1FE0-BC24-4CCF-A86D-10391982A8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englishfull.ru/wp-content/uploads/2015/01/Question_tags.jpg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QUESTION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Picture 6" descr="1213"/>
          <p:cNvPicPr/>
          <p:nvPr/>
        </p:nvPicPr>
        <p:blipFill>
          <a:blip r:embed="rId1"/>
          <a:stretch/>
        </p:blipFill>
        <p:spPr>
          <a:xfrm>
            <a:off x="304920" y="228600"/>
            <a:ext cx="2857320" cy="25146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3352680" y="6019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ь типов вопро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g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Arial"/>
              </a:rPr>
              <a:t>s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а хорошо поет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Общи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o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g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Альтернативны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o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ance wel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Специальны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o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Вопрос к подлежащем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g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Arial"/>
              </a:rPr>
              <a:t>s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.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Разделительны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sing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Arial"/>
              </a:rPr>
              <a:t>s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ll,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oesn’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4348080" y="3078000"/>
            <a:ext cx="449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animashki-kukly-5643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867280" y="1981080"/>
            <a:ext cx="2525760" cy="3886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5" descr="animashki-muzika-1135"/>
          <p:cNvPicPr/>
          <p:nvPr/>
        </p:nvPicPr>
        <p:blipFill>
          <a:blip r:embed="rId2"/>
          <a:stretch/>
        </p:blipFill>
        <p:spPr>
          <a:xfrm>
            <a:off x="4800600" y="609480"/>
            <a:ext cx="28195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опросы со смысловыми глаголами в прошедшем простом времени (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ast Simple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):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am, ate, danc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play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является вспомогательный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гол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di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5029200" y="4343400"/>
            <a:ext cx="1066680" cy="1967040"/>
          </a:xfrm>
          <a:prstGeom prst="downArrow">
            <a:avLst>
              <a:gd name="adj1" fmla="val 50000"/>
              <a:gd name="adj2" fmla="val 461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1127160" y="16002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193840" y="1600200"/>
            <a:ext cx="4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1" descr="animashki-multyashki-2634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2209680" y="4114800"/>
            <a:ext cx="2032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play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tball in the park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играл в футбол в пар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Общи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pl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tball in the pa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Альтернатив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pl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tbal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nis in the pa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Специаль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pl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tb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Вопрос к подлежащ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play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tball in the pa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66"/>
                </a:solidFill>
                <a:latin typeface="Arial"/>
              </a:rPr>
              <a:t>Разделитель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Arial"/>
              </a:rPr>
              <a:t>play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otball in the park,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0019-056-Igrat-v-futbol"/>
          <p:cNvPicPr/>
          <p:nvPr/>
        </p:nvPicPr>
        <p:blipFill>
          <a:blip r:embed="rId1"/>
          <a:stretch/>
        </p:blipFill>
        <p:spPr>
          <a:xfrm>
            <a:off x="7067520" y="2133720"/>
            <a:ext cx="2076480" cy="3867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Рисунок115"/>
          <p:cNvPicPr/>
          <p:nvPr/>
        </p:nvPicPr>
        <p:blipFill>
          <a:blip r:embed="rId2"/>
          <a:stretch/>
        </p:blipFill>
        <p:spPr>
          <a:xfrm rot="283800">
            <a:off x="6019560" y="533520"/>
            <a:ext cx="11430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000" spc="-1" strike="noStrike" u="sng">
                <a:solidFill>
                  <a:srgbClr val="330066"/>
                </a:solidFill>
                <a:uFillTx/>
                <a:latin typeface="Arial"/>
              </a:rPr>
              <a:t>at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sh.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 ел рыб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Общи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i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ea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s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Альтернативны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i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ea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sh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ea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Специальны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i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ea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Вопрос к подлежащем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0" lang="en-US" sz="3000" spc="-1" strike="noStrike" u="sng">
                <a:solidFill>
                  <a:srgbClr val="330066"/>
                </a:solidFill>
                <a:uFillTx/>
                <a:latin typeface="Arial"/>
              </a:rPr>
              <a:t>at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s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Разделительный вопр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000" spc="-1" strike="noStrike" u="sng">
                <a:solidFill>
                  <a:srgbClr val="330066"/>
                </a:solidFill>
                <a:uFillTx/>
                <a:latin typeface="Arial"/>
              </a:rPr>
              <a:t>at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sh,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didn’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143000" y="228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523880" y="434340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219320" y="5410080"/>
            <a:ext cx="4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1812960" y="13716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1889280" y="236232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2743200" y="33526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1" descr="animashki-koshki-978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410080" y="2133720"/>
            <a:ext cx="2352960" cy="2371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2" descr="animashki-jivotnie-3778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6781680" y="44956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Разделительный вопрос.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ag-question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(не так ли).</a:t>
            </a:r>
            <a:br>
              <a:rPr sz="32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зделительные Вопросы, или Question Tags — это вопросы, которые используются для выражения сомнения, удивления и требуют подтверждения или опровержения сказанного. Задавая разделительные вопросы в английском языке, говорящий не стремится получить дополнительную информацию, а просто ищет согласия или несогласия со сказанным.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зделительные вопросы (Question Tags) получили свое название благодаря тому, что они всегда разделены запятой на две части. Первая часть всегда состоит из повествовательного предложения, а вторая представляет собой краткий общий вопрос (Tag). Вопрос-хвостик в конце предложения, или Tag, на русский язык переводится по-разному: «не так ли?», «не правда ли?», «да?», «хорошо?».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ствовательное предложение в первой части вопроса всегда произносится с понижающейся интонацией. Если говорящий задает разделительный вопрос с целью получить подтверждение или опровержение (т.е. вопрос действительно является вопросом), то вторая часть вопроса будет иметь повышающеюся интонацию. Если вопрос имеет риторический характер, то во второй части интонация будет понижатьс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делительные вопросы очень часто употребляются в разговорной речи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а образования Разделительных Вопросов</a:t>
            </a:r>
            <a:br>
              <a:rPr sz="4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ы уже знаем, разделительный вопрос состоит из двух частей. Для того чтобы сформулировать разделительный вопрос, для начала необходимо составить просто повествовательное предложение в утвердительной или отрицательной форме, затем поставить запятую и добавить краткий общий вопрос к этому предложению, или по-другому «Tag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мните основное правило Разделительных Вопро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первая часть вопроса утвердительная, то «Tag» − отрицательный. И наоборот: если первая часть вопроса отрицательная, то «Tag» — положитель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V (+) …, tag (-)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 (-) …, tag (+)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he is at home, isn’t sh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+) 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he isn’t at home, is sh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-) (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_x000b__x000b__x000b_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Tag» состоит из вспомогательного или модального глагола из первой части предложения и личного местоимения. Все довольно таки просто. Основная сложность разделительных вопросов заключается именно в правильном составлении этого маленького хвостика («Tag»). Чтобы не запутаться, запомните несколько нехитрых правил: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Если в первой части предложения присутствуют вспомогательные или модальные глаголы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is, are, has got, have got, can. must, should, ought to, will, shall),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а также глаголы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to be 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to have (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 значении «обладать»), то в «хвостике» будут использоваться эти же самые глаголы, но с противоположным зна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 sister is a very good dentist, isn’t she? —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я сестра очень хороший дантист, не так 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not writing now, are they? —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сейчас не пишут, прав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m has got much money, hasn’t he? —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 Джима много денег, не так 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ga can’t swim fast, can she? —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ьга не умеет быстро плавать, 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must come to University in time, mustn’t they? —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уденты должны приходить в университет вовремя, не так 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cross the street at the green light, won’t you? —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 перейдешь дорогу на зеленый свет, да?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06"/>
            </a:gs>
            <a:gs pos="50000">
              <a:srgbClr val="f6a20a"/>
            </a:gs>
            <a:gs pos="100000">
              <a:srgbClr val="fafa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6080" y="-36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Учимся задавать вопросы</a:t>
            </a: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4" name="Picture 6" descr="расположение-ключевых-слов"/>
          <p:cNvPicPr/>
          <p:nvPr/>
        </p:nvPicPr>
        <p:blipFill>
          <a:blip r:embed="rId1"/>
          <a:stretch/>
        </p:blipFill>
        <p:spPr>
          <a:xfrm rot="21241200">
            <a:off x="3647880" y="2590920"/>
            <a:ext cx="5495760" cy="4022640"/>
          </a:xfrm>
          <a:prstGeom prst="rect">
            <a:avLst/>
          </a:prstGeom>
          <a:ln w="0">
            <a:noFill/>
          </a:ln>
        </p:spPr>
      </p:pic>
      <p:sp>
        <p:nvSpPr>
          <p:cNvPr id="155" name="Line 7"/>
          <p:cNvSpPr/>
          <p:nvPr/>
        </p:nvSpPr>
        <p:spPr>
          <a:xfrm flipH="1">
            <a:off x="7467120" y="3048120"/>
            <a:ext cx="38124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 rot="21170400">
            <a:off x="7315200" y="2057400"/>
            <a:ext cx="609480" cy="838080"/>
          </a:xfrm>
          <a:custGeom>
            <a:avLst/>
            <a:gdLst>
              <a:gd name="textAreaLeft" fmla="*/ 89280 w 609480"/>
              <a:gd name="textAreaRight" fmla="*/ 520200 w 609480"/>
              <a:gd name="textAreaTop" fmla="*/ 122760 h 838080"/>
              <a:gd name="textAreaBottom" fmla="*/ 7153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0_a4efb_a2a96310_XL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533520" y="2819520"/>
            <a:ext cx="2914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. Если в первой части предложения нет ни вспомогательных, ни модальных глаголов, то в «хвостике» будет использоваться вспомогательный глагол do. Если основной глагол в первой части предложения стоит во времени Present Simple, то глагол do в «хвостике» будет иметь форму do (don't) или does (doesn't). Если основной глагол стоит в Past Simple, то в «хвостике» — did (didn'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lga met her boy-friend yesterday, didn’t she? — Ольга встретила своего парня вчера, прав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Father didn’t buy car last week, did he? — Папа не покупал машину на прошлой неделе, не так 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 go swimming every Friday, don’t I? — Я хочу на плавание каждую пятницу, не так 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our brother doesn’t like vegetables, does he? — Твой брат не любит овощи, не так л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ey worked faster two days ago, didn’t they? — Они работали быстрее два дня назад, прав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a6f06"/>
                </a:solidFill>
                <a:latin typeface="Arial"/>
              </a:rPr>
              <a:t>THE END</a:t>
            </a:r>
            <a:endParaRPr b="1" lang="en-US" sz="7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6" name="Picture 4" descr="974082771fbaabf4a347e5608175d997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191120" y="2209680"/>
            <a:ext cx="3695760" cy="3695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Рисунок27"/>
          <p:cNvPicPr/>
          <p:nvPr/>
        </p:nvPicPr>
        <p:blipFill>
          <a:blip r:embed="rId2"/>
          <a:stretch/>
        </p:blipFill>
        <p:spPr>
          <a:xfrm>
            <a:off x="1143000" y="3352680"/>
            <a:ext cx="2349360" cy="2514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animashki-babochki-476"/>
          <p:cNvPicPr/>
          <p:nvPr/>
        </p:nvPicPr>
        <p:blipFill>
          <a:blip r:embed="rId3"/>
          <a:stretch/>
        </p:blipFill>
        <p:spPr>
          <a:xfrm>
            <a:off x="5334120" y="457200"/>
            <a:ext cx="11714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ипы вопросов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ий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question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es/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es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ьтернативный вопро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 выбора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альный вопро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чинается со специального вопросительного слов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ere / What / W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question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 к подлежащем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чинается с вопросительного слова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зависимости от того одушевленный или неодушевленный предмет является подлежащи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ительный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-quest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так 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0_85500_32531758_XL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019920" y="609480"/>
            <a:ext cx="18748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опросы с глаголами- связками: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3886200" y="4495680"/>
            <a:ext cx="1066680" cy="1967040"/>
          </a:xfrm>
          <a:prstGeom prst="downArrow">
            <a:avLst>
              <a:gd name="adj1" fmla="val 50000"/>
              <a:gd name="adj2" fmla="val 461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63638337_0a06fee3e43953890e7062ac79da56ea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981080" y="1981080"/>
            <a:ext cx="7162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5638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student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Он студ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Общи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e a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Альтернатив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e a studen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pup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Специаль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Вопрос к подлежащ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stud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Разделитель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studen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sn’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Рисунок101"/>
          <p:cNvPicPr/>
          <p:nvPr/>
        </p:nvPicPr>
        <p:blipFill>
          <a:blip r:embed="rId1"/>
          <a:stretch/>
        </p:blipFill>
        <p:spPr>
          <a:xfrm>
            <a:off x="5715000" y="762120"/>
            <a:ext cx="2104920" cy="2104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animashki-knigi-174"/>
          <p:cNvPicPr/>
          <p:nvPr/>
        </p:nvPicPr>
        <p:blipFill>
          <a:blip r:embed="rId2"/>
          <a:stretch/>
        </p:blipFill>
        <p:spPr>
          <a:xfrm>
            <a:off x="5867280" y="3505320"/>
            <a:ext cx="2495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опросы с модальными глаголами: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3886200" y="4495680"/>
            <a:ext cx="1066680" cy="1967040"/>
          </a:xfrm>
          <a:prstGeom prst="downArrow">
            <a:avLst>
              <a:gd name="adj1" fmla="val 50000"/>
              <a:gd name="adj2" fmla="val 4610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ANIMASHKI30"/>
          <p:cNvPicPr/>
          <p:nvPr/>
        </p:nvPicPr>
        <p:blipFill>
          <a:blip r:embed="rId1"/>
          <a:stretch/>
        </p:blipFill>
        <p:spPr>
          <a:xfrm>
            <a:off x="4800600" y="1600200"/>
            <a:ext cx="3632040" cy="3981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animashki-babochki-503"/>
          <p:cNvPicPr/>
          <p:nvPr/>
        </p:nvPicPr>
        <p:blipFill>
          <a:blip r:embed="rId2"/>
          <a:stretch/>
        </p:blipFill>
        <p:spPr>
          <a:xfrm>
            <a:off x="2971800" y="14479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c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kate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умеет кататься на конь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Общи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C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kat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Альтернатив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C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skat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Специаль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c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sk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Вопрос к подлежащ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c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k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Разделительный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c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kate ,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can’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animashki-mishki-415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5334120" y="2666880"/>
            <a:ext cx="3429000" cy="3232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0_97aef_b5b77bca_L"/>
          <p:cNvPicPr/>
          <p:nvPr/>
        </p:nvPicPr>
        <p:blipFill>
          <a:blip r:embed="rId2"/>
          <a:stretch/>
        </p:blipFill>
        <p:spPr>
          <a:xfrm>
            <a:off x="4800600" y="16765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0_97aef_b5b77bca_L"/>
          <p:cNvPicPr/>
          <p:nvPr/>
        </p:nvPicPr>
        <p:blipFill>
          <a:blip r:embed="rId3"/>
          <a:stretch/>
        </p:blipFill>
        <p:spPr>
          <a:xfrm>
            <a:off x="6324480" y="22096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0_97aef_b5b77bca_L"/>
          <p:cNvPicPr/>
          <p:nvPr/>
        </p:nvPicPr>
        <p:blipFill>
          <a:blip r:embed="rId4"/>
          <a:stretch/>
        </p:blipFill>
        <p:spPr>
          <a:xfrm>
            <a:off x="4724280" y="38098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0_97aef_b5b77bca_L"/>
          <p:cNvPicPr/>
          <p:nvPr/>
        </p:nvPicPr>
        <p:blipFill>
          <a:blip r:embed="rId5"/>
          <a:stretch/>
        </p:blipFill>
        <p:spPr>
          <a:xfrm>
            <a:off x="7543800" y="33526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0_97aef_b5b77bca_L"/>
          <p:cNvPicPr/>
          <p:nvPr/>
        </p:nvPicPr>
        <p:blipFill>
          <a:blip r:embed="rId6"/>
          <a:stretch/>
        </p:blipFill>
        <p:spPr>
          <a:xfrm>
            <a:off x="7010280" y="9144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0_97aef_b5b77bca_L"/>
          <p:cNvPicPr/>
          <p:nvPr/>
        </p:nvPicPr>
        <p:blipFill>
          <a:blip r:embed="rId7"/>
          <a:stretch/>
        </p:blipFill>
        <p:spPr>
          <a:xfrm>
            <a:off x="4800600" y="16765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0_97aef_b5b77bca_L"/>
          <p:cNvPicPr/>
          <p:nvPr/>
        </p:nvPicPr>
        <p:blipFill>
          <a:blip r:embed="rId8"/>
          <a:stretch/>
        </p:blipFill>
        <p:spPr>
          <a:xfrm>
            <a:off x="8001000" y="22096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0_97aef_b5b77bca_L"/>
          <p:cNvPicPr/>
          <p:nvPr/>
        </p:nvPicPr>
        <p:blipFill>
          <a:blip r:embed="rId9"/>
          <a:stretch/>
        </p:blipFill>
        <p:spPr>
          <a:xfrm>
            <a:off x="4952880" y="53341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0_97aef_b5b77bca_L"/>
          <p:cNvPicPr/>
          <p:nvPr/>
        </p:nvPicPr>
        <p:blipFill>
          <a:blip r:embed="rId10"/>
          <a:stretch/>
        </p:blipFill>
        <p:spPr>
          <a:xfrm>
            <a:off x="8153280" y="480060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Вопросы со смысловыми глаголами в настоящем простом времени (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esent Simple)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: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im, run, dance e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является вспомогательный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гол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D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DO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3124080" y="4343400"/>
            <a:ext cx="1067040" cy="1967040"/>
          </a:xfrm>
          <a:prstGeom prst="downArrow">
            <a:avLst>
              <a:gd name="adj1" fmla="val 50000"/>
              <a:gd name="adj2" fmla="val 4608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animashki-sobaki-890"/>
          <p:cNvPicPr/>
          <p:nvPr/>
        </p:nvPicPr>
        <p:blipFill>
          <a:blip r:embed="rId1"/>
          <a:stretch/>
        </p:blipFill>
        <p:spPr>
          <a:xfrm>
            <a:off x="4648320" y="4267080"/>
            <a:ext cx="19666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like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ы любишь тор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Общий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li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k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Альтернативный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li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ke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hee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пециальный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li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Вопрос к подлежащ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like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k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Разделительный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li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kes,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on’t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animashki-mishki-414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181480" y="2362320"/>
            <a:ext cx="3200400" cy="2779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animashki-babochki-493"/>
          <p:cNvPicPr/>
          <p:nvPr/>
        </p:nvPicPr>
        <p:blipFill>
          <a:blip r:embed="rId2"/>
          <a:stretch/>
        </p:blipFill>
        <p:spPr>
          <a:xfrm rot="634200">
            <a:off x="3809520" y="990720"/>
            <a:ext cx="9525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01-12-31T21:48:2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