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gif" ContentType="image/gif"/>
  <Override PartName="/ppt/media/image13.gif" ContentType="image/gif"/>
  <Override PartName="/ppt/media/image8.gif" ContentType="image/gif"/>
  <Override PartName="/ppt/media/image12.gif" ContentType="image/gif"/>
  <Override PartName="/ppt/media/image7.gif" ContentType="image/gif"/>
  <Override PartName="/ppt/media/image11.gif" ContentType="image/gif"/>
  <Override PartName="/ppt/media/image6.gif" ContentType="image/gif"/>
  <Override PartName="/ppt/media/image10.gif" ContentType="image/gif"/>
  <Override PartName="/ppt/media/image5.gif" ContentType="image/gif"/>
  <Override PartName="/ppt/media/image4.gif" ContentType="image/gif"/>
  <Override PartName="/ppt/media/image3.png" ContentType="image/png"/>
  <Override PartName="/ppt/media/image24.gif" ContentType="image/gif"/>
  <Override PartName="/ppt/media/image23.png" ContentType="image/png"/>
  <Override PartName="/ppt/media/image20.gif" ContentType="image/gif"/>
  <Override PartName="/ppt/media/image18.gif" ContentType="image/gif"/>
  <Override PartName="/ppt/media/image17.gif" ContentType="image/gif"/>
  <Override PartName="/ppt/media/image16.gif" ContentType="image/gif"/>
  <Override PartName="/ppt/media/image15.gif" ContentType="image/gif"/>
  <Override PartName="/ppt/media/image14.gif" ContentType="image/gif"/>
  <Override PartName="/ppt/media/image1.png" ContentType="image/png"/>
  <Override PartName="/ppt/media/image21.gif" ContentType="image/gif"/>
  <Override PartName="/ppt/media/image19.gif" ContentType="image/gif"/>
  <Override PartName="/ppt/media/image2.png" ContentType="image/png"/>
  <Override PartName="/ppt/media/image22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865E9-C564-4239-B7B3-52B507C33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E54D2-796F-4AD6-AC10-890E0B0D5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48C0A-2EA5-488A-803F-41F92A7A5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FB69E-FCD4-4919-9799-E2023B2C1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85B56-9F18-405D-BEDA-DADEB7E76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5F1AA-4B02-4D20-8A30-4BCDB7611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A7C12-1124-4264-A13D-EF9912334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7351E-2E6C-4B85-AA81-9AB9E4DB1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2FB51-9806-4C8E-8A2E-785284C7E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D1FDF-CAB1-4F5B-8F40-0569BEA33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B55AF-337F-4BBA-979B-B1EBBEA38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20FC7-AE16-4C08-927E-C3C854418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C8608-59D6-4805-8390-FC9736560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B3201-8783-4F39-ACCD-84180419D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BE93C-2D2C-4A05-925B-A0B6D4D4B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14E27-2CA3-41BE-8FA5-CE4E7B2F3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7ED37-E7D6-47CB-B2FD-7B631A1DC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18D20-6E58-46E8-A644-B5C20D197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745C2-A70E-42C9-8224-2F476B316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55B4E-86EF-4EBF-865D-85AEDD1AD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C5227-0DB9-4641-B8EC-793C83129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4C410-A717-439F-AB25-EAC8A0CDD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E10C5-E6CD-457E-98CA-ACA94F916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71919-9EBA-450B-BFE5-A1D8A667D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afa06"/>
            </a:gs>
            <a:gs pos="100000">
              <a:srgbClr val="df54e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D990C-2BC7-4DAE-8A2F-4F55C98FA62B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afa06"/>
            </a:gs>
            <a:gs pos="100000">
              <a:srgbClr val="df54e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090B1-4BB8-43CF-AF9A-D3482C610B77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s://englishfull.ru/wp-content/uploads/2015/01/Question_tags.jpg" TargetMode="Externa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image" Target="../media/image23.png"/><Relationship Id="rId3" Type="http://schemas.openxmlformats.org/officeDocument/2006/relationships/image" Target="../media/image24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gif"/><Relationship Id="rId3" Type="http://schemas.openxmlformats.org/officeDocument/2006/relationships/image" Target="../media/image11.gif"/><Relationship Id="rId4" Type="http://schemas.openxmlformats.org/officeDocument/2006/relationships/image" Target="../media/image11.gif"/><Relationship Id="rId5" Type="http://schemas.openxmlformats.org/officeDocument/2006/relationships/image" Target="../media/image11.gif"/><Relationship Id="rId6" Type="http://schemas.openxmlformats.org/officeDocument/2006/relationships/image" Target="../media/image11.gif"/><Relationship Id="rId7" Type="http://schemas.openxmlformats.org/officeDocument/2006/relationships/image" Target="../media/image11.gif"/><Relationship Id="rId8" Type="http://schemas.openxmlformats.org/officeDocument/2006/relationships/image" Target="../media/image11.gif"/><Relationship Id="rId9" Type="http://schemas.openxmlformats.org/officeDocument/2006/relationships/image" Target="../media/image11.gif"/><Relationship Id="rId10" Type="http://schemas.openxmlformats.org/officeDocument/2006/relationships/image" Target="../media/image11.gif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QUESTIONS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50" name="Picture 6" descr="1213"/>
          <p:cNvPicPr/>
          <p:nvPr/>
        </p:nvPicPr>
        <p:blipFill>
          <a:blip r:embed="rId1"/>
          <a:stretch/>
        </p:blipFill>
        <p:spPr>
          <a:xfrm>
            <a:off x="304920" y="228600"/>
            <a:ext cx="2857320" cy="251460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7"/>
          <p:cNvSpPr/>
          <p:nvPr/>
        </p:nvSpPr>
        <p:spPr>
          <a:xfrm>
            <a:off x="3352680" y="601992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66"/>
                </a:solidFill>
                <a:latin typeface="Arial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ять типов вопрос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304920" y="5335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he 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sing</a:t>
            </a:r>
            <a:r>
              <a:rPr b="1" lang="en-US" sz="3000" spc="-1" strike="noStrike" u="sng">
                <a:solidFill>
                  <a:srgbClr val="ff3300"/>
                </a:solidFill>
                <a:uFillTx/>
                <a:latin typeface="Arial"/>
              </a:rPr>
              <a:t>s</a:t>
            </a:r>
            <a:r>
              <a:rPr b="0" lang="en-US" sz="30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ell.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-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на хорошо поет 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330066"/>
                </a:solidFill>
                <a:latin typeface="Arial"/>
              </a:rPr>
              <a:t>Общий вопрос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3300"/>
                </a:solidFill>
                <a:latin typeface="Arial"/>
              </a:rPr>
              <a:t>Doe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he 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sing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ell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330066"/>
                </a:solidFill>
                <a:latin typeface="Arial"/>
              </a:rPr>
              <a:t>Альтернативный вопрос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3300"/>
                </a:solidFill>
                <a:latin typeface="Arial"/>
              </a:rPr>
              <a:t>Doe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he 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sing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or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ance well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330066"/>
                </a:solidFill>
                <a:latin typeface="Arial"/>
              </a:rPr>
              <a:t>Специальный вопрос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w </a:t>
            </a:r>
            <a:r>
              <a:rPr b="0" lang="en-US" sz="3000" spc="-1" strike="noStrike">
                <a:solidFill>
                  <a:srgbClr val="ff3300"/>
                </a:solidFill>
                <a:latin typeface="Arial"/>
              </a:rPr>
              <a:t>doe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he 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sing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330066"/>
                </a:solidFill>
                <a:latin typeface="Arial"/>
              </a:rPr>
              <a:t>Вопрос к подлежащему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o 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sing</a:t>
            </a:r>
            <a:r>
              <a:rPr b="1" lang="en-US" sz="3000" spc="-1" strike="noStrike" u="sng">
                <a:solidFill>
                  <a:srgbClr val="ff3300"/>
                </a:solidFill>
                <a:uFillTx/>
                <a:latin typeface="Arial"/>
              </a:rPr>
              <a:t>s</a:t>
            </a:r>
            <a:r>
              <a:rPr b="0" lang="en-US" sz="30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ell.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330066"/>
                </a:solidFill>
                <a:latin typeface="Arial"/>
              </a:rPr>
              <a:t>Разделительный вопрос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he 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sing</a:t>
            </a:r>
            <a:r>
              <a:rPr b="1" lang="en-US" sz="3000" spc="-1" strike="noStrike" u="sng">
                <a:solidFill>
                  <a:srgbClr val="ff3300"/>
                </a:solidFill>
                <a:uFillTx/>
                <a:latin typeface="Arial"/>
              </a:rPr>
              <a:t>s</a:t>
            </a:r>
            <a:r>
              <a:rPr b="0" lang="en-US" sz="30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ell, </a:t>
            </a:r>
            <a:r>
              <a:rPr b="0" lang="en-US" sz="3000" spc="-1" strike="noStrike">
                <a:solidFill>
                  <a:srgbClr val="ff3300"/>
                </a:solidFill>
                <a:latin typeface="Arial"/>
              </a:rPr>
              <a:t>doesn’t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he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5"/>
          <p:cNvSpPr/>
          <p:nvPr/>
        </p:nvSpPr>
        <p:spPr>
          <a:xfrm>
            <a:off x="4348080" y="3078000"/>
            <a:ext cx="44928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7" descr="animashki-kukly-5643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5867280" y="1981080"/>
            <a:ext cx="2525760" cy="38862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25" descr="animashki-muzika-1135"/>
          <p:cNvPicPr/>
          <p:nvPr/>
        </p:nvPicPr>
        <p:blipFill>
          <a:blip r:embed="rId2"/>
          <a:stretch/>
        </p:blipFill>
        <p:spPr>
          <a:xfrm>
            <a:off x="4800600" y="609480"/>
            <a:ext cx="2819520" cy="160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1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1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19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543800" cy="2209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330066"/>
                </a:solidFill>
                <a:latin typeface="Arial"/>
              </a:rPr>
              <a:t>Вопросы со смысловыми глаголами в прошедшем простом времени (</a:t>
            </a: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Past Simple</a:t>
            </a:r>
            <a:r>
              <a:rPr b="1" lang="ru-RU" sz="3500" spc="-1" strike="noStrike">
                <a:solidFill>
                  <a:srgbClr val="330066"/>
                </a:solidFill>
                <a:latin typeface="Arial"/>
              </a:rPr>
              <a:t>):</a:t>
            </a:r>
            <a:br>
              <a:rPr sz="3500"/>
            </a:b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28600" y="175212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wam, ate, danc</a:t>
            </a: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ed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, play</a:t>
            </a: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ed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et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оявляется вспомогательный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глагол </a:t>
            </a:r>
            <a:r>
              <a:rPr b="1" lang="en-US" sz="5400" spc="-1" strike="noStrike">
                <a:solidFill>
                  <a:srgbClr val="ff3300"/>
                </a:solidFill>
                <a:latin typeface="Arial"/>
              </a:rPr>
              <a:t>di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utoShape 4"/>
          <p:cNvSpPr/>
          <p:nvPr/>
        </p:nvSpPr>
        <p:spPr>
          <a:xfrm>
            <a:off x="5029200" y="4343400"/>
            <a:ext cx="1066680" cy="1967040"/>
          </a:xfrm>
          <a:prstGeom prst="downArrow">
            <a:avLst>
              <a:gd name="adj1" fmla="val 50000"/>
              <a:gd name="adj2" fmla="val 4610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8"/>
          <p:cNvSpPr/>
          <p:nvPr/>
        </p:nvSpPr>
        <p:spPr>
          <a:xfrm>
            <a:off x="1127160" y="1600200"/>
            <a:ext cx="47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V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0"/>
          <p:cNvSpPr/>
          <p:nvPr/>
        </p:nvSpPr>
        <p:spPr>
          <a:xfrm>
            <a:off x="2193840" y="1600200"/>
            <a:ext cx="46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V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21" descr="animashki-multyashki-2634"/>
          <p:cNvPicPr/>
          <p:nvPr/>
        </p:nvPicPr>
        <p:blipFill>
          <a:blip r:embed="rId1">
            <a:lum contrast="54000"/>
          </a:blip>
          <a:stretch/>
        </p:blipFill>
        <p:spPr>
          <a:xfrm>
            <a:off x="2209680" y="4114800"/>
            <a:ext cx="203220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20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457200" y="457200"/>
            <a:ext cx="8229600" cy="567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  </a:t>
            </a:r>
            <a:r>
              <a:rPr b="0" lang="en-US" sz="2800" spc="-1" strike="noStrike" u="sng">
                <a:solidFill>
                  <a:srgbClr val="00ff00"/>
                </a:solidFill>
                <a:uFillTx/>
                <a:latin typeface="Arial"/>
              </a:rPr>
              <a:t>play</a:t>
            </a:r>
            <a:r>
              <a:rPr b="0" lang="en-US" sz="2800" spc="-1" strike="noStrike" u="sng">
                <a:solidFill>
                  <a:srgbClr val="ff3300"/>
                </a:solidFill>
                <a:uFillTx/>
                <a:latin typeface="Arial"/>
              </a:rPr>
              <a:t>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otball in the park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н играл в футбол в парк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0066"/>
                </a:solidFill>
                <a:latin typeface="Arial"/>
              </a:rPr>
              <a:t>Общий вопрос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Di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 </a:t>
            </a:r>
            <a:r>
              <a:rPr b="0" lang="en-US" sz="2800" spc="-1" strike="noStrike" u="sng">
                <a:solidFill>
                  <a:srgbClr val="00ff00"/>
                </a:solidFill>
                <a:uFillTx/>
                <a:latin typeface="Arial"/>
              </a:rPr>
              <a:t>pla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otball in the park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0066"/>
                </a:solidFill>
                <a:latin typeface="Arial"/>
              </a:rPr>
              <a:t>Альтернативный вопрос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Di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e </a:t>
            </a:r>
            <a:r>
              <a:rPr b="0" lang="en-US" sz="2800" spc="-1" strike="noStrike" u="sng">
                <a:solidFill>
                  <a:srgbClr val="00ff00"/>
                </a:solidFill>
                <a:uFillTx/>
                <a:latin typeface="Arial"/>
              </a:rPr>
              <a:t>pla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otball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nis in the park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0066"/>
                </a:solidFill>
                <a:latin typeface="Arial"/>
              </a:rPr>
              <a:t>Специальный вопрос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di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 </a:t>
            </a:r>
            <a:r>
              <a:rPr b="0" lang="en-US" sz="2800" spc="-1" strike="noStrike" u="sng">
                <a:solidFill>
                  <a:srgbClr val="00ff00"/>
                </a:solidFill>
                <a:uFillTx/>
                <a:latin typeface="Arial"/>
              </a:rPr>
              <a:t>pla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otbal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0066"/>
                </a:solidFill>
                <a:latin typeface="Arial"/>
              </a:rPr>
              <a:t>Вопрос к подлежащему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o </a:t>
            </a:r>
            <a:r>
              <a:rPr b="0" lang="en-US" sz="2800" spc="-1" strike="noStrike" u="sng">
                <a:solidFill>
                  <a:srgbClr val="00ff00"/>
                </a:solidFill>
                <a:uFillTx/>
                <a:latin typeface="Arial"/>
              </a:rPr>
              <a:t>play</a:t>
            </a:r>
            <a:r>
              <a:rPr b="0" lang="en-US" sz="2800" spc="-1" strike="noStrike" u="sng">
                <a:solidFill>
                  <a:srgbClr val="ff3300"/>
                </a:solidFill>
                <a:uFillTx/>
                <a:latin typeface="Arial"/>
              </a:rPr>
              <a:t>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otball in the park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0066"/>
                </a:solidFill>
                <a:latin typeface="Arial"/>
              </a:rPr>
              <a:t>Разделительный вопрос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  </a:t>
            </a:r>
            <a:r>
              <a:rPr b="0" lang="en-US" sz="2800" spc="-1" strike="noStrike" u="sng">
                <a:solidFill>
                  <a:srgbClr val="00ff00"/>
                </a:solidFill>
                <a:uFillTx/>
                <a:latin typeface="Arial"/>
              </a:rPr>
              <a:t>play</a:t>
            </a:r>
            <a:r>
              <a:rPr b="0" lang="en-US" sz="2800" spc="-1" strike="noStrike" u="sng">
                <a:solidFill>
                  <a:srgbClr val="ff3300"/>
                </a:solidFill>
                <a:uFillTx/>
                <a:latin typeface="Arial"/>
              </a:rPr>
              <a:t>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otball in the park,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didn’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8" descr="0019-056-Igrat-v-futbol"/>
          <p:cNvPicPr/>
          <p:nvPr/>
        </p:nvPicPr>
        <p:blipFill>
          <a:blip r:embed="rId1"/>
          <a:stretch/>
        </p:blipFill>
        <p:spPr>
          <a:xfrm>
            <a:off x="7067520" y="2133720"/>
            <a:ext cx="2076480" cy="386712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9" descr="Рисунок115"/>
          <p:cNvPicPr/>
          <p:nvPr/>
        </p:nvPicPr>
        <p:blipFill>
          <a:blip r:embed="rId2"/>
          <a:stretch/>
        </p:blipFill>
        <p:spPr>
          <a:xfrm rot="283800">
            <a:off x="6019560" y="533520"/>
            <a:ext cx="114300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0" dur="80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1" dur="80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2" dur="80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7" dur="80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8" dur="80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9" dur="80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4" dur="80"/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5" dur="80"/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6" dur="80"/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1" dur="80"/>
                                        <p:tgtEl>
                                          <p:spTgt spid="2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2" dur="80"/>
                                        <p:tgtEl>
                                          <p:spTgt spid="2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3" dur="80"/>
                                        <p:tgtEl>
                                          <p:spTgt spid="2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8" dur="80"/>
                                        <p:tgtEl>
                                          <p:spTgt spid="2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9" dur="80"/>
                                        <p:tgtEl>
                                          <p:spTgt spid="2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0" dur="80"/>
                                        <p:tgtEl>
                                          <p:spTgt spid="2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64" dur="200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200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380880" y="533520"/>
            <a:ext cx="8229600" cy="567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e </a:t>
            </a:r>
            <a:r>
              <a:rPr b="0" lang="en-US" sz="3000" spc="-1" strike="noStrike" u="sng">
                <a:solidFill>
                  <a:srgbClr val="330066"/>
                </a:solidFill>
                <a:uFillTx/>
                <a:latin typeface="Arial"/>
              </a:rPr>
              <a:t>ate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sh. –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н ел рыбу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330066"/>
                </a:solidFill>
                <a:latin typeface="Arial"/>
              </a:rPr>
              <a:t>Общий вопрос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3300"/>
                </a:solidFill>
                <a:latin typeface="Arial"/>
              </a:rPr>
              <a:t>Did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e </a:t>
            </a:r>
            <a:r>
              <a:rPr b="0" lang="en-US" sz="3000" spc="-1" strike="noStrike" u="sng">
                <a:solidFill>
                  <a:srgbClr val="0000ff"/>
                </a:solidFill>
                <a:uFillTx/>
                <a:latin typeface="Arial"/>
              </a:rPr>
              <a:t>eat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fish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330066"/>
                </a:solidFill>
                <a:latin typeface="Arial"/>
              </a:rPr>
              <a:t>Альтернативный вопрос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3300"/>
                </a:solidFill>
                <a:latin typeface="Arial"/>
              </a:rPr>
              <a:t>Did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he </a:t>
            </a:r>
            <a:r>
              <a:rPr b="0" lang="en-US" sz="3000" spc="-1" strike="noStrike" u="sng">
                <a:solidFill>
                  <a:srgbClr val="0000ff"/>
                </a:solidFill>
                <a:uFillTx/>
                <a:latin typeface="Arial"/>
              </a:rPr>
              <a:t>eat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fish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or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meat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330066"/>
                </a:solidFill>
                <a:latin typeface="Arial"/>
              </a:rPr>
              <a:t>Специальный вопрос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at </a:t>
            </a:r>
            <a:r>
              <a:rPr b="0" lang="en-US" sz="3000" spc="-1" strike="noStrike">
                <a:solidFill>
                  <a:srgbClr val="ff3300"/>
                </a:solidFill>
                <a:latin typeface="Arial"/>
              </a:rPr>
              <a:t>did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e </a:t>
            </a:r>
            <a:r>
              <a:rPr b="0" lang="en-US" sz="3000" spc="-1" strike="noStrike" u="sng">
                <a:solidFill>
                  <a:srgbClr val="0000ff"/>
                </a:solidFill>
                <a:uFillTx/>
                <a:latin typeface="Arial"/>
              </a:rPr>
              <a:t>eat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330066"/>
                </a:solidFill>
                <a:latin typeface="Arial"/>
              </a:rPr>
              <a:t>Вопрос к подлежащему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o </a:t>
            </a:r>
            <a:r>
              <a:rPr b="0" lang="en-US" sz="3000" spc="-1" strike="noStrike" u="sng">
                <a:solidFill>
                  <a:srgbClr val="330066"/>
                </a:solidFill>
                <a:uFillTx/>
                <a:latin typeface="Arial"/>
              </a:rPr>
              <a:t>ate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sh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330066"/>
                </a:solidFill>
                <a:latin typeface="Arial"/>
              </a:rPr>
              <a:t>Разделительный вопрос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e </a:t>
            </a:r>
            <a:r>
              <a:rPr b="0" lang="en-US" sz="3000" spc="-1" strike="noStrike" u="sng">
                <a:solidFill>
                  <a:srgbClr val="330066"/>
                </a:solidFill>
                <a:uFillTx/>
                <a:latin typeface="Arial"/>
              </a:rPr>
              <a:t>ate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sh, </a:t>
            </a:r>
            <a:r>
              <a:rPr b="0" lang="en-US" sz="3000" spc="-1" strike="noStrike">
                <a:solidFill>
                  <a:srgbClr val="ff3300"/>
                </a:solidFill>
                <a:latin typeface="Arial"/>
              </a:rPr>
              <a:t>didn’t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he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5"/>
          <p:cNvSpPr/>
          <p:nvPr/>
        </p:nvSpPr>
        <p:spPr>
          <a:xfrm>
            <a:off x="1143000" y="2286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V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8"/>
          <p:cNvSpPr/>
          <p:nvPr/>
        </p:nvSpPr>
        <p:spPr>
          <a:xfrm>
            <a:off x="1523880" y="4343400"/>
            <a:ext cx="54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V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9"/>
          <p:cNvSpPr/>
          <p:nvPr/>
        </p:nvSpPr>
        <p:spPr>
          <a:xfrm>
            <a:off x="1219320" y="5410080"/>
            <a:ext cx="46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V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10"/>
          <p:cNvSpPr/>
          <p:nvPr/>
        </p:nvSpPr>
        <p:spPr>
          <a:xfrm>
            <a:off x="1812960" y="1371600"/>
            <a:ext cx="3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11"/>
          <p:cNvSpPr/>
          <p:nvPr/>
        </p:nvSpPr>
        <p:spPr>
          <a:xfrm>
            <a:off x="1889280" y="2362320"/>
            <a:ext cx="33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13"/>
          <p:cNvSpPr/>
          <p:nvPr/>
        </p:nvSpPr>
        <p:spPr>
          <a:xfrm>
            <a:off x="2743200" y="3352680"/>
            <a:ext cx="3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21" descr="animashki-koshki-978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5410080" y="2133720"/>
            <a:ext cx="2352960" cy="237168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22" descr="animashki-jivotnie-3778"/>
          <p:cNvPicPr/>
          <p:nvPr/>
        </p:nvPicPr>
        <p:blipFill>
          <a:blip r:embed="rId2">
            <a:lum contrast="36000"/>
          </a:blip>
          <a:stretch/>
        </p:blipFill>
        <p:spPr>
          <a:xfrm>
            <a:off x="6781680" y="4495680"/>
            <a:ext cx="205740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3" dur="80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4" dur="80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5" dur="80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3" dur="80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4" dur="80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5" dur="80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20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3" dur="80"/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4" dur="80"/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5" dur="80"/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3" dur="80"/>
                                        <p:tgtEl>
                                          <p:spTgt spid="2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4" dur="80"/>
                                        <p:tgtEl>
                                          <p:spTgt spid="2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5" dur="80"/>
                                        <p:tgtEl>
                                          <p:spTgt spid="2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20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3" dur="80"/>
                                        <p:tgtEl>
                                          <p:spTgt spid="2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4" dur="80"/>
                                        <p:tgtEl>
                                          <p:spTgt spid="2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5" dur="80"/>
                                        <p:tgtEl>
                                          <p:spTgt spid="2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Разделительный вопрос.</a:t>
            </a:r>
            <a:br>
              <a:rPr sz="2800"/>
            </a:b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Tag-question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(не так ли).</a:t>
            </a:r>
            <a:br>
              <a:rPr sz="3200"/>
            </a:b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990720"/>
            <a:ext cx="8229600" cy="514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Разделительные Вопросы, или Question Tags — это вопросы, которые используются для выражения сомнения, удивления и требуют подтверждения или опровержения сказанного. Задавая разделительные вопросы в английском языке, говорящий не стремится получить дополнительную информацию, а просто ищет согласия или несогласия со сказанным.</a:t>
            </a:r>
            <a:br>
              <a:rPr sz="3000"/>
            </a:b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228240"/>
            <a:ext cx="8229600" cy="59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Разделительные вопросы (Question Tags) получили свое название благодаря тому, что они всегда разделены запятой на две части. Первая часть всегда состоит из повествовательного предложения, а вторая представляет собой краткий общий вопрос (Tag). Вопрос-хвостик в конце предложения, или Tag, на русский язык переводится по-разному: «не так ли?», «не правда ли?», «да?», «хорошо?».</a:t>
            </a:r>
            <a:br>
              <a:rPr sz="3000"/>
            </a:b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457200"/>
            <a:ext cx="8229600" cy="567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вествовательное предложение в первой части вопроса всегда произносится с понижающейся интонацией. Если говорящий задает разделительный вопрос с целью получить подтверждение или опровержение (т.е. вопрос действительно является вопросом), то вторая часть вопроса будет иметь повышающеюся интонацию. Если вопрос имеет риторический характер, то во второй части интонация будет понижаться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делительные вопросы очень часто употребляются в разговорной речи.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7543800" cy="960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авила образования Разделительных Вопросов</a:t>
            </a:r>
            <a:br>
              <a:rPr sz="4800"/>
            </a:b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066320"/>
            <a:ext cx="8229600" cy="506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 мы уже знаем, разделительный вопрос состоит из двух частей. Для того чтобы сформулировать разделительный вопрос, для начала необходимо составить просто повествовательное предложение в утвердительной или отрицательной форме, затем поставить запятую и добавить краткий общий вопрос к этому предложению, или по-другому «Tag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помните основное правило Разделительных Вопросов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Если первая часть вопроса утвердительная, то «Tag» − отрицательный. И наоборот: если первая часть вопроса отрицательная, то «Tag» — положительны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3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V (+) …, tag (-) 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V (-) …, tag (+)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пример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She is at home, isn’t sh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+) (-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She isn’t at home, is sh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-) (+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7e9ce8"/>
                </a:solidFill>
                <a:uFillTx/>
                <a:latin typeface="Arial"/>
                <a:hlinkClick r:id="rId1"/>
              </a:rPr>
              <a:t>_x000b__x000b__x000b_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066320"/>
            <a:ext cx="8229600" cy="506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«Tag» состоит из вспомогательного или модального глагола из первой части предложения и личного местоимения. Все довольно таки просто. Основная сложность разделительных вопросов заключается именно в правильном составлении этого маленького хвостика («Tag»). Чтобы не запутаться, запомните несколько нехитрых правил:</a:t>
            </a:r>
            <a:br>
              <a:rPr sz="3000"/>
            </a:b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457200" y="533520"/>
            <a:ext cx="8229600" cy="55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1. 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Если в первой части предложения присутствуют вспомогательные или модальные глаголы (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is, are, has got, have got, can. must, should, ought to, will, shall), 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а также глаголы 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to be 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или 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to have (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в значении «обладать»), то в «хвостике» будут использоваться эти же самые глаголы, но с противоположным знак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р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 sister is a very good dentist, isn’t she? —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я сестра очень хороший дантист, не так л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y are not writing now, are they? —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ни сейчас не пишут, правд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m has got much money, hasn’t he? —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 Джима много денег, не так л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ga can’t swim fast, can she? —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льга не умеет быстро плавать, д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udents must come to University in time, mustn’t they? —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уденты должны приходить в университет вовремя, не так л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will cross the street at the green light, won’t you? —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ы перейдешь дорогу на зеленый свет, да?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afa06"/>
            </a:gs>
            <a:gs pos="50000">
              <a:srgbClr val="f6a20a"/>
            </a:gs>
            <a:gs pos="100000">
              <a:srgbClr val="fafa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16080" y="-36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Учимся задавать вопросы</a:t>
            </a:r>
            <a:r>
              <a:rPr b="1" lang="ru-RU" sz="48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54" name="Picture 6" descr="расположение-ключевых-слов"/>
          <p:cNvPicPr/>
          <p:nvPr/>
        </p:nvPicPr>
        <p:blipFill>
          <a:blip r:embed="rId1"/>
          <a:stretch/>
        </p:blipFill>
        <p:spPr>
          <a:xfrm rot="21241200">
            <a:off x="3647880" y="2590920"/>
            <a:ext cx="5495760" cy="4022640"/>
          </a:xfrm>
          <a:prstGeom prst="rect">
            <a:avLst/>
          </a:prstGeom>
          <a:ln w="0">
            <a:noFill/>
          </a:ln>
        </p:spPr>
      </p:pic>
      <p:sp>
        <p:nvSpPr>
          <p:cNvPr id="155" name="Line 7"/>
          <p:cNvSpPr/>
          <p:nvPr/>
        </p:nvSpPr>
        <p:spPr>
          <a:xfrm flipH="1">
            <a:off x="7467120" y="3048120"/>
            <a:ext cx="381240" cy="6094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8"/>
          <p:cNvSpPr/>
          <p:nvPr/>
        </p:nvSpPr>
        <p:spPr>
          <a:xfrm rot="21170400">
            <a:off x="7315200" y="2057400"/>
            <a:ext cx="609480" cy="838080"/>
          </a:xfrm>
          <a:custGeom>
            <a:avLst/>
            <a:gdLst>
              <a:gd name="textAreaLeft" fmla="*/ 89280 w 609480"/>
              <a:gd name="textAreaRight" fmla="*/ 520200 w 609480"/>
              <a:gd name="textAreaTop" fmla="*/ 122760 h 838080"/>
              <a:gd name="textAreaBottom" fmla="*/ 71532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9" descr="0_a4efb_a2a96310_XL"/>
          <p:cNvPicPr/>
          <p:nvPr/>
        </p:nvPicPr>
        <p:blipFill>
          <a:blip r:embed="rId2">
            <a:lum contrast="42000"/>
          </a:blip>
          <a:stretch/>
        </p:blipFill>
        <p:spPr>
          <a:xfrm>
            <a:off x="533520" y="2819520"/>
            <a:ext cx="291456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457200" y="685440"/>
            <a:ext cx="822960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2. Если в первой части предложения нет ни вспомогательных, ни модальных глаголов, то в «хвостике» будет использоваться вспомогательный глагол do. Если основной глагол в первой части предложения стоит во времени Present Simple, то глагол do в «хвостике» будет иметь форму do (don't) или does (doesn't). Если основной глагол стоит в Past Simple, то в «хвостике» — did (didn't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р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Olga met her boy-friend yesterday, didn’t she? — Ольга встретила своего парня вчера, правд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Father didn’t buy car last week, did he? — Папа не покупал машину на прошлой неделе, не так л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I go swimming every Friday, don’t I? — Я хочу на плавание каждую пятницу, не так л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Your brother doesn’t like vegetables, does he? — Твой брат не любит овощи, не так л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They worked faster two days ago, didn’t they? — Они работали быстрее два дня назад, правд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br>
              <a:rPr sz="3000"/>
            </a:br>
            <a:br>
              <a:rPr sz="3000"/>
            </a:br>
            <a:br>
              <a:rPr sz="3000"/>
            </a:b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80520" y="609480"/>
            <a:ext cx="75438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a6f06"/>
                </a:solidFill>
                <a:latin typeface="Arial"/>
              </a:rPr>
              <a:t>THE END</a:t>
            </a:r>
            <a:endParaRPr b="1" lang="en-US" sz="72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26" name="Picture 4" descr="974082771fbaabf4a347e5608175d997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4191120" y="2209680"/>
            <a:ext cx="3695760" cy="369576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5" descr="Рисунок27"/>
          <p:cNvPicPr/>
          <p:nvPr/>
        </p:nvPicPr>
        <p:blipFill>
          <a:blip r:embed="rId2"/>
          <a:stretch/>
        </p:blipFill>
        <p:spPr>
          <a:xfrm>
            <a:off x="1143000" y="3352680"/>
            <a:ext cx="2349360" cy="251460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6" descr="animashki-babochki-476"/>
          <p:cNvPicPr/>
          <p:nvPr/>
        </p:nvPicPr>
        <p:blipFill>
          <a:blip r:embed="rId3"/>
          <a:stretch/>
        </p:blipFill>
        <p:spPr>
          <a:xfrm>
            <a:off x="5334120" y="457200"/>
            <a:ext cx="11714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nodeType="clickEffect" fill="hold">
                      <p:stCondLst>
                        <p:cond delay="0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5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2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8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2" dur="8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8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8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330066"/>
                </a:solidFill>
                <a:latin typeface="Arial"/>
              </a:rPr>
              <a:t>Типы вопросов</a:t>
            </a:r>
            <a:br>
              <a:rPr sz="3500"/>
            </a:b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28600" y="762120"/>
            <a:ext cx="86868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1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щий вопро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l question (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Yes/N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ques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2.</a:t>
            </a:r>
            <a:r>
              <a:rPr b="0" lang="ru-RU" sz="24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льтернативный вопрос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л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прос выбора (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 ques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3</a:t>
            </a:r>
            <a:r>
              <a:rPr b="0" lang="ru-RU" sz="2400" spc="-1" strike="noStrike">
                <a:solidFill>
                  <a:srgbClr val="800000"/>
                </a:solidFill>
                <a:latin typeface="Arial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пециальный вопрос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начинается со специального вопросительного слова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Where / What / Wh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т.д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cial question (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Wh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estio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Arial"/>
              </a:rPr>
              <a:t>4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прос к подлежащему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Начинается с вопросительного слова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Who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Wha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в зависимости от того одушевленный или неодушевленный предмет является подлежащим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5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зделительный вопро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g-questio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не так ли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6" descr="0_85500_32531758_XL"/>
          <p:cNvPicPr/>
          <p:nvPr/>
        </p:nvPicPr>
        <p:blipFill>
          <a:blip r:embed="rId1">
            <a:lum contrast="36000"/>
          </a:blip>
          <a:stretch/>
        </p:blipFill>
        <p:spPr>
          <a:xfrm>
            <a:off x="6019920" y="609480"/>
            <a:ext cx="1874880" cy="22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330066"/>
                </a:solidFill>
                <a:latin typeface="Arial"/>
              </a:rPr>
              <a:t>Вопросы с глаголами- связками:</a:t>
            </a:r>
            <a:br>
              <a:rPr sz="3500"/>
            </a:b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06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e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5"/>
          <p:cNvSpPr/>
          <p:nvPr/>
        </p:nvSpPr>
        <p:spPr>
          <a:xfrm>
            <a:off x="3886200" y="4495680"/>
            <a:ext cx="1066680" cy="1967040"/>
          </a:xfrm>
          <a:prstGeom prst="downArrow">
            <a:avLst>
              <a:gd name="adj1" fmla="val 50000"/>
              <a:gd name="adj2" fmla="val 4610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6" descr="63638337_0a06fee3e43953890e7062ac79da56ea"/>
          <p:cNvPicPr/>
          <p:nvPr/>
        </p:nvPicPr>
        <p:blipFill>
          <a:blip r:embed="rId1">
            <a:lum contrast="36000"/>
          </a:blip>
          <a:stretch/>
        </p:blipFill>
        <p:spPr>
          <a:xfrm>
            <a:off x="1981080" y="1981080"/>
            <a:ext cx="71629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30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30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30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3000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3000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533160" y="304560"/>
            <a:ext cx="563868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 i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a student.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 Он студен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0066"/>
                </a:solidFill>
                <a:latin typeface="Arial"/>
              </a:rPr>
              <a:t>Общий вопрос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I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he a stud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0066"/>
                </a:solidFill>
                <a:latin typeface="Arial"/>
              </a:rPr>
              <a:t>Альтернативный вопрос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I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he a student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a pupi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0066"/>
                </a:solidFill>
                <a:latin typeface="Arial"/>
              </a:rPr>
              <a:t>Специальный вопрос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at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i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h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0066"/>
                </a:solidFill>
                <a:latin typeface="Arial"/>
              </a:rPr>
              <a:t>Вопрос к подлежащему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o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i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a stud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0066"/>
                </a:solidFill>
                <a:latin typeface="Arial"/>
              </a:rPr>
              <a:t>Разделительный вопрос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i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a student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isn’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h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4" descr="Рисунок101"/>
          <p:cNvPicPr/>
          <p:nvPr/>
        </p:nvPicPr>
        <p:blipFill>
          <a:blip r:embed="rId1"/>
          <a:stretch/>
        </p:blipFill>
        <p:spPr>
          <a:xfrm>
            <a:off x="5715000" y="762120"/>
            <a:ext cx="2104920" cy="210492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20" descr="animashki-knigi-174"/>
          <p:cNvPicPr/>
          <p:nvPr/>
        </p:nvPicPr>
        <p:blipFill>
          <a:blip r:embed="rId2"/>
          <a:stretch/>
        </p:blipFill>
        <p:spPr>
          <a:xfrm>
            <a:off x="5867280" y="3505320"/>
            <a:ext cx="249552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1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54380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330066"/>
                </a:solidFill>
                <a:latin typeface="Arial"/>
              </a:rPr>
              <a:t>Вопросы с модальными глаголами:</a:t>
            </a:r>
            <a:br>
              <a:rPr sz="3500"/>
            </a:b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U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UL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HOUL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5"/>
          <p:cNvSpPr/>
          <p:nvPr/>
        </p:nvSpPr>
        <p:spPr>
          <a:xfrm>
            <a:off x="3886200" y="4495680"/>
            <a:ext cx="1066680" cy="1967040"/>
          </a:xfrm>
          <a:prstGeom prst="downArrow">
            <a:avLst>
              <a:gd name="adj1" fmla="val 50000"/>
              <a:gd name="adj2" fmla="val 4610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6" descr="ANIMASHKI30"/>
          <p:cNvPicPr/>
          <p:nvPr/>
        </p:nvPicPr>
        <p:blipFill>
          <a:blip r:embed="rId1"/>
          <a:stretch/>
        </p:blipFill>
        <p:spPr>
          <a:xfrm>
            <a:off x="4800600" y="1600200"/>
            <a:ext cx="3632040" cy="39816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9" descr="animashki-babochki-503"/>
          <p:cNvPicPr/>
          <p:nvPr/>
        </p:nvPicPr>
        <p:blipFill>
          <a:blip r:embed="rId2"/>
          <a:stretch/>
        </p:blipFill>
        <p:spPr>
          <a:xfrm>
            <a:off x="2971800" y="1447920"/>
            <a:ext cx="95256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30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30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30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30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3000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228240" y="228240"/>
            <a:ext cx="891540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1" lang="en-US" sz="2800" spc="-1" strike="noStrike">
                <a:solidFill>
                  <a:srgbClr val="00ff00"/>
                </a:solidFill>
                <a:latin typeface="Times New Roman"/>
              </a:rPr>
              <a:t>ca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skate.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н умеет кататься на конька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0066"/>
                </a:solidFill>
                <a:latin typeface="Times New Roman"/>
              </a:rPr>
              <a:t>Общий вопрос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Times New Roman"/>
              </a:rPr>
              <a:t>Can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e skate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0066"/>
                </a:solidFill>
                <a:latin typeface="Times New Roman"/>
              </a:rPr>
              <a:t>Альтернативный вопрос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Times New Roman"/>
              </a:rPr>
              <a:t>Ca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he skate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or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u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0066"/>
                </a:solidFill>
                <a:latin typeface="Times New Roman"/>
              </a:rPr>
              <a:t>Специальный вопрос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y</a:t>
            </a:r>
            <a:r>
              <a:rPr b="1" lang="en-US" sz="2800" spc="-1" strike="noStrike">
                <a:solidFill>
                  <a:srgbClr val="00ff00"/>
                </a:solidFill>
                <a:latin typeface="Times New Roman"/>
              </a:rPr>
              <a:t> ca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he skat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0066"/>
                </a:solidFill>
                <a:latin typeface="Times New Roman"/>
              </a:rPr>
              <a:t>Вопрос к подлежащему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o </a:t>
            </a:r>
            <a:r>
              <a:rPr b="1" lang="en-US" sz="2800" spc="-1" strike="noStrike">
                <a:solidFill>
                  <a:srgbClr val="00ff00"/>
                </a:solidFill>
                <a:latin typeface="Times New Roman"/>
              </a:rPr>
              <a:t>ca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skat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0066"/>
                </a:solidFill>
                <a:latin typeface="Times New Roman"/>
              </a:rPr>
              <a:t>Разделительный вопрос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1" lang="en-US" sz="2800" spc="-1" strike="noStrike">
                <a:solidFill>
                  <a:srgbClr val="00ff00"/>
                </a:solidFill>
                <a:latin typeface="Times New Roman"/>
              </a:rPr>
              <a:t>can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kate ,</a:t>
            </a:r>
            <a:r>
              <a:rPr b="1" lang="en-US" sz="2800" spc="-1" strike="noStrike">
                <a:solidFill>
                  <a:srgbClr val="00ff00"/>
                </a:solidFill>
                <a:latin typeface="Times New Roman"/>
              </a:rPr>
              <a:t>can’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h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9" descr="animashki-mishki-415"/>
          <p:cNvPicPr/>
          <p:nvPr/>
        </p:nvPicPr>
        <p:blipFill>
          <a:blip r:embed="rId1">
            <a:lum contrast="48000"/>
          </a:blip>
          <a:stretch/>
        </p:blipFill>
        <p:spPr>
          <a:xfrm>
            <a:off x="5334120" y="2666880"/>
            <a:ext cx="3429000" cy="323244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3" descr="0_97aef_b5b77bca_L"/>
          <p:cNvPicPr/>
          <p:nvPr/>
        </p:nvPicPr>
        <p:blipFill>
          <a:blip r:embed="rId2"/>
          <a:stretch/>
        </p:blipFill>
        <p:spPr>
          <a:xfrm>
            <a:off x="4800600" y="1676520"/>
            <a:ext cx="571680" cy="57132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4" descr="0_97aef_b5b77bca_L"/>
          <p:cNvPicPr/>
          <p:nvPr/>
        </p:nvPicPr>
        <p:blipFill>
          <a:blip r:embed="rId3"/>
          <a:stretch/>
        </p:blipFill>
        <p:spPr>
          <a:xfrm>
            <a:off x="6324480" y="2209680"/>
            <a:ext cx="571680" cy="57168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5" descr="0_97aef_b5b77bca_L"/>
          <p:cNvPicPr/>
          <p:nvPr/>
        </p:nvPicPr>
        <p:blipFill>
          <a:blip r:embed="rId4"/>
          <a:stretch/>
        </p:blipFill>
        <p:spPr>
          <a:xfrm>
            <a:off x="4724280" y="3809880"/>
            <a:ext cx="571680" cy="57168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6" descr="0_97aef_b5b77bca_L"/>
          <p:cNvPicPr/>
          <p:nvPr/>
        </p:nvPicPr>
        <p:blipFill>
          <a:blip r:embed="rId5"/>
          <a:stretch/>
        </p:blipFill>
        <p:spPr>
          <a:xfrm>
            <a:off x="7543800" y="3352680"/>
            <a:ext cx="571680" cy="5716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7" descr="0_97aef_b5b77bca_L"/>
          <p:cNvPicPr/>
          <p:nvPr/>
        </p:nvPicPr>
        <p:blipFill>
          <a:blip r:embed="rId6"/>
          <a:stretch/>
        </p:blipFill>
        <p:spPr>
          <a:xfrm>
            <a:off x="7010280" y="914400"/>
            <a:ext cx="571680" cy="57168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8" descr="0_97aef_b5b77bca_L"/>
          <p:cNvPicPr/>
          <p:nvPr/>
        </p:nvPicPr>
        <p:blipFill>
          <a:blip r:embed="rId7"/>
          <a:stretch/>
        </p:blipFill>
        <p:spPr>
          <a:xfrm>
            <a:off x="4800600" y="1676520"/>
            <a:ext cx="571680" cy="57132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9" descr="0_97aef_b5b77bca_L"/>
          <p:cNvPicPr/>
          <p:nvPr/>
        </p:nvPicPr>
        <p:blipFill>
          <a:blip r:embed="rId8"/>
          <a:stretch/>
        </p:blipFill>
        <p:spPr>
          <a:xfrm>
            <a:off x="8001000" y="2209680"/>
            <a:ext cx="571680" cy="57168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20" descr="0_97aef_b5b77bca_L"/>
          <p:cNvPicPr/>
          <p:nvPr/>
        </p:nvPicPr>
        <p:blipFill>
          <a:blip r:embed="rId9"/>
          <a:stretch/>
        </p:blipFill>
        <p:spPr>
          <a:xfrm>
            <a:off x="4952880" y="5334120"/>
            <a:ext cx="571680" cy="5713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21" descr="0_97aef_b5b77bca_L"/>
          <p:cNvPicPr/>
          <p:nvPr/>
        </p:nvPicPr>
        <p:blipFill>
          <a:blip r:embed="rId10"/>
          <a:stretch/>
        </p:blipFill>
        <p:spPr>
          <a:xfrm>
            <a:off x="8153280" y="4800600"/>
            <a:ext cx="571680" cy="5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1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17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7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7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7543800" cy="2209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330066"/>
                </a:solidFill>
                <a:latin typeface="Arial"/>
              </a:rPr>
              <a:t>Вопросы со смысловыми глаголами в настоящем простом времени (</a:t>
            </a: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Present Simple)</a:t>
            </a:r>
            <a:r>
              <a:rPr b="1" lang="ru-RU" sz="3500" spc="-1" strike="noStrike">
                <a:solidFill>
                  <a:srgbClr val="330066"/>
                </a:solidFill>
                <a:latin typeface="Arial"/>
              </a:rPr>
              <a:t>:</a:t>
            </a:r>
            <a:br>
              <a:rPr sz="3500"/>
            </a:b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403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wim, run, dance et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оявляется вспомогательный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глагол </a:t>
            </a: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DO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DO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4"/>
          <p:cNvSpPr/>
          <p:nvPr/>
        </p:nvSpPr>
        <p:spPr>
          <a:xfrm>
            <a:off x="3124080" y="4343400"/>
            <a:ext cx="1067040" cy="1967040"/>
          </a:xfrm>
          <a:prstGeom prst="downArrow">
            <a:avLst>
              <a:gd name="adj1" fmla="val 50000"/>
              <a:gd name="adj2" fmla="val 4608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9" descr="animashki-sobaki-890"/>
          <p:cNvPicPr/>
          <p:nvPr/>
        </p:nvPicPr>
        <p:blipFill>
          <a:blip r:embed="rId1"/>
          <a:stretch/>
        </p:blipFill>
        <p:spPr>
          <a:xfrm>
            <a:off x="4648320" y="4267080"/>
            <a:ext cx="1966680" cy="20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0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5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304920" y="5335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ou 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Times New Roman"/>
              </a:rPr>
              <a:t>like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k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ы любишь тор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0066"/>
                </a:solidFill>
                <a:latin typeface="Times New Roman"/>
              </a:rPr>
              <a:t>Общий вопрос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Do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ou 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Times New Roman"/>
              </a:rPr>
              <a:t>lik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cak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0066"/>
                </a:solidFill>
                <a:latin typeface="Times New Roman"/>
              </a:rPr>
              <a:t>Альтернативный вопрос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D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you 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Times New Roman"/>
              </a:rPr>
              <a:t>lik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cakes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chees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0066"/>
                </a:solidFill>
                <a:latin typeface="Times New Roman"/>
              </a:rPr>
              <a:t>Специальный вопрос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at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d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you 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Times New Roman"/>
              </a:rPr>
              <a:t>lik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0066"/>
                </a:solidFill>
                <a:latin typeface="Times New Roman"/>
              </a:rPr>
              <a:t>Вопрос к подлежащему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o 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Times New Roman"/>
              </a:rPr>
              <a:t>like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cak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0066"/>
                </a:solidFill>
                <a:latin typeface="Times New Roman"/>
              </a:rPr>
              <a:t>Разделительный вопрос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ou  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Times New Roman"/>
              </a:rPr>
              <a:t>lik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cakes,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don’t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ou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8" descr="animashki-mishki-414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5181480" y="2362320"/>
            <a:ext cx="3200400" cy="277956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10" descr="animashki-babochki-493"/>
          <p:cNvPicPr/>
          <p:nvPr/>
        </p:nvPicPr>
        <p:blipFill>
          <a:blip r:embed="rId2"/>
          <a:stretch/>
        </p:blipFill>
        <p:spPr>
          <a:xfrm rot="634200">
            <a:off x="3809520" y="990720"/>
            <a:ext cx="95256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5" dur="80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6" dur="80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7" dur="80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2" dur="80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3" dur="80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4" dur="80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9" dur="80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0" dur="80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1" dur="80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6" dur="80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7" dur="80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8" dur="80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3" dur="80"/>
                                        <p:tgtEl>
                                          <p:spTgt spid="18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4" dur="80"/>
                                        <p:tgtEl>
                                          <p:spTgt spid="18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5" dur="80"/>
                                        <p:tgtEl>
                                          <p:spTgt spid="18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школа</cp:lastModifiedBy>
  <dcterms:modified xsi:type="dcterms:W3CDTF">2001-12-31T21:48:24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