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gif" ContentType="image/gif"/>
  <Override PartName="/ppt/media/image24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B90E-1038-4A32-A798-4A0C1983B5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41A1-9736-423B-A57E-49B08EAE61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8FAB-FC6E-483D-817C-61D0FBAA6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28D3-A064-4621-AACF-8E8FF781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8C0D-1248-40B5-92CC-603BFDF43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60D9-E416-42C3-82E5-9ADC1A181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6B9A-8545-4216-813D-96FAABA8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B876-244F-4C9E-B680-7859B42B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2A3A-A144-4F61-BD21-038E9D75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B216-42A0-4CD1-9F5B-F250F807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0BDE-3ABB-4EEE-8590-127BD846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F1EB-A535-4DA1-990D-0B76AD4D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E3AF-84A0-4582-8A32-E1400171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7703-CA61-4834-99A9-CA52486E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93C6-B0FD-4539-A80B-C68C1C60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0C96-8005-46C5-BECF-3CDEACF4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E0E6-CD1D-4155-AA23-BFA8D71E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E543-A45D-49C6-9288-75761E592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EBB6-7116-4DC2-85D7-805185E2E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9472-0248-43CB-AAB4-7C071EE7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A75B-72B1-4DEB-9A94-6C6AED5F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BE20-807C-4B91-9A75-D962D6EC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5618-9C19-4A7B-9FF7-F3054D64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B250-586F-4881-877E-4F2EDCD1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9404-BF2F-42CF-B945-2F314249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A1E5-B94C-4C0D-82C2-9596C81B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C854-A280-45E6-8E67-D8C3ED98FA3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2A6B-F5AF-41A0-85C5-236EE4ACA51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5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050560" y="2205000"/>
            <a:ext cx="7093080" cy="18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АЗНОВИДНОСТИ  ОБЪЕКТОВ 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  ИХ  КЛАССИФИКАЦИЯ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3840" y="80640"/>
            <a:ext cx="8929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Искусственная классификация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500040" y="1000080"/>
            <a:ext cx="8429760" cy="8859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Созвездия собраны по признакам,  которые </a:t>
            </a:r>
            <a:br>
              <a:rPr sz="2600"/>
            </a:b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к самим звёздам отношения не имею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6" descr="http://stat21.privet.ru/lr/0c18655365bf4469a7e96829cf593e30"/>
          <p:cNvPicPr/>
          <p:nvPr/>
        </p:nvPicPr>
        <p:blipFill>
          <a:blip r:embed="rId2"/>
          <a:stretch/>
        </p:blipFill>
        <p:spPr>
          <a:xfrm>
            <a:off x="5987880" y="4286160"/>
            <a:ext cx="2830680" cy="238608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72" name="Picture 10" descr="http://img0.liveinternet.ru/images/attach/c/0/48/411/48411528_skymap_summer.gif"/>
          <p:cNvPicPr/>
          <p:nvPr/>
        </p:nvPicPr>
        <p:blipFill>
          <a:blip r:embed="rId3"/>
          <a:stretch/>
        </p:blipFill>
        <p:spPr>
          <a:xfrm>
            <a:off x="500040" y="2014560"/>
            <a:ext cx="5357880" cy="470052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73" name="Picture 18" descr="http://kuponcho.ru/media/gallery/offer/img/63/65176.jpg"/>
          <p:cNvPicPr/>
          <p:nvPr/>
        </p:nvPicPr>
        <p:blipFill>
          <a:blip r:embed="rId4"/>
          <a:stretch/>
        </p:blipFill>
        <p:spPr>
          <a:xfrm>
            <a:off x="5981760" y="2000160"/>
            <a:ext cx="2805120" cy="171468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3840" y="81000"/>
            <a:ext cx="8929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Вспомогательные классификации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275" name="Picture 4" descr="http://cat.convdocs.org/pars_docs/refs/20/19913/19913_html_1ad3d082.png"/>
          <p:cNvPicPr/>
          <p:nvPr/>
        </p:nvPicPr>
        <p:blipFill>
          <a:blip r:embed="rId2"/>
          <a:stretch/>
        </p:blipFill>
        <p:spPr>
          <a:xfrm>
            <a:off x="428760" y="1500120"/>
            <a:ext cx="3208320" cy="38577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http://www.aroundspb.ru/maps/okr_spb/abc.gif"/>
          <p:cNvPicPr/>
          <p:nvPr/>
        </p:nvPicPr>
        <p:blipFill>
          <a:blip r:embed="rId3"/>
          <a:srcRect l="0" t="7356" r="0" b="8092"/>
          <a:stretch/>
        </p:blipFill>
        <p:spPr>
          <a:xfrm>
            <a:off x="6396120" y="1693800"/>
            <a:ext cx="2460600" cy="337824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77" name="TextBox 12"/>
          <p:cNvSpPr/>
          <p:nvPr/>
        </p:nvSpPr>
        <p:spPr>
          <a:xfrm>
            <a:off x="500040" y="5214960"/>
            <a:ext cx="8429760" cy="12819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17375e"/>
                </a:solidFill>
                <a:latin typeface="Arial"/>
              </a:rPr>
              <a:t>Вспомогательная классификация </a:t>
            </a: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не позволяет судить о признаках объектов; она служит для более лёгкого поиска объект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7" descr="C:\Users\Берингов\Desktop\Новый рисунок (1).png"/>
          <p:cNvPicPr/>
          <p:nvPr/>
        </p:nvPicPr>
        <p:blipFill>
          <a:blip r:embed="rId4"/>
          <a:stretch/>
        </p:blipFill>
        <p:spPr>
          <a:xfrm>
            <a:off x="3629160" y="1714680"/>
            <a:ext cx="2585880" cy="3431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Схема 3" descr=""/>
          <p:cNvPicPr/>
          <p:nvPr/>
        </p:nvPicPr>
        <p:blipFill>
          <a:blip r:embed="rId2"/>
          <a:stretch/>
        </p:blipFill>
        <p:spPr>
          <a:xfrm>
            <a:off x="371520" y="1000080"/>
            <a:ext cx="8613720" cy="60706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1680" y="81000"/>
            <a:ext cx="8100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Классификация компьютерных объектов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85480" y="188640"/>
            <a:ext cx="86439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амое главное записать в тетради :</a:t>
            </a:r>
            <a:endParaRPr b="1" lang="en-US" sz="36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28760" y="928440"/>
            <a:ext cx="850104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ношение «является разновидностью» может существовать между подмножеством некоторого множества и самим множеств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множество объектов, имеющих общие признаки,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лассо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еление множества объектов на классы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лассификацией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знаки, по которым один класс отличается от другого называются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основанием классификации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лассификация бывает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естественна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искусственна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 вы считаете для чего нужна классификац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м отличаются естественная и искусственная классификац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ведите примеры классификаций, с которыми вы познакомились на уроках  русского языка, математики, биологии и географ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ложите свою классификацию компьютерных объектов «файл» и «документ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8552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Давайте обсудим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85" name="Овал 5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Содержимое 8"/>
          <p:cNvSpPr/>
          <p:nvPr/>
        </p:nvSpPr>
        <p:spPr>
          <a:xfrm>
            <a:off x="457200" y="1071720"/>
            <a:ext cx="7686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5. Найдите «лишнее» слово, присутствующее </a:t>
            </a:r>
            <a:br>
              <a:rPr sz="2400"/>
            </a:b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в каждой стро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Овал 6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Багетная рамка 15"/>
          <p:cNvSpPr/>
          <p:nvPr/>
        </p:nvSpPr>
        <p:spPr>
          <a:xfrm>
            <a:off x="571680" y="600084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20"/>
          <p:cNvSpPr/>
          <p:nvPr/>
        </p:nvSpPr>
        <p:spPr>
          <a:xfrm>
            <a:off x="1357200" y="2000160"/>
            <a:ext cx="7286760" cy="857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21"/>
          <p:cNvSpPr/>
          <p:nvPr/>
        </p:nvSpPr>
        <p:spPr>
          <a:xfrm>
            <a:off x="1357200" y="2928960"/>
            <a:ext cx="7286760" cy="85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22"/>
          <p:cNvSpPr/>
          <p:nvPr/>
        </p:nvSpPr>
        <p:spPr>
          <a:xfrm>
            <a:off x="1357200" y="3857760"/>
            <a:ext cx="7286760" cy="857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23"/>
          <p:cNvSpPr/>
          <p:nvPr/>
        </p:nvSpPr>
        <p:spPr>
          <a:xfrm>
            <a:off x="1357200" y="4786200"/>
            <a:ext cx="7286760" cy="785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24"/>
          <p:cNvSpPr/>
          <p:nvPr/>
        </p:nvSpPr>
        <p:spPr>
          <a:xfrm>
            <a:off x="1643040" y="2214720"/>
            <a:ext cx="14400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Щ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25"/>
          <p:cNvSpPr/>
          <p:nvPr/>
        </p:nvSpPr>
        <p:spPr>
          <a:xfrm>
            <a:off x="3417840" y="2214720"/>
            <a:ext cx="14400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ра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26"/>
          <p:cNvSpPr/>
          <p:nvPr/>
        </p:nvSpPr>
        <p:spPr>
          <a:xfrm>
            <a:off x="6918480" y="2214720"/>
            <a:ext cx="143964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27"/>
          <p:cNvSpPr/>
          <p:nvPr/>
        </p:nvSpPr>
        <p:spPr>
          <a:xfrm>
            <a:off x="5203800" y="2214720"/>
            <a:ext cx="14400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у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28"/>
          <p:cNvSpPr/>
          <p:nvPr/>
        </p:nvSpPr>
        <p:spPr>
          <a:xfrm>
            <a:off x="1643040" y="3071880"/>
            <a:ext cx="1440000" cy="5000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ма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29"/>
          <p:cNvSpPr/>
          <p:nvPr/>
        </p:nvSpPr>
        <p:spPr>
          <a:xfrm>
            <a:off x="3357720" y="3071880"/>
            <a:ext cx="1439640" cy="5000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анды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30"/>
          <p:cNvSpPr/>
          <p:nvPr/>
        </p:nvSpPr>
        <p:spPr>
          <a:xfrm>
            <a:off x="5083200" y="3071880"/>
            <a:ext cx="1440000" cy="5000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р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31"/>
          <p:cNvSpPr/>
          <p:nvPr/>
        </p:nvSpPr>
        <p:spPr>
          <a:xfrm>
            <a:off x="6786720" y="3071880"/>
            <a:ext cx="1714320" cy="5000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околь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32"/>
          <p:cNvSpPr/>
          <p:nvPr/>
        </p:nvSpPr>
        <p:spPr>
          <a:xfrm>
            <a:off x="1643040" y="4929120"/>
            <a:ext cx="1440000" cy="5000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33"/>
          <p:cNvSpPr/>
          <p:nvPr/>
        </p:nvSpPr>
        <p:spPr>
          <a:xfrm>
            <a:off x="5203800" y="4929120"/>
            <a:ext cx="1440000" cy="5000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бло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34"/>
          <p:cNvSpPr/>
          <p:nvPr/>
        </p:nvSpPr>
        <p:spPr>
          <a:xfrm>
            <a:off x="3417840" y="4929120"/>
            <a:ext cx="1440000" cy="5000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с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35"/>
          <p:cNvSpPr/>
          <p:nvPr/>
        </p:nvSpPr>
        <p:spPr>
          <a:xfrm>
            <a:off x="6989760" y="4929120"/>
            <a:ext cx="1440000" cy="5000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ти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36"/>
          <p:cNvSpPr/>
          <p:nvPr/>
        </p:nvSpPr>
        <p:spPr>
          <a:xfrm>
            <a:off x="1643040" y="4000680"/>
            <a:ext cx="1440000" cy="500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37"/>
          <p:cNvSpPr/>
          <p:nvPr/>
        </p:nvSpPr>
        <p:spPr>
          <a:xfrm>
            <a:off x="3417840" y="4000680"/>
            <a:ext cx="1440000" cy="500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38"/>
          <p:cNvSpPr/>
          <p:nvPr/>
        </p:nvSpPr>
        <p:spPr>
          <a:xfrm>
            <a:off x="6962760" y="4000680"/>
            <a:ext cx="1440000" cy="500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го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39"/>
          <p:cNvSpPr/>
          <p:nvPr/>
        </p:nvSpPr>
        <p:spPr>
          <a:xfrm>
            <a:off x="5203800" y="4000680"/>
            <a:ext cx="1440000" cy="500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6"/>
          <p:cNvSpPr/>
          <p:nvPr/>
        </p:nvSpPr>
        <p:spPr>
          <a:xfrm>
            <a:off x="6918480" y="2500200"/>
            <a:ext cx="1439640" cy="1800"/>
          </a:xfrm>
          <a:prstGeom prst="line">
            <a:avLst/>
          </a:prstGeom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17"/>
          <p:cNvSpPr/>
          <p:nvPr/>
        </p:nvSpPr>
        <p:spPr>
          <a:xfrm>
            <a:off x="5083200" y="3357720"/>
            <a:ext cx="1440000" cy="1440"/>
          </a:xfrm>
          <a:prstGeom prst="line">
            <a:avLst/>
          </a:prstGeom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ая соединительная линия 18"/>
          <p:cNvSpPr/>
          <p:nvPr/>
        </p:nvSpPr>
        <p:spPr>
          <a:xfrm>
            <a:off x="6989760" y="4272120"/>
            <a:ext cx="1440000" cy="1440"/>
          </a:xfrm>
          <a:prstGeom prst="line">
            <a:avLst/>
          </a:prstGeom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ая соединительная линия 19"/>
          <p:cNvSpPr/>
          <p:nvPr/>
        </p:nvSpPr>
        <p:spPr>
          <a:xfrm>
            <a:off x="6989760" y="5213520"/>
            <a:ext cx="1440000" cy="1440"/>
          </a:xfrm>
          <a:prstGeom prst="line">
            <a:avLst/>
          </a:prstGeom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1388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лючевые слова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71680" y="1837800"/>
            <a:ext cx="8215200" cy="31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ношение 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является разновидность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хема  разновид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ассифик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0040" y="71280"/>
            <a:ext cx="85010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Отношение 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«является разновидностью»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210" name="Picture 6" descr="http://im6-tub-ru.yandex.net/i?id=193290472-51-72&amp;n=21"/>
          <p:cNvPicPr/>
          <p:nvPr/>
        </p:nvPicPr>
        <p:blipFill>
          <a:blip r:embed="rId2"/>
          <a:stretch/>
        </p:blipFill>
        <p:spPr>
          <a:xfrm>
            <a:off x="357120" y="1785960"/>
            <a:ext cx="2948040" cy="2357280"/>
          </a:xfrm>
          <a:prstGeom prst="rect">
            <a:avLst/>
          </a:prstGeom>
          <a:ln w="255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11" name="TextBox 6"/>
          <p:cNvSpPr/>
          <p:nvPr/>
        </p:nvSpPr>
        <p:spPr>
          <a:xfrm>
            <a:off x="571680" y="4581360"/>
            <a:ext cx="8286480" cy="2104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двух множеств, связанных отношением «является разновидностью»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 является подмножеством другог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http://mir-laek.ru/wp-content/uploads/2011/12/Grenlandskaya_ezdovaya_sobaka_3.jpg"/>
          <p:cNvPicPr/>
          <p:nvPr/>
        </p:nvPicPr>
        <p:blipFill>
          <a:blip r:embed="rId3"/>
          <a:srcRect l="21738" t="0" r="0" b="0"/>
          <a:stretch/>
        </p:blipFill>
        <p:spPr>
          <a:xfrm>
            <a:off x="6500880" y="1797120"/>
            <a:ext cx="2571840" cy="2386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1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0" descr="http://img1.liveinternet.ru/images/attach/c/5/87/428/87428265_4990185f500500.jpg"/>
          <p:cNvPicPr/>
          <p:nvPr/>
        </p:nvPicPr>
        <p:blipFill>
          <a:blip r:embed="rId4"/>
          <a:stretch/>
        </p:blipFill>
        <p:spPr>
          <a:xfrm>
            <a:off x="3357720" y="1755720"/>
            <a:ext cx="3071520" cy="2428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76438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Схема разновидностей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grpSp>
        <p:nvGrpSpPr>
          <p:cNvPr id="222" name="Группа 22"/>
          <p:cNvGrpSpPr/>
          <p:nvPr/>
        </p:nvGrpSpPr>
        <p:grpSpPr>
          <a:xfrm>
            <a:off x="466560" y="1143000"/>
            <a:ext cx="5391360" cy="3873600"/>
            <a:chOff x="466560" y="1143000"/>
            <a:chExt cx="5391360" cy="3873600"/>
          </a:xfrm>
        </p:grpSpPr>
        <p:sp>
          <p:nvSpPr>
            <p:cNvPr id="223" name="Скругленный прямоугольник 7"/>
            <p:cNvSpPr/>
            <p:nvPr/>
          </p:nvSpPr>
          <p:spPr>
            <a:xfrm>
              <a:off x="1080720" y="1143000"/>
              <a:ext cx="4177080" cy="83664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Домашнее животно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Скругленный прямоугольник 8"/>
            <p:cNvSpPr/>
            <p:nvPr/>
          </p:nvSpPr>
          <p:spPr>
            <a:xfrm>
              <a:off x="466560" y="2664000"/>
              <a:ext cx="1655640" cy="836640"/>
            </a:xfrm>
            <a:prstGeom prst="roundRect">
              <a:avLst>
                <a:gd name="adj" fmla="val 16667"/>
              </a:avLst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Коров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Скругленный прямоугольник 9"/>
            <p:cNvSpPr/>
            <p:nvPr/>
          </p:nvSpPr>
          <p:spPr>
            <a:xfrm>
              <a:off x="2338200" y="2664000"/>
              <a:ext cx="1657440" cy="836640"/>
            </a:xfrm>
            <a:prstGeom prst="roundRect">
              <a:avLst>
                <a:gd name="adj" fmla="val 16667"/>
              </a:avLst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Соба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Скругленный прямоугольник 10"/>
            <p:cNvSpPr/>
            <p:nvPr/>
          </p:nvSpPr>
          <p:spPr>
            <a:xfrm>
              <a:off x="4202280" y="2664000"/>
              <a:ext cx="1655640" cy="836640"/>
            </a:xfrm>
            <a:prstGeom prst="roundRect">
              <a:avLst>
                <a:gd name="adj" fmla="val 16667"/>
              </a:avLst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Кош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Скругленный прямоугольник 11"/>
            <p:cNvSpPr/>
            <p:nvPr/>
          </p:nvSpPr>
          <p:spPr>
            <a:xfrm>
              <a:off x="1584000" y="4108680"/>
              <a:ext cx="3168720" cy="907920"/>
            </a:xfrm>
            <a:prstGeom prst="roundRect">
              <a:avLst>
                <a:gd name="adj" fmla="val 16667"/>
              </a:avLst>
            </a:prstGeom>
            <a:solidFill>
              <a:srgbClr val="dce6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Ездовая соба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Прямая соединительная линия 13"/>
            <p:cNvSpPr/>
            <p:nvPr/>
          </p:nvSpPr>
          <p:spPr>
            <a:xfrm flipH="1">
              <a:off x="1295280" y="1979640"/>
              <a:ext cx="1874880" cy="68400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Прямая соединительная линия 15"/>
            <p:cNvSpPr/>
            <p:nvPr/>
          </p:nvSpPr>
          <p:spPr>
            <a:xfrm flipH="1">
              <a:off x="3166920" y="1979640"/>
              <a:ext cx="2880" cy="68400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Прямая соединительная линия 17"/>
            <p:cNvSpPr/>
            <p:nvPr/>
          </p:nvSpPr>
          <p:spPr>
            <a:xfrm>
              <a:off x="3170160" y="1979640"/>
              <a:ext cx="1859040" cy="68400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Прямая соединительная линия 19"/>
            <p:cNvSpPr/>
            <p:nvPr/>
          </p:nvSpPr>
          <p:spPr>
            <a:xfrm>
              <a:off x="3166920" y="3500640"/>
              <a:ext cx="1440" cy="6080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Picture 2" descr=""/>
          <p:cNvPicPr/>
          <p:nvPr/>
        </p:nvPicPr>
        <p:blipFill>
          <a:blip r:embed="rId2"/>
          <a:stretch/>
        </p:blipFill>
        <p:spPr>
          <a:xfrm>
            <a:off x="5972040" y="1571760"/>
            <a:ext cx="3029040" cy="3028680"/>
          </a:xfrm>
          <a:prstGeom prst="rect">
            <a:avLst/>
          </a:prstGeom>
          <a:ln w="0">
            <a:noFill/>
          </a:ln>
        </p:spPr>
      </p:pic>
      <p:sp>
        <p:nvSpPr>
          <p:cNvPr id="233" name="TextBox 23"/>
          <p:cNvSpPr/>
          <p:nvPr/>
        </p:nvSpPr>
        <p:spPr>
          <a:xfrm>
            <a:off x="642960" y="5403960"/>
            <a:ext cx="8215200" cy="94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Имя подмножества всегда располагается ниже имени включающего его множ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680" y="5429160"/>
            <a:ext cx="8215200" cy="1214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Объекты подмножества обладают признаками объектов множества</a:t>
            </a:r>
            <a:endParaRPr b="1" lang="en-US" sz="32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235" name="Picture 6" descr="http://im6-tub-ru.yandex.net/i?id=193290472-51-72&amp;n=21"/>
          <p:cNvPicPr/>
          <p:nvPr/>
        </p:nvPicPr>
        <p:blipFill>
          <a:blip r:embed="rId2"/>
          <a:stretch/>
        </p:blipFill>
        <p:spPr>
          <a:xfrm>
            <a:off x="785880" y="1392120"/>
            <a:ext cx="2320920" cy="171468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  <p:sp>
        <p:nvSpPr>
          <p:cNvPr id="236" name="TextBox 4"/>
          <p:cNvSpPr/>
          <p:nvPr/>
        </p:nvSpPr>
        <p:spPr>
          <a:xfrm>
            <a:off x="3162240" y="200016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Надо корм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http://im4-tub-ru.yandex.net/i?id=122270824-28-72&amp;n=21"/>
          <p:cNvPicPr/>
          <p:nvPr/>
        </p:nvPicPr>
        <p:blipFill>
          <a:blip r:embed="rId3"/>
          <a:stretch/>
        </p:blipFill>
        <p:spPr>
          <a:xfrm>
            <a:off x="7413480" y="2416320"/>
            <a:ext cx="1373400" cy="176688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  <p:sp>
        <p:nvSpPr>
          <p:cNvPr id="238" name="TextBox 7"/>
          <p:cNvSpPr/>
          <p:nvPr/>
        </p:nvSpPr>
        <p:spPr>
          <a:xfrm>
            <a:off x="3786120" y="2987640"/>
            <a:ext cx="35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Лают, кус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http://im0-tub-ru.yandex.net/i?id=170105388-26-72&amp;n=21"/>
          <p:cNvPicPr/>
          <p:nvPr/>
        </p:nvPicPr>
        <p:blipFill>
          <a:blip r:embed="rId4"/>
          <a:stretch/>
        </p:blipFill>
        <p:spPr>
          <a:xfrm>
            <a:off x="785880" y="3500280"/>
            <a:ext cx="2320920" cy="171468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  <p:sp>
        <p:nvSpPr>
          <p:cNvPr id="240" name="TextBox 10"/>
          <p:cNvSpPr/>
          <p:nvPr/>
        </p:nvSpPr>
        <p:spPr>
          <a:xfrm>
            <a:off x="3162240" y="3994200"/>
            <a:ext cx="369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Бегают в упряж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Заголовок 2"/>
          <p:cNvSpPr/>
          <p:nvPr/>
        </p:nvSpPr>
        <p:spPr>
          <a:xfrm>
            <a:off x="785880" y="0"/>
            <a:ext cx="76438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Признаки объек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4256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Классификация объектов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43" name="Пятиугольник 6"/>
          <p:cNvSpPr/>
          <p:nvPr/>
        </p:nvSpPr>
        <p:spPr>
          <a:xfrm>
            <a:off x="2571840" y="1357200"/>
            <a:ext cx="6143400" cy="1643040"/>
          </a:xfrm>
          <a:custGeom>
            <a:avLst/>
            <a:gdLst>
              <a:gd name="textAreaLeft" fmla="*/ 0 w 6143400"/>
              <a:gd name="textAreaRight" fmla="*/ 6143760 w 614340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12" y="0"/>
                </a:lnTo>
                <a:lnTo>
                  <a:pt x="21600" y="10800"/>
                </a:lnTo>
                <a:lnTo>
                  <a:pt x="1871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bacc6"/>
          </a:solidFill>
          <a:ln w="25560">
            <a:solidFill>
              <a:srgbClr val="357d9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множество объектов, имеющих общие признаки, называется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клас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ятиугольник 7"/>
          <p:cNvSpPr/>
          <p:nvPr/>
        </p:nvSpPr>
        <p:spPr>
          <a:xfrm>
            <a:off x="1571760" y="3130560"/>
            <a:ext cx="6786360" cy="1643040"/>
          </a:xfrm>
          <a:custGeom>
            <a:avLst/>
            <a:gdLst>
              <a:gd name="textAreaLeft" fmla="*/ 0 w 6786360"/>
              <a:gd name="textAreaRight" fmla="*/ 6786720 w 678636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5" y="0"/>
                </a:lnTo>
                <a:lnTo>
                  <a:pt x="21600" y="10800"/>
                </a:lnTo>
                <a:lnTo>
                  <a:pt x="189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еление множества объектов на классы называется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классифика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ятиугольник 8"/>
          <p:cNvSpPr/>
          <p:nvPr/>
        </p:nvSpPr>
        <p:spPr>
          <a:xfrm>
            <a:off x="785880" y="4929120"/>
            <a:ext cx="6429240" cy="1643040"/>
          </a:xfrm>
          <a:custGeom>
            <a:avLst/>
            <a:gdLst>
              <a:gd name="textAreaLeft" fmla="*/ 0 w 6429240"/>
              <a:gd name="textAreaRight" fmla="*/ 6429600 w 642924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40" y="0"/>
                </a:lnTo>
                <a:lnTo>
                  <a:pt x="21600" y="10800"/>
                </a:lnTo>
                <a:lnTo>
                  <a:pt x="188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76092"/>
          </a:solidFill>
          <a:ln w="25560">
            <a:solidFill>
              <a:srgbClr val="17375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изнаки, по которым один класс отличается от другого, называются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основанием классификац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Овал 9"/>
          <p:cNvSpPr/>
          <p:nvPr/>
        </p:nvSpPr>
        <p:spPr>
          <a:xfrm>
            <a:off x="714240" y="1357200"/>
            <a:ext cx="100044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Группа 16"/>
          <p:cNvGrpSpPr/>
          <p:nvPr/>
        </p:nvGrpSpPr>
        <p:grpSpPr>
          <a:xfrm>
            <a:off x="1193760" y="1292400"/>
            <a:ext cx="7378920" cy="4313160"/>
            <a:chOff x="1193760" y="1292400"/>
            <a:chExt cx="7378920" cy="4313160"/>
          </a:xfrm>
        </p:grpSpPr>
        <p:grpSp>
          <p:nvGrpSpPr>
            <p:cNvPr id="248" name="Скругленный прямоугольник 3"/>
            <p:cNvGrpSpPr/>
            <p:nvPr/>
          </p:nvGrpSpPr>
          <p:grpSpPr>
            <a:xfrm>
              <a:off x="2792160" y="1292400"/>
              <a:ext cx="4224240" cy="1025280"/>
              <a:chOff x="2792160" y="1292400"/>
              <a:chExt cx="4224240" cy="1025280"/>
            </a:xfrm>
          </p:grpSpPr>
          <p:pic>
            <p:nvPicPr>
              <p:cNvPr id="249" name="Скругленный прямоугольник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792160" y="1292400"/>
                <a:ext cx="4224240" cy="102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>
                <a:off x="2886480" y="1361880"/>
                <a:ext cx="4033800" cy="75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ffff"/>
                    </a:solidFill>
                    <a:latin typeface="Tahoma"/>
                  </a:rPr>
                  <a:t>Классификация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Скругленный прямоугольник 4"/>
            <p:cNvSpPr/>
            <p:nvPr/>
          </p:nvSpPr>
          <p:spPr>
            <a:xfrm>
              <a:off x="1482840" y="2893320"/>
              <a:ext cx="3066840" cy="83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ahoma"/>
                </a:rPr>
                <a:t>Естественная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Скругленный прямоугольник 5"/>
            <p:cNvSpPr/>
            <p:nvPr/>
          </p:nvSpPr>
          <p:spPr>
            <a:xfrm>
              <a:off x="5207400" y="2893320"/>
              <a:ext cx="3066840" cy="83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ahoma"/>
                </a:rPr>
                <a:t>Искусственная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" name="Скругленный прямоугольник 6"/>
            <p:cNvGrpSpPr/>
            <p:nvPr/>
          </p:nvGrpSpPr>
          <p:grpSpPr>
            <a:xfrm>
              <a:off x="1193760" y="4445280"/>
              <a:ext cx="3653280" cy="1160280"/>
              <a:chOff x="1193760" y="4445280"/>
              <a:chExt cx="3653280" cy="1160280"/>
            </a:xfrm>
          </p:grpSpPr>
          <p:pic>
            <p:nvPicPr>
              <p:cNvPr id="254" name="Скругленный прямоугольник 6" descr=""/>
              <p:cNvPicPr/>
              <p:nvPr/>
            </p:nvPicPr>
            <p:blipFill>
              <a:blip r:embed="rId3"/>
              <a:stretch/>
            </p:blipFill>
            <p:spPr>
              <a:xfrm>
                <a:off x="1193760" y="4445280"/>
                <a:ext cx="3653280" cy="116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>
                <a:off x="1296360" y="4523040"/>
                <a:ext cx="3448800" cy="89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Существенные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признаки объекто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Скругленный прямоугольник 7"/>
            <p:cNvGrpSpPr/>
            <p:nvPr/>
          </p:nvGrpSpPr>
          <p:grpSpPr>
            <a:xfrm>
              <a:off x="4919400" y="4445280"/>
              <a:ext cx="3653280" cy="1160280"/>
              <a:chOff x="4919400" y="4445280"/>
              <a:chExt cx="3653280" cy="1160280"/>
            </a:xfrm>
          </p:grpSpPr>
          <p:pic>
            <p:nvPicPr>
              <p:cNvPr id="257" name="Скругленный прямоугольник 7" descr=""/>
              <p:cNvPicPr/>
              <p:nvPr/>
            </p:nvPicPr>
            <p:blipFill>
              <a:blip r:embed="rId4"/>
              <a:stretch/>
            </p:blipFill>
            <p:spPr>
              <a:xfrm>
                <a:off x="4919400" y="4445280"/>
                <a:ext cx="3653280" cy="116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>
                <a:off x="5021280" y="4523040"/>
                <a:ext cx="3448800" cy="89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Несущественные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признаки объекто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Прямая соединительная линия 9"/>
            <p:cNvSpPr/>
            <p:nvPr/>
          </p:nvSpPr>
          <p:spPr>
            <a:xfrm flipH="1">
              <a:off x="3016440" y="2153160"/>
              <a:ext cx="1887120" cy="74016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Прямая соединительная линия 11"/>
            <p:cNvSpPr/>
            <p:nvPr/>
          </p:nvSpPr>
          <p:spPr>
            <a:xfrm>
              <a:off x="4903200" y="2153160"/>
              <a:ext cx="1837080" cy="74016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Прямая соединительная линия 13"/>
            <p:cNvSpPr/>
            <p:nvPr/>
          </p:nvSpPr>
          <p:spPr>
            <a:xfrm>
              <a:off x="3015720" y="3725280"/>
              <a:ext cx="4680" cy="74916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Прямая соединительная линия 15"/>
            <p:cNvSpPr/>
            <p:nvPr/>
          </p:nvSpPr>
          <p:spPr>
            <a:xfrm>
              <a:off x="6740280" y="3725280"/>
              <a:ext cx="4680" cy="74916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1388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Классификация объектов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5480" y="80640"/>
            <a:ext cx="87152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Естественная классификация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265" name="Picture 2" descr="http://galina.shh.com.ua/wp-content/uploads/2011/10/%D0%9A%D0%BB%D0%B0%D1%81%D1%81%D0%B8%D1%84%D0%B8%D0%BA%D0%B0%D1%86%D0%B8%D1%8F-%D1%80%D0%B0%D1%81%D1%82%D0%B5%D0%BD%D0%B8%D0%B9.jpg"/>
          <p:cNvPicPr/>
          <p:nvPr/>
        </p:nvPicPr>
        <p:blipFill>
          <a:blip r:embed="rId2"/>
          <a:stretch/>
        </p:blipFill>
        <p:spPr>
          <a:xfrm>
            <a:off x="857160" y="928800"/>
            <a:ext cx="5000760" cy="574668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66" name="Picture 4" descr="http://shells.sch1927.ru/wp-content/uploads/klassifikatsiya.jpg"/>
          <p:cNvPicPr/>
          <p:nvPr/>
        </p:nvPicPr>
        <p:blipFill>
          <a:blip r:embed="rId3"/>
          <a:stretch/>
        </p:blipFill>
        <p:spPr>
          <a:xfrm>
            <a:off x="6286680" y="714240"/>
            <a:ext cx="2447640" cy="5953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Содержимое 4" descr=""/>
          <p:cNvPicPr/>
          <p:nvPr/>
        </p:nvPicPr>
        <p:blipFill>
          <a:blip r:embed="rId2"/>
          <a:stretch/>
        </p:blipFill>
        <p:spPr>
          <a:xfrm>
            <a:off x="-212760" y="738360"/>
            <a:ext cx="10215720" cy="59068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786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Естественная классификация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Пользователь</cp:lastModifiedBy>
  <dcterms:modified xsi:type="dcterms:W3CDTF">2021-11-16T05:53:58Z</dcterms:modified>
  <cp:revision>46</cp:revision>
  <dc:subject/>
  <dc:title>Презентация PowerPoint</dc:title>
</cp:coreProperties>
</file>