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B363-BDC4-4181-AA9E-B77CC8985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8361-5A44-4469-94B5-F2960C65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F222-4C61-43DB-8B3C-D5474127B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0FF1-4635-484B-B482-72640DB32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F336-54A4-48FB-B768-FBC44E790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C055-02C4-4109-B002-7966EE8F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65B2-C1BC-4917-BA2D-F9DAE132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5FED-33C3-48D0-A46D-204902E0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1597-255A-48D7-B29C-0D743571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235D-127A-4F35-8377-27136C24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6177-C374-413C-910A-93FE1457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D170-87B9-45B1-B4AF-EDA19E39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2AB1-1A6B-46AE-B7BE-2C84F2D4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6139-5F49-41CC-957C-4EA758F0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39B6-0EB5-43D5-BA5C-BD05183E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4C8D-0BB6-485D-971B-9A8FB8D0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66E9-341A-4141-AB8F-2009E2916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3D6A-E327-4D5C-9ED5-693BEDD9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9CE5-3A3A-4B74-BC97-884025DC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E241-31A8-425F-81B1-1D94F30C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9874-BE5E-4A86-B9DE-3EADB76C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9864-6480-49EB-8CCE-A3D38583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5320-7ACF-4EE2-99B0-574D2041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68FF-AF88-46F0-A332-716516BC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26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D4D54E-BA97-4FC3-9A6A-192CCE67E7C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26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6D404D-6E3E-415C-BCF8-67C9C51A320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.6.Маркетинговый анализ возможностей предприятия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3000" y="3602160"/>
            <a:ext cx="6857640" cy="1655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ила: Яхимович С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https://present5.com/docs/finansy_predpriyatiy_new_images/finansy_predpriyatiy_new_5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s://cf2.ppt-online.org/files2/slide/f/FZDxI8U1h7neRtAMsTQrlwSX9vyumgd2Vp4YbqGk0/slide-17.jpg"/>
          <p:cNvPicPr/>
          <p:nvPr/>
        </p:nvPicPr>
        <p:blipFill>
          <a:blip r:embed="rId1"/>
          <a:stretch/>
        </p:blipFill>
        <p:spPr>
          <a:xfrm>
            <a:off x="0" y="-447840"/>
            <a:ext cx="9429480" cy="73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https://pbs.twimg.com/media/COmvwxkUAAA0UKe.png"/>
          <p:cNvPicPr/>
          <p:nvPr/>
        </p:nvPicPr>
        <p:blipFill>
          <a:blip r:embed="rId1"/>
          <a:stretch/>
        </p:blipFill>
        <p:spPr>
          <a:xfrm>
            <a:off x="1071360" y="1000080"/>
            <a:ext cx="7229160" cy="44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s://koloro.ru/media/upload/images/SWOT3.png"/>
          <p:cNvPicPr/>
          <p:nvPr/>
        </p:nvPicPr>
        <p:blipFill>
          <a:blip r:embed="rId1"/>
          <a:stretch/>
        </p:blipFill>
        <p:spPr>
          <a:xfrm>
            <a:off x="0" y="-57240"/>
            <a:ext cx="9143640" cy="69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s://cf2.ppt-online.org/files2/slide/m/mG056HO87lp493eTEIxVMZRABKCNoSfWaDgiXyvjwz/slide-1.jpg"/>
          <p:cNvPicPr/>
          <p:nvPr/>
        </p:nvPicPr>
        <p:blipFill>
          <a:blip r:embed="rId1"/>
          <a:stretch/>
        </p:blipFill>
        <p:spPr>
          <a:xfrm>
            <a:off x="0" y="-447840"/>
            <a:ext cx="9143640" cy="73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s://present5.com/presentforday2/20170104/konspekt_po_osnovam_menedghmenta_images/konspekt_po_osnovam_menedghmenta_72.jpg"/>
          <p:cNvPicPr/>
          <p:nvPr/>
        </p:nvPicPr>
        <p:blipFill>
          <a:blip r:embed="rId1"/>
          <a:stretch/>
        </p:blipFill>
        <p:spPr>
          <a:xfrm>
            <a:off x="285840" y="571320"/>
            <a:ext cx="8357760" cy="57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https://i0.wp.com/businessxxl.ru/wp-content/uploads/2016/03/rezyume-biznes-plana2.jpg"/>
          <p:cNvPicPr/>
          <p:nvPr/>
        </p:nvPicPr>
        <p:blipFill>
          <a:blip r:embed="rId1"/>
          <a:stretch/>
        </p:blipFill>
        <p:spPr>
          <a:xfrm>
            <a:off x="3000240" y="1000080"/>
            <a:ext cx="5940000" cy="4455000"/>
          </a:xfrm>
          <a:prstGeom prst="rect">
            <a:avLst/>
          </a:prstGeom>
          <a:ln w="9525">
            <a:noFill/>
          </a:ln>
        </p:spPr>
      </p:pic>
      <p:sp>
        <p:nvSpPr>
          <p:cNvPr id="91" name="Rectangle 1"/>
          <p:cNvSpPr/>
          <p:nvPr/>
        </p:nvSpPr>
        <p:spPr>
          <a:xfrm>
            <a:off x="428760" y="218160"/>
            <a:ext cx="3285720" cy="730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4.6. Задание для самостоятельного выполн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ить резюме бизнес-пла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500040" y="5860800"/>
            <a:ext cx="5643360" cy="516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ст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SWOT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анали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полнить таблицу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5 сил Портер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1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1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Тема1</Template>
  <TotalTime>50</TotalTime>
  <Application>LibreOffice/7.4.7.2$Linux_X86_64 LibreOffice_project/40$Build-2</Application>
  <AppVersion>15.0000</AppVersion>
  <Words>32</Words>
  <Paragraphs>6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07T19:19:19Z</dcterms:created>
  <dc:creator>Hewlett-Packard Company</dc:creator>
  <dc:description/>
  <dc:language>en-US</dc:language>
  <cp:lastModifiedBy>Пользователь Windows</cp:lastModifiedBy>
  <dcterms:modified xsi:type="dcterms:W3CDTF">2020-12-14T09:10:58Z</dcterms:modified>
  <cp:revision>3</cp:revision>
  <dc:subject/>
  <dc:title>4.6.Маркетинговый анализ возможностей предприят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8</vt:r8>
  </property>
</Properties>
</file>