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B83-BFFC-4996-9A91-5BADF05B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61D-2029-4619-8A92-C27FE9A3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287-513E-4199-BCF3-07AD31F0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502-8372-4A81-8AA1-82FF2B6D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B240-F458-4C37-A70B-9AEA73CD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3051-9229-474F-8F82-BFAAD9B8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15A6-4C92-46DF-BAA0-B18A88EB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5E2C-1FEB-4EA9-A188-11B1CF6D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E899-6219-4C93-A8A1-233F4A94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C159-B417-4AFD-9AC2-49709EAB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F366-B51C-4B97-8B52-8B731B52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C94-07E8-4A55-824A-D51260CB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A2B0-98A3-40A3-B232-925336C2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B690-8D3C-49B0-8CD2-43D58FB7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1888-17E0-44F1-B3F1-018B298A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0A31-899F-48AD-8BBB-102E7F0C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2F31-5A21-45F4-91F3-30ED16A6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D7E-D93E-4042-83E3-58CC1598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EF2-1095-406E-87B6-AE5160AE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9C6-11C6-4AA9-8A0A-304F8CA7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95B-3650-4DD5-9BAE-733A58BE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2EF-6003-43CF-A888-84E63865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DBA-D79E-4D79-8DDA-AFB9AEF6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3F8-2A41-4CEA-9E7A-F92DEA12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26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3D2B66-DF16-4801-9FE1-838BBD674F4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26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AE97D4-0FC7-4993-9DAE-169662EE132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.6.Маркетинговый анализ возможностей предприятия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: Яхимович С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ttps://present5.com/docs/finansy_predpriyatiy_new_images/finansy_predpriyatiy_new_5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s://cf2.ppt-online.org/files2/slide/f/FZDxI8U1h7neRtAMsTQrlwSX9vyumgd2Vp4YbqGk0/slide-17.jpg"/>
          <p:cNvPicPr/>
          <p:nvPr/>
        </p:nvPicPr>
        <p:blipFill>
          <a:blip r:embed="rId1"/>
          <a:stretch/>
        </p:blipFill>
        <p:spPr>
          <a:xfrm>
            <a:off x="0" y="-447840"/>
            <a:ext cx="9429480" cy="73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https://pbs.twimg.com/media/COmvwxkUAAA0UKe.png"/>
          <p:cNvPicPr/>
          <p:nvPr/>
        </p:nvPicPr>
        <p:blipFill>
          <a:blip r:embed="rId1"/>
          <a:stretch/>
        </p:blipFill>
        <p:spPr>
          <a:xfrm>
            <a:off x="1071360" y="1000080"/>
            <a:ext cx="7229160" cy="44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s://koloro.ru/media/upload/images/SWOT3.png"/>
          <p:cNvPicPr/>
          <p:nvPr/>
        </p:nvPicPr>
        <p:blipFill>
          <a:blip r:embed="rId1"/>
          <a:stretch/>
        </p:blipFill>
        <p:spPr>
          <a:xfrm>
            <a:off x="0" y="-57240"/>
            <a:ext cx="914364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s://cf2.ppt-online.org/files2/slide/m/mG056HO87lp493eTEIxVMZRABKCNoSfWaDgiXyvjwz/slide-1.jpg"/>
          <p:cNvPicPr/>
          <p:nvPr/>
        </p:nvPicPr>
        <p:blipFill>
          <a:blip r:embed="rId1"/>
          <a:stretch/>
        </p:blipFill>
        <p:spPr>
          <a:xfrm>
            <a:off x="0" y="-447840"/>
            <a:ext cx="9143640" cy="73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s://present5.com/presentforday2/20170104/konspekt_po_osnovam_menedghmenta_images/konspekt_po_osnovam_menedghmenta_72.jpg"/>
          <p:cNvPicPr/>
          <p:nvPr/>
        </p:nvPicPr>
        <p:blipFill>
          <a:blip r:embed="rId1"/>
          <a:stretch/>
        </p:blipFill>
        <p:spPr>
          <a:xfrm>
            <a:off x="285840" y="571320"/>
            <a:ext cx="8357760" cy="57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https://i0.wp.com/businessxxl.ru/wp-content/uploads/2016/03/rezyume-biznes-plana2.jpg"/>
          <p:cNvPicPr/>
          <p:nvPr/>
        </p:nvPicPr>
        <p:blipFill>
          <a:blip r:embed="rId1"/>
          <a:stretch/>
        </p:blipFill>
        <p:spPr>
          <a:xfrm>
            <a:off x="3000240" y="1000080"/>
            <a:ext cx="5940000" cy="4455000"/>
          </a:xfrm>
          <a:prstGeom prst="rect">
            <a:avLst/>
          </a:prstGeom>
          <a:ln w="9525">
            <a:noFill/>
          </a:ln>
        </p:spPr>
      </p:pic>
      <p:sp>
        <p:nvSpPr>
          <p:cNvPr id="91" name="Rectangle 1"/>
          <p:cNvSpPr/>
          <p:nvPr/>
        </p:nvSpPr>
        <p:spPr>
          <a:xfrm>
            <a:off x="428760" y="218160"/>
            <a:ext cx="3285720" cy="730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.6. Задание для самостоятельного выпол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ить резюме бизнес-пл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500040" y="5860800"/>
            <a:ext cx="5643360" cy="51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ст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WOT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анали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олнить таблицу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5 сил Портер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1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1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Тема1</Template>
  <TotalTime>50</TotalTime>
  <Application>LibreOffice/7.4.7.2$Linux_X86_64 LibreOffice_project/40$Build-2</Application>
  <AppVersion>15.0000</AppVersion>
  <Words>32</Words>
  <Paragraphs>6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7T19:19:19Z</dcterms:created>
  <dc:creator>Hewlett-Packard Company</dc:creator>
  <dc:description/>
  <dc:language>en-US</dc:language>
  <cp:lastModifiedBy>Пользователь Windows</cp:lastModifiedBy>
  <dcterms:modified xsi:type="dcterms:W3CDTF">2020-12-14T09:10:58Z</dcterms:modified>
  <cp:revision>3</cp:revision>
  <dc:subject/>
  <dc:title>4.6.Маркетинговый анализ возможностей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