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0E7-BE1E-44B7-B328-80F23153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E32-93C4-40A2-BE4C-D33B04BC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E09-858A-4F45-AC65-7609F4E6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4F5-D14A-4505-86CE-4D6A1234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C14D-8851-43D3-89EE-DD83D956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8339-1D98-446C-B14A-3EDBF298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05D5-0F4A-4F90-B1CC-D3BB05C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E161-BDE4-4FA0-95B3-E32104DE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34C-D993-4200-8EC6-61B50F75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DF55-42B4-4715-9125-816DE9D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489A-8B87-4D9B-9373-1D40FFF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0AB-31BD-4F4E-BDE3-C7213656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B60D-9537-4AD9-B381-FD21D78C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E3AF-BFB8-48B7-94C1-C712A5B6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E5DB-09FC-4EB5-8447-2CBF9DE8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C63F-7886-4A5D-8979-F9C8BD15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796B-32F2-4FA8-BA87-35E8BA2E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35A-C908-4CA8-BA87-DC5A1C62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7D7-D259-45B3-B957-B6B7648D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ABA-1688-4BEF-B3C3-7261388B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1F1-26D1-4047-A157-00E4419B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E99-DA6E-4BC5-858F-C8240CA1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69B-43CE-4D66-B952-BF9050B5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F51-2840-445F-8D44-4BD455B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BD77B6-9236-4EFB-B907-38516E3FB8CC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E42D86-0F8F-4686-8DA6-0B49B19C9D44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ortwiki.to/&#1060;&#1080;&#1079;&#1082;&#1091;&#1083;&#1100;&#1090;&#1091;&#1088;&#1085;&#1099;&#1077;_&#1080;_&#1089;&#1087;&#1086;&#1088;&#1090;&#1080;&#1074;&#1085;&#1099;&#1077;_&#1084;&#1077;&#1088;&#1086;&#1087;&#1088;&#1080;&#1103;&#1090;&#1080;&#1103;#cite_note-31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5160" y="19162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1"/>
                </a:solidFill>
                <a:latin typeface="Trebuchet MS"/>
              </a:rPr>
              <a:t>Физкультурные и спортивные мероприятия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1600" spc="-1" strike="noStrike">
                <a:solidFill>
                  <a:srgbClr val="2c3c43"/>
                </a:solidFill>
                <a:latin typeface="Trebuchet MS"/>
              </a:rPr>
              <a:t>Киэлевяйнен Л.М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626400" y="751320"/>
            <a:ext cx="1141272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азделы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предусмотренные п. 4—9, должны содержать следующие подразде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щие сведения о спортивном соревнован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Данный подраздел  содержит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о месте проведения спортивных соревнов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убъект Российской Федерации, населенный пункт, наименование объекта спорта (при налич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мер этапа Кубка России (для Кубка России в случае проведения Кубка России поэтапно), наименование всероссийского спортивного соревн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характере подведения итогов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планируемом количестве участников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) составе спортивной сборной команды субъекта Российской Федерации или команды сильнейших спортсменов федерального округа (с указанием количества спортсменов, тренеров, спортивных судей, а также их общего количест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) требуемой спортивной квалификации спортсменов (наличие спортивного звания или спортивного разряда или юношеского спортивного разряда) в соответствии с Единой всероссийской спортивной классификацией (далее также — ЕВСК)</a:t>
            </a:r>
            <a:r>
              <a:rPr b="0" lang="ru-RU" sz="1800" spc="-1" strike="noStrike" u="sng" baseline="30000">
                <a:solidFill>
                  <a:srgbClr val="99ca3c"/>
                </a:solidFill>
                <a:uFillTx/>
                <a:latin typeface="Trebuchet MS"/>
                <a:hlinkClick r:id="rId1"/>
              </a:rPr>
              <a:t>[31]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необходимой для допуска на спортивное сорев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) группе участников спортивных соревнований по полу и возрасту в соответствии с ЕВС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) программе спортивных соревнований (сроки проведения, в том числе дата приезда и дата отъезда, наименование спортивной дисциплины в соответствии с ВРВС, номер-код спортивной дисциплины в соответствии с ВРВС, количество видов программ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592560" y="528120"/>
            <a:ext cx="10650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 Требования к участникам и условия их допуска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исчерпывающие условия, определяющие допуск сильнейших спортсменов спортивных сборных команд субъектов Российской Федерации (команд сильнейших спортсменов федеральных округов или физкультурно-спортивных организаций, в том числе спортивных клубов — для командных игровых видов спорта) к спортивному соревнованию, включая минимально допустимый возраст спортсмена с учетом требований международных спортивных организаций, проводящих соответствующие международные соревнова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427680" y="796320"/>
            <a:ext cx="11105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Заявки на участие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условия подачи заявок на участие в спортивном соревновании, подписанных руководителями органов исполнительной власти субъектов Российской Федерации в области физической культуры и спорта и/или аккредитованных региональных спортивных федераций (или физкультурно-спортивных организаций, в том числе спортивных клубов — для командных игровых видов спорт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исчерпывающий перечень документов, удостоверяющих личность, предусмотренных законодательством Российской Федерации и подтверждающих возраст спортсмена, документов, касающихся принадлежности участника к субъекту Российской Федерации, документов, подтверждающих его спортивную квалификацию (спортивный разряд, спортивное звание), результаты выступления спортсмена на спортивных соревнованиях более низкого статуса, медицинский допуск на соревнования для участия в спортивном соревновании, ветеринарный допуск животного, участвующего в спортивном соревновании (для видов спорта с использованием животных), техническую исправность и соответствие инвентаря (включая технические средства — самолет, вертолет, автомобиль и другие) правилам вида спорта, предъявляемых организаторам спортивных соревн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11480" y="1720800"/>
            <a:ext cx="113688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Условия подведения итогов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система проведения спортивных соревнований, условия (принципы и критерии) подведения итогов спортивного соревнования, определения победителей и призеров в личных видах программы спортивных соревнований и (или) в командных видах программы спортивных соревнований и наделения статусом чемпионов, победителей первенств, обладателей кубков Росс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условия подведения итогов при ранжировании спортивных сборных команд субъектов Российской Федерации и (или) команд сильнейших спортсменов федеральных округов — участниц спортивных соревнований, по итогам выступления спортсменов (групп, экипажей, пар и так далее) во всех видах программы спортивных соревнований, включая командные виды программы спортивных соревнований (далее — командный зачет) — если командный зачет подводится по итогам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сроки представления общероссийской спортивной федерацией итоговых протоколов о проведенном спортивном соревновании на бумажном и электронном носителях в Министер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47600" y="213120"/>
            <a:ext cx="11419200" cy="4478760"/>
          </a:xfrm>
          <a:prstGeom prst="rect">
            <a:avLst/>
          </a:prstGeom>
          <a:solidFill>
            <a:srgbClr val="ffffff"/>
          </a:solidFill>
          <a:ln cap="rnd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. </a:t>
            </a:r>
            <a:r>
              <a:rPr b="1" lang="ru-RU" sz="1800" spc="-1" strike="noStrike">
                <a:solidFill>
                  <a:schemeClr val="dk1"/>
                </a:solidFill>
                <a:latin typeface="Trebuchet MS"/>
              </a:rPr>
              <a:t>«Награждение победителей и призеров» </a:t>
            </a: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(данный подраздел включается в Положение при необходимости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а) условия награждения победителей и призеров в личных видах программы спортивных соревнований наградами спортивного соревнования — печатной (дипломы) и сувенирной (медали, памятные призы) продукцией с изображением эмблемы Министе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б) порядок награждения победителей и призеров в командных видах программы спортивных соревнований наградами спортивного соревнования — печатной (дипломы) и сувенирной (медали, памятные призы) продукцией с изображением эмблемы Министе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в) порядок награждения тренеров, подготовивших победителей в личных и командных видах программы спортивных соревнований, наградами спортивного соревнования — печатной (дипломы) продукцией с изображением эмблемы Министе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г) порядок награждения спортивных сборных команд субъектов Российской Федерации и (или) команд сильнейших спортсменов федеральных округов — победителей командного зачета наградами спортивного соревнования — печатной (дипломы) и сувенирной (памятные призы) продукцией с изображением эмблемы Министерства (если положением предусмотрено подведение итогов командного заче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47600" y="4937040"/>
            <a:ext cx="7941240" cy="1461240"/>
          </a:xfrm>
          <a:prstGeom prst="rect">
            <a:avLst/>
          </a:prstGeom>
          <a:solidFill>
            <a:srgbClr val="ffffff"/>
          </a:solidFill>
          <a:ln cap="rnd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. </a:t>
            </a:r>
            <a:r>
              <a:rPr b="1" lang="ru-RU" sz="1800" spc="-1" strike="noStrike">
                <a:solidFill>
                  <a:schemeClr val="dk1"/>
                </a:solidFill>
                <a:latin typeface="Trebuchet MS"/>
              </a:rPr>
              <a:t>«Условия финансирования»</a:t>
            </a: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указываются сведения об источниках и условиях финансового обеспечения спортивного сорев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202400" y="1720800"/>
            <a:ext cx="794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СТАВИТЬ ПОЛОЖЕНИЕ О СОРЕВНОВАНИЯХ ШКОЛЬНОГО 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177120" y="304920"/>
            <a:ext cx="11375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ья 2 Федерального закона о спорте закрепляет следующий основной понятийный аппарат, касающийся физкультурных и спортивных мероприят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культурные 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организованные занятия граждан физической культур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ртивные 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спортивные соревнования, а также тренировочные мероприятия, включающие в себя теоретическую и организационную части, и другие мероприятия по подготовке к спортивным соревнованиям с участием спортсме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ициальные физкультурные и спортивные 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физкультурные и спортивные мероприятия, включенные в Единый календарный план межрегиональных, всероссийских и международных физкультурных и спортивных мероприятий, календарные планы физкультурных и спортивных мероприятий субъектов Российской Федерации, муниципальных образова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ртивное соревн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состязание среди спортсменов или команд спортсменов по различным видам спорта (спортивным дисциплинам) в целях выявления лучшего участника состязания, проводимое по утвержденному его организатором положению (регламент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спортивное соревнование по определенному виду спорта или одной из его дисциплин, в результате которого осуществляется распределение мест и (или) медалей среди участников спортивного сорев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469080" y="1028520"/>
            <a:ext cx="1016640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(регламент) о межрегиональных и всероссийских официальных физкультурных мероприятиях (далее также — Положение) соста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дельно на каждое официальное межрегиональное и всероссийское физкультурное мероприят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алее также — физкультурное мероприят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физкультурных мероприятий, имеющих отборочную и финальную стадии их проведения или проводящихся в несколько этапов, составляется одно Положение.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655200" y="1022040"/>
            <a:ext cx="9966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ложение должно содержа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следующие разделы и подразде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 Общие положе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основание проведения физкультурного мероприятия — решение организатора (организаторов)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цели и задачи проведения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Место и сроки проведения физкультурного мероприят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сто проведения (наименование субъекта Российской Федерации, населенного пунк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оки проведения (число, месяц, год), включая день приезда и день отъезда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рганизаторы физкультурного мероприят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лные наименования (включая организационно-правовую форму) организаторов физкультурного мероприятия — юридических ли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спределение прав и обязанностей между организаторами в отношении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сональный состав организационного комитета физкультурного мероприятия или порядок и сроки его форм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74320" y="648360"/>
            <a:ext cx="111859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Требования к участникам физкультурного мероприятия и условия их допуска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, определяющие допуск команд и (или) участников к участию в физкультурном мероприят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исленные составы команд, формируемых для участия в физкультурном мероприятии, с указанием количества тренеров, специалистов, спортивных судей и руков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рограмма физкультурного мероприят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списание соревнований по дням с указанием дня приезда и дня отъез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и система проведения соревнований по видам спорта, включенным в программу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сылка на правила видов спорта, включенных в программу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Условия подведения итогов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(принципы и критерии) определения победителей и призеров в личных и (или) командных видах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подведения итогов общекомандного зачета — если общекомандный зачет подводится по итогам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оки представления организаторами итоговых протоколов, фотоальбомов и справок об итогах проведения физкультурного мероприятия на бумажном и электронном носителях в Министерство спорта Российской Федерации (далее также — Министерств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51640" y="587520"/>
            <a:ext cx="116888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аграждение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награждения победителей и призеров в личных видах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награждения победителей и призеров в командных видах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награждения победителей и призеров в общекомандном заче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Условия финансирова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ведения об источниках и условиях финансового обеспечения физкультурного мероприятия, включая финансирование за счет средств федерального бюдж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еспечение безопасности участников и зрителе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ры и условия, касающиеся обеспечения безопасности участников и зрителей при проведении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Страхование участников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страхования жизни и здоровья участников от несчастных случае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одача заявок на участие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оки и условия подачи заявок на участие в физкультурном мероприятии, требования к их оформле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чень документов, представляемых в комиссию по допуску участников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чтовый адрес и иные необходимые реквизиты организаторов физкультурного мероприятия для направления заявок (адрес электронной почты, телефон/фак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5800" y="474480"/>
            <a:ext cx="101170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гламенты о межрегиональных и всероссийских официальных спортивных соревнованиях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(далее также — Регламенты) разрабатываются общероссийской спортивной федерацией по соответствующему виду спорта индивидуально на каждое спортивное соревнование и утверждаются общероссийской спортивной федерацией по соответствующему виду спорта и иными организаторами спортивного соревнования. В случае если организаторами нескольких межрегиональных и всероссийских официальных спортивных соревнований (далее — спортивные соревнования) являются одни и те же лица, то на такие соревнования может быть составлен один Регламен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668880" y="204480"/>
            <a:ext cx="1085400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ложение о межрегиональных и всероссийских официальных спортивных соревнованиях должно содержать следующие разделы и подраздел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щие положе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ссылку на решения и документы, являющиеся основанием для проведения спортивных соревнов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мер и дату принятия решения Министерством о государственной аккредитации общероссийской общественной организации и наделении ее статусом общероссийской спортивной федерации или наделении общероссийской общественной организации правами и обязанностями общероссийской спортивн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шение постоянно действующего руководящего коллегиального органа общероссийской спортивной федерации о проведении спортивных соревнов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сылку на правила вида спорта, в соответствии с которыми проводится спортивное соревн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ые решения и документы, регулирующие проведение спортивного соревнования (при налич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указание на цель — развитие вида спорта и задачи проведения спортивного соревнования в части развития спорта высших достиж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основания для направления спортсменов на спортивные соревн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рава и обязанности организаторов спортивных соревновани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щие принципы распределения прав и обязанностей между организаторами спортивных соревнований, включая ссылку на необходимость распределения таких прав и обязанностей, ответственность за причиненный вред участникам мероприятия и (или) третьим лицам между общероссийской спортивной федерацией и иными организаторами спортивных соревнований в договоре между ними или в Регла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63960" y="309600"/>
            <a:ext cx="11463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еспечение безопасности участников и зрителей, медицинское обеспечение, антидопинговое обеспечение спортивных соревновани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общие требования по обеспечению безопасности участников и зрителей при проведении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требования по страхованию жизни и здоровья участников спортивных соревнований от несчастных случае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общие требования по медицинскому обеспечению участников спортивных соревнований, включая наличие медицинского персонала для оказания в случае необходимости скорой медицинской помощи, проведение перед соревнованиями и во время соревнований медицинских осмотров, наличие у участников спортивных соревнований медицинских справок, подтверждающих состояние здоровья и возможность их допуска к соревновани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) общие принципы проведения обязательного допинг-контроля с соблюдением требований Международного стандарта, принятого Всемирным антидопинговым агентств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) ссылку на необходимость конкретизации требований, предусмотренных настоящим пунктом в Регламен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 Чемпионат Росс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Кубок Росс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ервенство Росс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Всероссийские спортивные соревнова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Межрегиональные спортивные соревнования — чемпионаты федеральных округов, двух и более федеральных округов (зональные соревнования)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Межрегиональные спортивные соревнования — первенства федеральных округов, двух и более федеральных округов (зональные соревнования)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{315C73B6-6D37-314A-A69F-1AED10B6CA58}tf10001060</Template>
  <TotalTime>35</TotalTime>
  <Application>LibreOffice/7.4.7.2$Linux_X86_64 LibreOffice_project/40$Build-2</Application>
  <AppVersion>15.0000</AppVersion>
  <Words>1902</Words>
  <Paragraphs>1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1T07:51:17Z</dcterms:created>
  <dc:creator>Kielevyaynen Larisa</dc:creator>
  <dc:description/>
  <dc:language>en-US</dc:language>
  <cp:lastModifiedBy>Kielevyaynen Larisa</cp:lastModifiedBy>
  <dcterms:modified xsi:type="dcterms:W3CDTF">2020-12-01T08:26:32Z</dcterms:modified>
  <cp:revision>3</cp:revision>
  <dc:subject/>
  <dc:title>Физкультурные и спортивные меро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