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384-1F8A-4DDC-8198-B6469BFF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DA9-4453-48C0-BA48-1CAB735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04F-02AD-4E34-A396-C0826100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305-8A6D-495A-AD62-2813C40E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579-BC5A-4448-B3A1-3F674935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BF6-80C6-4762-82D2-737E309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178A-C746-47EF-9756-C327FC73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08E-E530-40A7-B2B6-9AADB1A6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6105-8751-453F-A39E-E82E9624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E883-7CE6-4018-9BC9-C63FBB1C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E69-EA4B-43B7-8A59-AA47A57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F14-F85B-4F51-A34A-02D2B0D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285D-2D16-4504-B2F2-B27469A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B35-C602-444A-89E3-F94E5F93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B86-7D91-419A-BE15-04B83BD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D822-BBB1-4335-AA1A-FFC0EC37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4161-DDB0-4A7F-917F-68DC7ADA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361-2B93-4EAA-A254-9787D47B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4CE-2D55-4F4C-82C6-4CF0F990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D2D-3829-46D6-BFA0-A58561FE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A21-E3D5-4F52-BA0C-10CD1795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883-E629-44EF-9D35-FB260D2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88B-3BEC-46E7-B64E-4B45A32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C70-629E-4584-AA09-9EE6E36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C6B8B3-AC32-4A1D-A87C-EC750CD9277C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A1C70-0FF6-4FEC-9FD5-8315782673FE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ortwiki.to/&#1060;&#1080;&#1079;&#1082;&#1091;&#1083;&#1100;&#1090;&#1091;&#1088;&#1085;&#1099;&#1077;_&#1080;_&#1089;&#1087;&#1086;&#1088;&#1090;&#1080;&#1074;&#1085;&#1099;&#1077;_&#1084;&#1077;&#1088;&#1086;&#1087;&#1088;&#1080;&#1103;&#1090;&#1080;&#1103;#cite_note-31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5160" y="19162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Физкультурные и спортивные мероприятия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1600" spc="-1" strike="noStrike">
                <a:solidFill>
                  <a:srgbClr val="2c3c43"/>
                </a:solidFill>
                <a:latin typeface="Trebuchet MS"/>
              </a:rPr>
              <a:t>Киэлевяйнен Л.М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26400" y="751320"/>
            <a:ext cx="114127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азделы Положения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предусмотренные п. 4—9, должны содержать следующие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сведения о спортивном соревнован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Данный подраздел  содержит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 месте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убъект Российской Федерации, населенный пункт, наименование объекта спорта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этапа Кубка России (для Кубка России в случае проведения Кубка России поэтапно), наименование всероссийского спортивного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характере подведения итог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планируемом количестве участников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составе спортивной сборной команды субъекта Российской Федерации или команды сильнейших спортсменов федерального округа (с указанием количества спортсменов, тренеров, спортивных судей, а также их общего количест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требуемой спортивной квалификации спортсменов (наличие спортивного звания или спортивного разряда или юношеского спортивного разряда) в соответствии с Единой всероссийской спортивной классификацией (далее также — ЕВСК)</a:t>
            </a:r>
            <a:r>
              <a:rPr b="0" lang="ru-RU" sz="1800" spc="-1" strike="noStrike" u="sng" baseline="30000">
                <a:solidFill>
                  <a:srgbClr val="99ca3c"/>
                </a:solidFill>
                <a:uFillTx/>
                <a:latin typeface="Trebuchet MS"/>
                <a:hlinkClick r:id="rId1"/>
              </a:rPr>
              <a:t>[31]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необходимой для допуска на спортивное сорев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е) группе участников спортивных соревнований по полу и возрасту в соответствии с ЕВС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) программе спортивных соревнований (сроки проведения, в том числе дата приезда и дата отъезда, наименование спортивной дисциплины в соответствии с ВРВС, номер-код спортивной дисциплины в соответствии с ВРВС, количество видов программ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592560" y="528120"/>
            <a:ext cx="10650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Требования к участникам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исчерпывающие условия, определяющие допуск сильнейших спортсменов спортивных сборных команд субъектов Российской Федерации (команд сильнейших спортсменов федеральных округов или физкультурно-спортивных организаций, в том числе спортивных клубов — для командных игровых видов спорта) к спортивному соревнованию, включая минимально допустимый возраст спортсмена с учетом требований международных спортивных организаций, проводящих соответствующие международные соревн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427680" y="796320"/>
            <a:ext cx="11105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Заявки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условия подачи заявок на участие в спортивном соревновании, подписанных руководителями органов исполнительной власти субъектов Российской Федерации в области физической культуры и спорта и/или аккредитованных региональных спортивных федераций (или физкультурно-спортивных организаций, в том числе спортивных клубов — для командных игровых видов спорт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исчерпывающий перечень документов, удостоверяющих личность, предусмотренных законодательством Российской Федерации и подтверждающих возраст спортсмена, документов, касающихся принадлежности участника к субъекту Российской Федерации, документов, подтверждающих его спортивную квалификацию (спортивный разряд, спортивное звание), результаты выступления спортсмена на спортивных соревнованиях более низкого статуса, медицинский допуск на соревнования для участия в спортивном соревновании, ветеринарный допуск животного, участвующего в спортивном соревновании (для видов спорта с использованием животных), техническую исправность и соответствие инвентаря (включая технические средства — самолет, вертолет, автомобиль и другие) правилам вида спорта, предъявляемых организаторам спортивных соревн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411480" y="1720800"/>
            <a:ext cx="113688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истема проведения спортивных соревнований, условия (принципы и критерии) подведения итогов спортивного соревнования, определения победителей и призеров в личных видах программы спортивных соревнований и (или) в командных видах программы спортивных соревнований и наделения статусом чемпионов, победителей первенств, обладателей кубков Рос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словия подведения итогов при ранжировании спортивных сборных команд субъектов Российской Федерации и (или) команд сильнейших спортсменов федеральных округов — участниц спортивных соревнований, по итогам выступления спортсменов (групп, экипажей, пар и так далее) во всех видах программы спортивных соревнований, включая командные виды программы спортивных соревнований (далее — командный зачет) — если командный зачет подводится по итогам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сроки представления общероссийской спортивной федерацией итоговых протоколов о проведенном спортивном соревновании на бумажном и электронном носителях в Министер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47600" y="213120"/>
            <a:ext cx="11419200" cy="447876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Награждение победителей и призеров» 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(данный подраздел включается в Положение при необходимости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а) условия награждения победителей и призеров в лич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б) порядок награждения победителей и призеров в командных видах программы спортивных соревнований наградами спортивного соревнования — печатной (дипломы) и сувенирной (медали, памятные приз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в) порядок награждения тренеров, подготовивших победителей в личных и командных видах программы спортивных соревнований, наградами спортивного соревнования — печатной (дипломы) продукцией с изображением эмблемы Министе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г) порядок награждения спортивных сборных команд субъектов Российской Федерации и (или) команд сильнейших спортсменов федеральных округов — победителей командного зачета наградами спортивного соревнования — печатной (дипломы) и сувенирной (памятные призы) продукцией с изображением эмблемы Министерства (если положением предусмотрено подведение итогов командного заче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7600" y="4937040"/>
            <a:ext cx="7941240" cy="1461240"/>
          </a:xfrm>
          <a:prstGeom prst="rect">
            <a:avLst/>
          </a:prstGeom>
          <a:solidFill>
            <a:srgbClr val="ffffff"/>
          </a:solidFill>
          <a:ln cap="rnd"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r>
              <a:rPr b="1" lang="ru-RU" sz="1800" spc="-1" strike="noStrike">
                <a:solidFill>
                  <a:schemeClr val="dk1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Trebuchet MS"/>
              </a:rPr>
              <a:t>указываются сведения об источниках и условиях финансового обеспечения спортивного 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202400" y="1720800"/>
            <a:ext cx="7941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СТАВИТЬ ПОЛОЖЕНИЕ О СОРЕВНОВАНИЯХ ШКОЛЬНОГО 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177120" y="304920"/>
            <a:ext cx="11375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2 Федерального закона о спорте закрепляет следующий основной понятийный аппарат, касающийся физкультурных и спортивных мероприят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культур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организованные занятия граждан физической культур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ые соревнования, а также тренировочные мероприятия, включающие в себя теоретическую и организационную части, и другие мероприятия по подготовке к спортивным соревнованиям с участием спортсме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ициальные физкультурные и спортивные 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физкультурные и спортивные мероприятия, включенные в Единый календарный план межрегиональных, всероссийских и международных физкультурных и спортивных мероприятий, календарные планы физкультурных и спортивных мероприятий субъектов Российской Федерации, муниципальных образ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ртивное соревн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остязание среди спортсменов или команд спортсменов по различным видам спорта (спортивным дисциплинам) в целях выявления лучшего участника состязания, проводимое по утвержденному его организатором положению (регламент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спортивное соревнование по определенному виду спорта или одной из его дисциплин, в результате которого осуществляется распределение мест и (или) медалей среди участников спортивного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469080" y="1028520"/>
            <a:ext cx="101664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(регламент) о межрегиональных и всероссийских официальных физкультурных мероприятиях (далее также — Положение) соста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дельно на каждое официальное межрегиональное и всероссийское физкультурное мероприя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алее также — физкультурное мероприят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изкультурных мероприятий, имеющих отборочную и финальную стадии их проведения или проводящихся в несколько этапов, составляется одно Положение.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55200" y="1022040"/>
            <a:ext cx="9966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должно содержать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следующие разделы и подразде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основание проведения физкультурного мероприятия — решение организатора (организаторов)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цели и задачи проведения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сто и сроки проведения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сто проведения (наименование субъекта Российской Федерации, населенного пунк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оведения (число, месяц, год), включая день приезда и день отъезда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рганизаторы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лные наименования (включая организационно-правовую форму) организаторов физкультурного мероприятия — юридически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ределение прав и обязанностей между организаторами в отнош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сональный состав организационного комитета физкультурного мероприятия или порядок и сроки его форм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74320" y="648360"/>
            <a:ext cx="111859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Требования к участникам физкультурного мероприятия и условия их допуска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, определяющие допуск команд и (или) участников к участию в физкультурном мероприя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исленные составы команд, формируемых для участия в физкультурном мероприятии, с указанием количества тренеров, специалистов, спортивных судей и руков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ограмма физкультурного мероприят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списание соревнований по дням с указанием дня приезда и дня отъез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и система проведения соревнований по видам спорта, включенным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а на правила видов спорта, включенных в программу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подведения итог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(принципы и критерии) определения победителей и призеров в личных и (или)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подведения итогов общекомандного зачета — если общекомандный зачет подводится по итогам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представления организаторами итоговых протоколов, фотоальбомов и справок об итогах проведения физкультурного мероприятия на бумажном и электронном носителях в Министерство спорта Российской Федерации (далее также — Министер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51640" y="587520"/>
            <a:ext cx="116888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Награжден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лич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командных видах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награждения победителей и призеров в общекомандном заче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Условия финансир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ведения об источниках и условиях финансового обеспечения физкультурного мероприятия, включая финансирование за счет средств федерального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ры и условия, касающиеся обеспечения безопасности участников и зрителей при проведении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Страхование участников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словия страхования жизни и здоровья участников от несчастных случа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одача заявок на участие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оки и условия подачи заявок на участие в физкультурном мероприятии, требования к их оформл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чень документов, представляемых в комиссию по допуску участников физкультурного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чтовый адрес и иные необходимые реквизиты организаторов физкультурного мероприятия для направления заявок (адрес электронной почты, телефон/фак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5800" y="474480"/>
            <a:ext cx="101170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гламенты о межрегиональных и всероссийских официальных спортивных соревнования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(далее также — Регламенты) разрабатываются общероссийской спортивной федерацией по соответствующему виду спорта индивидуально на каждое спортивное соревнование и утверждаются общероссийской спортивной федерацией по соответствующему виду спорта и иными организаторами спортивного соревнования. В случае если организаторами нескольких межрегиональных и всероссийских официальных спортивных соревнований (далее — спортивные соревнования) являются одни и те же лица, то на такие соревнования может быть составлен один Регламен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668880" y="204480"/>
            <a:ext cx="1085400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Положение о межрегиональных и всероссийских официальных спортивных соревнованиях должно содержать следующие разделы и подразделы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щие положе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ссылку на решения и документы, являющиеся основанием для проведения спортивных сорев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мер и дату принятия решения Министерством о государственной аккредитации общероссийской общественной организации и наделении ее статусом общероссийской спортивной федерации или наделении общероссийской общественной организации правами и обязанностями общероссийской спортивн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шение постоянно действующего руководящего коллегиального органа общероссийской спортивной федерации о проведении спортивных соревн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сылку на правила вида спорта, в соответствии с которыми проводится спортивное соревн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ые решения и документы, регулирующие проведение спортивного соревнования (при налич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указание на цель — развитие вида спорта и задачи проведения спортивного соревнования в части развития спорта высших дости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снования для направления спортсменов на спортивные сорев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рава и обязанности организаторов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щие принципы распределения прав и обязанностей между организаторами спортивных соревнований, включая ссылку на необходимость распределения таких прав и обязанностей, ответственность за причиненный вред участникам мероприятия и (или) третьим лицам между общероссийской спортивной федерацией и иными организаторами спортивных соревнований в договоре между ними или в Регламен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63960" y="309600"/>
            <a:ext cx="114634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Обеспечение безопасности участников и зрителей, медицинское обеспечение, антидопинговое обеспечение спортивных соревнований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общие требования по обеспечению безопасности участников и зрителей при проведении спортивного соревн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требования по страхованию жизни и здоровья участников спортивных соревнований от несчастных случае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 общие требования по медицинскому обеспечению участников спортивных соревнований, включая наличие медицинского персонала для оказания в случае необходимости скорой медицинской помощи, проведение перед соревнованиями и во время соревнований медицинских осмотров, наличие у участников спортивных соревнований медицинских справок, подтверждающих состояние здоровья и возможность их допуска к соревнован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) общие принципы проведения обязательного допинг-контроля с соблюдением требований Международного стандарта, принятого Всемирным антидопинговым агентств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) ссылку на необходимость конкретизации требований, предусмотренных настоящим пунктом в Регламен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 Чемпионат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Кубок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Первенство Росси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Всероссийские спортивные соревнования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чемпионаты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«Межрегиональные спортивные соревнования — первенства федеральных округов, двух и более федеральных округов (зональные соревнования)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{315C73B6-6D37-314A-A69F-1AED10B6CA58}tf10001060</Template>
  <TotalTime>35</TotalTime>
  <Application>LibreOffice/7.4.7.2$Linux_X86_64 LibreOffice_project/40$Build-2</Application>
  <AppVersion>15.0000</AppVersion>
  <Words>1902</Words>
  <Paragraphs>11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1T07:51:17Z</dcterms:created>
  <dc:creator>Kielevyaynen Larisa</dc:creator>
  <dc:description/>
  <dc:language>en-US</dc:language>
  <cp:lastModifiedBy>Kielevyaynen Larisa</cp:lastModifiedBy>
  <dcterms:modified xsi:type="dcterms:W3CDTF">2020-12-01T08:26:32Z</dcterms:modified>
  <cp:revision>3</cp:revision>
  <dc:subject/>
  <dc:title>Физкультурные и спортивные меро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