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563-3707-43E3-AE3F-118EBBD8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99A-6B2A-4487-B49C-76E0FEA4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5F3-6413-4095-96FC-AFDDA530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EA0-11EA-4117-BF93-3088B242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14FF-DB2A-4A9D-967C-FE099AE6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56D5-75C2-4DF8-93C8-9025D9EA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9B60-B53D-4154-8FBE-B6C9C3E8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FB74-8302-4538-82C6-394F5172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61ED-7446-4A5D-BAAD-EBFBBD1E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ACF0-B953-4BE7-9F3F-A7533940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3FA0-6814-454D-87B0-78C831C7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5BC-D58B-457E-97F0-9FF48A95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C46B-4691-4FF5-B0DC-2EFA3AC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F0C7-60C9-45F3-BC55-46D3B343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2ABB-C09C-48C0-8FFF-E9642FB1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6DBB-88B6-4F0A-98C2-7EDB7B78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6F17-A628-4BA5-B909-9ACC9372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055-7E7A-4840-9927-3F3890CC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86D-64AC-4DC5-8529-D3120147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901-8EE1-408C-A3E6-78D196F9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DAB-CE76-488F-876C-08404B71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F3D-7595-4369-916B-014AC4F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009-04AA-43AE-81EE-DD2122E1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D24-FCBF-446C-B73E-C96194A4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e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447C8A-F266-4AB7-84FD-B9D83D76A48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e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12B1B5-29A2-476A-81D5-82687C76FEE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esh.edu.ru/subject/lesson/2819/main/" TargetMode="External"/><Relationship Id="rId2" Type="http://schemas.openxmlformats.org/officeDocument/2006/relationships/hyperlink" Target="https://resh.edu.ru/subject/lesson/2819/main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e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Классная работа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Тема:</a:t>
            </a:r>
            <a:r>
              <a:rPr b="1" lang="en-US" sz="6000" spc="-1" strike="noStrike">
                <a:solidFill>
                  <a:srgbClr val="ff0000"/>
                </a:solidFill>
                <a:latin typeface="Calibri Light"/>
              </a:rPr>
              <a:t>Town Villages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You will learn about the life in the city and country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 will learn how to talk about your neighb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 will learn how to use prepositions of place to describe your neighbourh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мотрите описание жизни в город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resh.edu.ru/subject/lesson/2819/main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/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авайте запомним незнакомые сло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ker’s, bank, café, chemist’s, corner shop, grocer’s, make friends with smb, move house, neighbour, neighbourhood, newsagent’s, errand, busy, local, modern, narrow, noisy, arrogant, attractive, caring, forgetful, helpful, pretty, rude, sociable, talkative, ugly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пиши их в словарь и выучи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 учебнике вы можете найти их на стр32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1110960" y="1932480"/>
            <a:ext cx="3887280" cy="46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оедини прилагательные с их антонима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rcRect l="8843" t="17229" r="15143" b="8514"/>
          <a:stretch/>
        </p:blipFill>
        <p:spPr>
          <a:xfrm>
            <a:off x="838080" y="1780560"/>
            <a:ext cx="94028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07840"/>
            <a:ext cx="10560960" cy="51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>
              <a:lnSpc>
                <a:spcPct val="90000"/>
              </a:lnSpc>
              <a:buNone/>
            </a:pPr>
            <a:br>
              <a:rPr sz="3100"/>
            </a:b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Calibri Light"/>
              </a:rPr>
              <a:t>Домашнее задание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Use the words below to complete the exchanges.</a:t>
            </a:r>
            <a:r>
              <a:rPr b="1" lang="ru-RU" sz="3100" spc="-1" strike="noStrike">
                <a:solidFill>
                  <a:srgbClr val="000000"/>
                </a:solidFill>
                <a:latin typeface="Calibri Light"/>
              </a:rPr>
              <a:t>( вставь слова в пропуски по смыслу)</a:t>
            </a:r>
            <a:br>
              <a:rPr sz="3100"/>
            </a:b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Café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 , 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bank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 baker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grocer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 corner sho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p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newsagent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.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chemist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flat</a:t>
            </a:r>
            <a:br>
              <a:rPr sz="2800"/>
            </a:b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Hi, Carol. Would you like to go to a  for a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 cup of coffee?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Sure, but first I have to go to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to get some money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I need to buy some bread. Is there a 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nearby?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Yes, it’s next to a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down the street where you can buy your fruit and vegetables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Could you give me directions to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? I need to buy some chewing gum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I’ll go with you. It’s opposite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where I buy the paper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I feel terrible! I should go to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to get some aspirin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You can’t leave your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in this cold weather! I’ll go and get some for you.</a:t>
            </a:r>
            <a:br>
              <a:rPr sz="4400"/>
            </a:b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  <Words>32</Words>
  <Paragraphs>1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4T11:45:27Z</dcterms:created>
  <dc:creator>Алексей</dc:creator>
  <dc:description/>
  <dc:language>en-US</dc:language>
  <cp:lastModifiedBy>Алексей</cp:lastModifiedBy>
  <dcterms:modified xsi:type="dcterms:W3CDTF">2021-11-15T18:13:16Z</dcterms:modified>
  <cp:revision>4</cp:revision>
  <dc:subject/>
  <dc:title>Классная работа Тема:Grammar in use стр 30-3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6</vt:r8>
  </property>
</Properties>
</file>