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2B2-7F81-4F9D-AF99-BA578BA6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40D-567B-438D-8DEA-7262DC8D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220-81A6-4195-AEBE-C6948C94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956-E3A9-4AFF-A426-FE5AF17C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4834-CA43-4BAB-914F-CAE4B806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6D3E-E9C6-40B5-852D-96280605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1BE3-A540-4A96-8F8F-FB206F07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78E2-1642-41E9-81D8-DEAF1A17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F75E-6F1A-4473-8094-6D3B552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D75-D8C0-4F12-8318-96BB1754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D44D-C1A5-45AC-9619-346DBA4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F19-0E79-4079-8242-07B0C291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203A-D755-49D4-A6D0-5FD43F3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4BD5-51B7-4949-B3E4-1FFA2225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C6E-52D1-45BE-9944-7378C73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6F25-213C-4B1B-96CA-A2D47013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20D9-E425-4055-B598-A6CA8D63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79C-8E79-4151-BEF5-350FDD83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C03-2494-4B1F-8912-F45340D8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A15-C8E3-4D77-826C-5610CF17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1AD-20D1-4567-9AD1-BF54FB21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2A1-15A6-4420-A9EA-2EFB1410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48C-92E3-4420-AF17-8F90F73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686-4D3B-4FA3-95A5-DA41CC1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BD50DF-FDC5-4447-B3BD-4ED24494E96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B07B0E-577D-4D8E-881A-819864F83C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esh.edu.ru/subject/lesson/2819/main/" TargetMode="External"/><Relationship Id="rId2" Type="http://schemas.openxmlformats.org/officeDocument/2006/relationships/hyperlink" Target="https://resh.edu.ru/subject/lesson/2819/main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Классная работ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Тема:</a:t>
            </a:r>
            <a:r>
              <a:rPr b="1" lang="en-US" sz="6000" spc="-1" strike="noStrike">
                <a:solidFill>
                  <a:srgbClr val="ff0000"/>
                </a:solidFill>
                <a:latin typeface="Calibri Light"/>
              </a:rPr>
              <a:t>Town Villages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You will learn about the life in the city and country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will learn how to talk about your neighb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will learn how to use prepositions of place to describe your neighbourh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ите описание жизни в город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resh.edu.ru/subject/lesson/2819/main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/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авайте запомним незнакомые сло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r’s, bank, café, chemist’s, corner shop, grocer’s, make friends with smb, move house, neighbour, neighbourhood, newsagent’s, errand, busy, local, modern, narrow, noisy, arrogant, attractive, caring, forgetful, helpful, pretty, rude, sociable, talkative, ugly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пиши их в словарь и выучи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 учебнике вы можете найти их на стр32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1110960" y="1932480"/>
            <a:ext cx="3887280" cy="46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оедини прилагательные с их антонима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rcRect l="8843" t="17229" r="15143" b="8514"/>
          <a:stretch/>
        </p:blipFill>
        <p:spPr>
          <a:xfrm>
            <a:off x="838080" y="1780560"/>
            <a:ext cx="94028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07840"/>
            <a:ext cx="10560960" cy="51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90000"/>
              </a:lnSpc>
              <a:buNone/>
            </a:pPr>
            <a:br>
              <a:rPr sz="3100"/>
            </a:b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Домашнее задание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Use the words below to complete the exchanges.</a:t>
            </a: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( вставь слова в пропуски по смыслу)</a:t>
            </a:r>
            <a:br>
              <a:rPr sz="3100"/>
            </a:b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Café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 , 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bank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 baker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grocer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 corner sho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p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newsagent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.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chemist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flat</a:t>
            </a:r>
            <a:br>
              <a:rPr sz="2800"/>
            </a:b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Hi, Carol. Would you like to go to a  for a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 cup of coffee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Sure, but first I have to go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to get some money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 need to buy some bread. Is there a 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nearby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Yes, it’s next to a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down the street where you can buy your fruit and vegetables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Could you give me directions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? I need to buy some chewing gum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’ll go with you. It’s opposite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where I buy the paper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 feel terrible! I should go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to get some aspirin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You can’t leave your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in this cold weather! I’ll go and get some for you.</a:t>
            </a:r>
            <a:br>
              <a:rPr sz="44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32</Words>
  <Paragraphs>1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4T11:45:27Z</dcterms:created>
  <dc:creator>Алексей</dc:creator>
  <dc:description/>
  <dc:language>en-US</dc:language>
  <cp:lastModifiedBy>Алексей</cp:lastModifiedBy>
  <dcterms:modified xsi:type="dcterms:W3CDTF">2021-11-15T18:13:16Z</dcterms:modified>
  <cp:revision>4</cp:revision>
  <dc:subject/>
  <dc:title>Классная работа Тема:Grammar in use стр 30-3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