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345-0A30-4FD4-90B2-F91EDC38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229-1EE0-4145-B09E-2C89A5B6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D19-DD93-4D2E-A6D5-E9EC2AA6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E4E-B8E3-4669-879D-D49D8BD9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80A9-3601-445B-B953-5C76F976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26A2-CF15-4E67-AE9C-8D13881F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656A-9C1D-4D79-AABF-6C784765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0C63-59E0-4D9D-9743-E6966C08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CE1E-72AC-46FD-987F-09C89931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D2E5-5CD1-4131-BF7F-721BEBE7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D30D-F38C-4D84-A028-A4030DDD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07E-D969-4641-81F9-8D962DE5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289D-5B62-4509-A31C-EF4831B7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3B7F-BB26-426F-8EAD-22490C8D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6349-7704-498A-AE78-EF0926BE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B9ED-F7E2-47E8-842F-3845393B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1130-1805-40F1-B21E-F889B8BC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FC1-6861-4E95-91CF-4AF38FDD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B86-2283-4D9D-AC57-60E8BFF7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B98-0A86-48D1-A2A6-1DDE8B0D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BE5-6FC2-45EE-A0BD-E180BE4D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621-54BD-4367-B503-7FE27F82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A84-3CC1-44D8-8AE6-44065461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E99-FBAD-4C6A-B760-D5177AEA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ded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0A2719-C44A-4333-A2C6-DBCB1E6176D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ded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833D7E-BA8D-44AE-AD8A-9C931A0F05D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esh.edu.ru/subject/lesson/2819/main/" TargetMode="External"/><Relationship Id="rId2" Type="http://schemas.openxmlformats.org/officeDocument/2006/relationships/hyperlink" Target="https://resh.edu.ru/subject/lesson/2819/main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ded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Calibri Light"/>
              </a:rPr>
              <a:t>Классная работа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 Light"/>
              </a:rPr>
              <a:t>Тема:</a:t>
            </a:r>
            <a:r>
              <a:rPr b="1" lang="en-US" sz="6000" spc="-1" strike="noStrike">
                <a:solidFill>
                  <a:srgbClr val="ff0000"/>
                </a:solidFill>
                <a:latin typeface="Calibri Light"/>
              </a:rPr>
              <a:t>Town Villages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You will learn about the life in the city and country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 will learn how to talk about your neighb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 will learn how to use prepositions of place to describe your neighbourh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мотрите описание жизни в город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resh.edu.ru/subject/lesson/2819/main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/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авайте запомним незнакомые слов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ker’s, bank, café, chemist’s, corner shop, grocer’s, make friends with smb, move house, neighbour, neighbourhood, newsagent’s, errand, busy, local, modern, narrow, noisy, arrogant, attractive, caring, forgetful, helpful, pretty, rude, sociable, talkative, ugly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пиши их в словарь и выучи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 учебнике вы можете найти их на стр32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Объект 3" descr=""/>
          <p:cNvPicPr/>
          <p:nvPr/>
        </p:nvPicPr>
        <p:blipFill>
          <a:blip r:embed="rId1"/>
          <a:stretch/>
        </p:blipFill>
        <p:spPr>
          <a:xfrm>
            <a:off x="1110960" y="1932480"/>
            <a:ext cx="3887280" cy="46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оедини прилагательные с их антонимам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rcRect l="8843" t="17229" r="15143" b="8514"/>
          <a:stretch/>
        </p:blipFill>
        <p:spPr>
          <a:xfrm>
            <a:off x="838080" y="1780560"/>
            <a:ext cx="940284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07840"/>
            <a:ext cx="10560960" cy="51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>
              <a:lnSpc>
                <a:spcPct val="90000"/>
              </a:lnSpc>
              <a:buNone/>
            </a:pPr>
            <a:br>
              <a:rPr sz="3100"/>
            </a:b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Calibri Light"/>
              </a:rPr>
              <a:t>Домашнее задание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Use the words below to complete the exchanges.</a:t>
            </a:r>
            <a:r>
              <a:rPr b="1" lang="ru-RU" sz="3100" spc="-1" strike="noStrike">
                <a:solidFill>
                  <a:srgbClr val="000000"/>
                </a:solidFill>
                <a:latin typeface="Calibri Light"/>
              </a:rPr>
              <a:t>( вставь слова в пропуски по смыслу)</a:t>
            </a:r>
            <a:br>
              <a:rPr sz="3100"/>
            </a:b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Café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 , 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bank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 baker’s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grocer’s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 corner sho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p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newsagent’s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.,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chemist’s</a:t>
            </a:r>
            <a:r>
              <a:rPr b="0" lang="ru-RU" sz="2800" spc="-1" strike="noStrike">
                <a:solidFill>
                  <a:srgbClr val="ff0000"/>
                </a:solidFill>
                <a:latin typeface="Calibri Light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 Light"/>
              </a:rPr>
              <a:t>flat</a:t>
            </a:r>
            <a:br>
              <a:rPr sz="2800"/>
            </a:b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A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Hi, Carol. Would you like to go to a  for a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 cup of coffee?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B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Sure, but first I have to go to the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 to get some money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A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I need to buy some bread. Is there a 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nearby?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B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Yes, it’s next to a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 down the street where you can buy your fruit and vegetables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A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Could you give me directions to the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? I need to buy some chewing gum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B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I’ll go with you. It’s opposite the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 where I buy the paper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A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I feel terrible! I should go to the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 to get some aspirin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 Light"/>
              </a:rPr>
              <a:t>B: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You can’t leave your</a:t>
            </a:r>
            <a:r>
              <a:rPr b="0" lang="ru-RU" sz="3100" spc="-1" strike="noStrike">
                <a:solidFill>
                  <a:srgbClr val="000000"/>
                </a:solidFill>
                <a:latin typeface="Calibri Light"/>
              </a:rPr>
              <a:t>___</a:t>
            </a:r>
            <a:r>
              <a:rPr b="0" lang="en-US" sz="3100" spc="-1" strike="noStrike">
                <a:solidFill>
                  <a:srgbClr val="000000"/>
                </a:solidFill>
                <a:latin typeface="Calibri Light"/>
              </a:rPr>
              <a:t>  in this cold weather! I’ll go and get some for you.</a:t>
            </a:r>
            <a:br>
              <a:rPr sz="4400"/>
            </a:br>
            <a:br>
              <a:rPr sz="4400"/>
            </a:b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  <Words>32</Words>
  <Paragraphs>14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4T11:45:27Z</dcterms:created>
  <dc:creator>Алексей</dc:creator>
  <dc:description/>
  <dc:language>en-US</dc:language>
  <cp:lastModifiedBy>Алексей</cp:lastModifiedBy>
  <dcterms:modified xsi:type="dcterms:W3CDTF">2021-11-15T18:13:16Z</dcterms:modified>
  <cp:revision>4</cp:revision>
  <dc:subject/>
  <dc:title>Классная работа Тема:Grammar in use стр 30-3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6</vt:r8>
  </property>
</Properties>
</file>