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116F-C388-4B6A-A5A4-0F3E0FDF0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3E88-6373-4D3D-B6CD-4E1CC7C21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DD70-C460-49DD-875B-9E6CA96DA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17C4-8FCC-4E76-B0F2-7BD9315D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FF38-9AB6-4B6F-B63D-B972E13ED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1F9E5-376B-48AD-827C-0020DD51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ECCA0-F738-4B82-A3DF-EE0AB19D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B0B2E-15F7-4172-AE54-36879E9CD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EFC2-0985-412E-939C-67B05D2B9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70062-07E9-4A66-980F-B37BF4D13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EA245-4A41-4292-B2E4-13AC7EFB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0831-1452-4547-B5CF-71F3D02A3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B480-0558-4D63-BC72-4EEAF4F34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D853-918D-47B0-B096-C1CB3E375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FE08C-EC6F-45B3-AD86-4169A7C7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6BBE-A5E0-4929-ACDA-6C66746A7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B9BF-7F49-4886-9AFE-0FCE7E44F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AC937-9DE5-48B6-AA18-FC1BA402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2053C-6455-4AD6-85FA-8332059A7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3728F-24B6-41FD-B626-BB1EF092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EEE2F-10EC-42EA-A9B9-F6FF24F83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A5C95C-6986-4467-A0EC-C794393C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FE2-A60F-49E7-82D0-F282752FB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7C413-88AF-4BCD-B25A-1DABDFFA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AFE6A-CE8C-4505-B4A4-C41C287E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1127F-AA4F-4310-9701-F911A5817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3EB91-6D5E-4413-B295-60AAFAE88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FDA79A-5DA6-4B58-AF7B-B41BC6EB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4CA2E-87BE-49A3-9807-A8C25623A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4B82AF-922A-4B4A-90C3-92C952F95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CB99DE-28DF-4CD9-8F75-B3DF36263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34DAB4-848C-416F-9716-ACD2890D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7E622-73B9-45EE-843F-FCF39051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920C-8CB6-4E61-A7DA-ECA1F23E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120EA-F320-4879-9618-D900E607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89AFB7-AEDE-4F38-8E3A-F0BDBCE0F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50F0C-6CE8-4F8C-879A-3E489D554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2E0E18-EFDB-4C71-9B44-D60EE40B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93D4A2-2394-4961-929D-5B50E304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8FBB2-8F3A-4B0E-8712-BCFA9E6A8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1BD23D-BBE6-4680-B1DD-885180538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E6EEF-240F-4C55-81D2-B4A3115A57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B67D24-7F32-40EA-84DB-1F64438C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518C-E2E4-405D-93E0-E9D924106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7CD4-ED16-412B-8AC1-B82567798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F10F-560B-42B4-BD71-72F8DC9F5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2F8F-9CE9-415E-9D0F-CDEA8772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F758-C4CC-4B8D-AC68-4BA807061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71D3AC-3AAC-46AB-9EE4-C46C839B9BB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C40DD10-973A-49E3-8A19-A9B338DE7568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01D831F-9FF0-4D64-A53B-26C9F16812C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4BE664-902F-4644-AE21-5A16A3A010F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-142920"/>
            <a:ext cx="7772040" cy="21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инистерство лесного хозяйства Красноярского края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Краевое государственное бюджетное профессиональное образовательное учреждение «Дивногорский техникум лесных технологий»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пециальность 21.02.04 Землеустройство</a:t>
            </a: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214200" y="2357280"/>
            <a:ext cx="8715240" cy="45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Доклад на тему: Статическое электри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ыполнил студент 119 З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фимцев Д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вногорск - 2021 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214200"/>
            <a:ext cx="8229240" cy="21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Определение статистического электричеств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alibri"/>
              </a:rPr>
              <a:t>Статическое электричество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— совокупность явлений, связанных с возникновением, сохранением и релаксацией свободного электрического заряда на поверхности и в объеме диэлектрических и полупроводниковых веществ, материалов изделий или на изолированных проводниках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Рисунок 5" descr="Electrostatic-Force-2048x1152.jpg"/>
          <p:cNvPicPr/>
          <p:nvPr/>
        </p:nvPicPr>
        <p:blipFill>
          <a:blip r:embed="rId1"/>
          <a:stretch/>
        </p:blipFill>
        <p:spPr>
          <a:xfrm>
            <a:off x="1785960" y="3500280"/>
            <a:ext cx="5785920" cy="32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Наиболее опасное проявление статического электричества — возникновение искрового разряда и высоких потенциалов.</a:t>
            </a:r>
            <a:br>
              <a:rPr sz="2800"/>
            </a:br>
            <a:br>
              <a:rPr sz="2800"/>
            </a:br>
            <a:endParaRPr b="0" lang="ru-RU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857160"/>
            <a:ext cx="822924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326880" indent="-32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качка диэлектрических жидкостей (бензина, керосина, бензола, толуола и др.) по трубопроводам и перевозка в емкостях сопровождаются значительной электризацией. Она особенно опасна при транспортировании легковоспламеняющихся жидкостей с удельным сопротивлением более 10</a:t>
            </a:r>
            <a:r>
              <a:rPr b="1" lang="ru-RU" sz="24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Ом • м. Диэлектрические жидкости обычно содержат примеси, являющиеся носителями электрического заряда. Интенсивность образования зарядов возрастает с увеличением скорости движения жидкости, ее удельного сопротивления и площади контакта с твердой поверхностью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татическое электричество на производстве может вызывать пожары и взрывы, вероятность их возникновения зависит от концентрации горючей смеси и зажигающей способности электрических разрядов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marL="326880" indent="-3268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промышленности вредное и опасное проявление статического электричества наблюдается при монтаже и сборке радиоэлектронного оборудования, изготовлении, испытании, транспортировке и хранении полупроводниковых приборов и интегральных микросхем, при переливании растворителей, нанесении покрытий распылением и ряде других процессов, где применяются диэлектрические материалы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оздействие статического электричества на человек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30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ожет проявляться в виде слабого длительно протекающего тока или в форме кратковременного разряда, проходящего через его тело. Такой разряд вызывает у человека рефлекторное движение, что в ряде случаев может привести к попаданию работающего в опасную зону производственного оборудования и закончиться несчастным случаем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0960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теле человека статическое электричество может накапливаться при ношении обуви с непроводящими электричество подошвами, одежды и белья из шерсти, шелка и искусственных волокон и при выполнении ряда ручных операций с веществами-диэлектрикам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Прямоугольник 4"/>
          <p:cNvSpPr/>
          <p:nvPr/>
        </p:nvSpPr>
        <p:spPr>
          <a:xfrm>
            <a:off x="0" y="0"/>
            <a:ext cx="4357440" cy="64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анитарно-гигиенические нормы допустимой напряженности электростатического поля (ЭСП) на рабочих местах установлены ГОСТ 12.1.045—84 ССБТ «Электростатические поля. Допустимые уровни на рабочих местах и требования к проведению контроля»; СанПиН 11—16—94 «Санитарно-гигиенические нормы допустимой напряженности электростатического поля на рабочих местах». Нормируемым параметром ЭСП является напряженность поля Е, которая измеряется в вольтах на метр (В/м) или киловольтах на метр (кВ/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едельно допустимые уровни напряженности электростатического поля (Е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П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 устанавливаются в зависимости от времени пребывания персонала на рабочих местах и не должны превышать: при воздействии до 1 ч — 60 кВ/м. Е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П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в зависимости от времени воздействия ЭСП приведены в табл.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5"/>
          <p:cNvSpPr/>
          <p:nvPr/>
        </p:nvSpPr>
        <p:spPr>
          <a:xfrm>
            <a:off x="4572000" y="142920"/>
            <a:ext cx="4571640" cy="14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Таблица 1. Зависимость расчетных значений Е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Times New Roman"/>
              </a:rPr>
              <a:t>ПД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 от времени воздействия ЭС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Рисунок 7" descr="018.jpg"/>
          <p:cNvPicPr/>
          <p:nvPr/>
        </p:nvPicPr>
        <p:blipFill>
          <a:blip r:embed="rId1"/>
          <a:stretch/>
        </p:blipFill>
        <p:spPr>
          <a:xfrm>
            <a:off x="4071960" y="785880"/>
            <a:ext cx="5071680" cy="985320"/>
          </a:xfrm>
          <a:prstGeom prst="rect">
            <a:avLst/>
          </a:prstGeom>
          <a:ln w="0">
            <a:noFill/>
          </a:ln>
        </p:spPr>
      </p:pic>
      <p:sp>
        <p:nvSpPr>
          <p:cNvPr id="176" name="Прямоугольник 8"/>
          <p:cNvSpPr/>
          <p:nvPr/>
        </p:nvSpPr>
        <p:spPr>
          <a:xfrm>
            <a:off x="4286160" y="1857240"/>
            <a:ext cx="4571640" cy="177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 напряженности электростатического поля менее 20 кВ/м время пребывания в электростатическом поле не регламентирует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Если Е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Calibri"/>
              </a:rPr>
              <a:t>ПД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 превышает 20 кВ/м, необходимо применять соответствующие меры защи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Рисунок 9" descr="bDpc34f5XRk.jpg"/>
          <p:cNvPicPr/>
          <p:nvPr/>
        </p:nvPicPr>
        <p:blipFill>
          <a:blip r:embed="rId2"/>
          <a:stretch/>
        </p:blipFill>
        <p:spPr>
          <a:xfrm>
            <a:off x="4286160" y="3714840"/>
            <a:ext cx="4714560" cy="26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71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щита от статического электричеств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714240"/>
            <a:ext cx="8229240" cy="54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ведения о способах защиты от статического электричества обобщены в Правилах защиты от статического электричества в производствах химической, нефтехимической и нефтеперерабатывающей промышленности и ГОСТ 12.4.124—83 ССБТ «Средства защиты от статического электричества. Общие технические требования»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сновными способами уменьшения напряженности ЭСП в рабочей зоне являются: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экранирование источника поля или рабочего места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нейтрализаторов статического электричества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именение антистатических препаратов или увлажнение электризующихся материалов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мена легкоэлектризующихся материалов и изделий на не-электризующиеся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бор контактирующих поверхностей, исходя из условий наименьшей электризации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меньшение скорости переработки и транспортировки материалов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оддержание оптимальной относительной влажности (не ниже 60%) ионного состава воздуха рабочих помещений;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даление зон пребывания обслуживающего персонала от источников электростатических полей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360"/>
              </a:spcBef>
              <a:buNone/>
              <a:tabLst>
                <a:tab algn="l" pos="0"/>
              </a:tabLst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54960" indent="-354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 отдельную группу выделяются способы, которые не предотвращают образования и накопления зарядов статического электричества, а направлены на то, чтобы возникший искровой разряд статического электричества не вызвал воспламенения горючей смеси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54960" indent="-35496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Защита от статического электричества ведется по двум направлениям: уменьшением интенсивности генерации электрических зарядов и устранением уже образовавшихся зарядов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24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Уменьшение интенсивности генерации электрических зарядов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 достигается использованием слабоэлектризующихся или неэлектризующихся материалов; уменьшением силы трения и площади контакта взаимодействующих поверхностей, их хромированием или никелированием; ограничением скоростей переработки или транспортирования материалов; предотвращением налива жидкости в резервуары свободно падающей струей, а также ее разбрызгивания, распыления или быстрого перемешивания. Расстояние от конца загрузочной трубы до дна сосуда не должно превышать 200 мм, а если это невозможно, то струю направляют вдоль стенки.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Рисунок 5" descr="fs5OzlFwy9s.jpg"/>
          <p:cNvPicPr/>
          <p:nvPr/>
        </p:nvPicPr>
        <p:blipFill>
          <a:blip r:embed="rId1"/>
          <a:stretch/>
        </p:blipFill>
        <p:spPr>
          <a:xfrm>
            <a:off x="2294640" y="3113280"/>
            <a:ext cx="3920040" cy="338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0" y="142920"/>
            <a:ext cx="4038120" cy="72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1" i="1" lang="ru-RU" sz="3400" spc="-1" strike="noStrike">
                <a:solidFill>
                  <a:srgbClr val="000000"/>
                </a:solidFill>
                <a:latin typeface="Calibri"/>
              </a:rPr>
              <a:t>Устранение зарядов статического электричества</a:t>
            </a: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 достигается, прежде всего, заземлением электропроводных частей оборудования (выполняется независимо от других средств защиты)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ля обеспечения заземления вращающихся частей применяют электропроводную смазку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Автоцистерны, передвижные аппараты и сосуды, предназначенные для транспортирования огнеопасных жидкостей, заземляют на время их наполнения и опорожнения. Для перекачки нефтепродуктов используют шланги из электропроводной резины. Заземление передвижных объектов осуществляют посредством колес из электропроводных материалов или с помощью специальных заземляющих устройств (металлических цепочек или ленточек из электропроводной резины)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Заземление работающих обеспечивается применением антистатических заземляющих браслетов, антистатической одежды и обуви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marL="324720" indent="-324720">
              <a:lnSpc>
                <a:spcPct val="100000"/>
              </a:lnSpc>
              <a:spcBef>
                <a:spcPts val="68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400" spc="-1" strike="noStrike">
                <a:solidFill>
                  <a:srgbClr val="000000"/>
                </a:solidFill>
                <a:latin typeface="Calibri"/>
              </a:rPr>
              <a:t>Для обеспечения непрерывного отвода зарядов статического электричества в землю полы во взрывоопасных помещениях выполняют из бетона, антистатического линолеума и т.п.</a:t>
            </a:r>
            <a:endParaRPr b="0" lang="ru-RU" sz="3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5" name="Рисунок 7" descr="6815.jpg"/>
          <p:cNvPicPr/>
          <p:nvPr/>
        </p:nvPicPr>
        <p:blipFill>
          <a:blip r:embed="rId1"/>
          <a:stretch/>
        </p:blipFill>
        <p:spPr>
          <a:xfrm>
            <a:off x="3857760" y="285840"/>
            <a:ext cx="5167080" cy="3442680"/>
          </a:xfrm>
          <a:prstGeom prst="rect">
            <a:avLst/>
          </a:prstGeom>
          <a:ln w="0">
            <a:noFill/>
          </a:ln>
        </p:spPr>
      </p:pic>
      <p:pic>
        <p:nvPicPr>
          <p:cNvPr id="186" name="Рисунок 8" descr="700.jpg"/>
          <p:cNvPicPr/>
          <p:nvPr/>
        </p:nvPicPr>
        <p:blipFill>
          <a:blip r:embed="rId2"/>
          <a:stretch/>
        </p:blipFill>
        <p:spPr>
          <a:xfrm>
            <a:off x="5072040" y="3857760"/>
            <a:ext cx="2904840" cy="29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  <Words>474</Words>
  <Paragraphs>42</Paragraphs>
  <Company>Micro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05T12:30:25Z</dcterms:created>
  <dc:creator>Лена</dc:creator>
  <dc:description/>
  <dc:language>en-US</dc:language>
  <cp:lastModifiedBy>Лена</cp:lastModifiedBy>
  <dcterms:modified xsi:type="dcterms:W3CDTF">2021-12-08T12:48:18Z</dcterms:modified>
  <cp:revision>36</cp:revision>
  <dc:subject/>
  <dc:title>Министерство лесного хозяйства Красноярского края Краевое государственное бюджетное профессиональное образовательное учреждение «Дивногорский техникум лесных технологий» Специальность 21.02.04 Землеустройство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9</vt:r8>
  </property>
</Properties>
</file>