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FA4-A0F5-4BC0-9215-D025EB9F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76D-A8BF-4321-ADB6-965E9B7E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672-4D86-4BCC-9521-C01123B0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2E7-EEDF-42D9-A0C2-288A2987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0377-EB4A-4856-9642-9E7B8105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3298-7B23-4FD1-8D0D-CB3C7860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F40F-BD54-4FDA-A019-63EAC721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5CAC-9119-4A2C-9C32-76047A6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7769-44AF-4BD3-98E9-F33608BD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3DF4-D08F-440F-A105-CA8322FB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5292-7E93-4A15-AC2F-82EE029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B53-EFCC-446E-8725-ADB107FF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FF30-2576-472B-B534-5FA99456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C10C-F0CE-437E-B9C3-DF99FE44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10EC-9833-49F5-8F77-4FFA9065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2A67-BB79-4C22-8E90-3162F4F0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DBCD-DDBB-413C-99B6-8E901043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337B-1A24-4EF5-AFE6-30CADE7F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33D9-D4CC-463A-992C-C28E7288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D563-5EBB-4DC0-9F33-24D38C19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4D88-0C08-48EA-A51F-0886D401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6373-74C1-40F1-A833-28D5D30C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DF5-FC61-4CED-A765-57BE653B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3A58-65FE-423D-81B6-61DFE230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67EB-480D-4401-9548-8630B007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787F-9750-4E50-A1B8-A9E8113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3B68B-0A00-4277-8377-65E06435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775FC-2377-475F-9BD6-7CEE40C7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74D5-09F1-4696-ACF5-81D5FD30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F5BF-D577-4087-9FD7-509527CE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5CBE3-771F-4A9C-A64B-A8D7C432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37D03-87EE-4DDF-BFD0-062B7214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F595-969D-4686-8278-ABD2351A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D16-CF27-48E2-9676-337BED76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ABA5-D393-414F-88D5-DF4BB8B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EB3D-ACBB-440B-AB2C-D1E8F557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C019-68DF-45BA-B630-45017142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1336C-27C3-4224-89B0-83E1B77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0ACD-B0EC-466E-BB57-1B5D1A4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93D93-9165-4F99-BB8C-31EE505C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AA93-1C58-42A3-82AD-E2CD431F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2C3C5-C1F0-4F94-8B0D-9081B3D3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112F-EAD0-48B6-A97C-E5266850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DB5-3C0A-405E-8F24-B1878743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394-CB00-4E8F-9C9A-7BAFE40F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DBC-2BBD-4CF2-B08A-2348C84A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B9D-3774-481D-BCBC-5C0F3E45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2B9-A7D6-4C8C-BF8D-2746388E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E13508-9C39-4A41-A8BC-8D973FFBCA9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47E32C-DED6-46B7-B196-EBC3361A827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180C73-DD4F-406E-AA20-3587F6D5B2C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A2D01C-5C3E-4303-BA28-E7C5DFA6B6C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42920"/>
            <a:ext cx="7772040" cy="21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инистерство лесного хозяйства Красноярского кра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раевое государственное бюджетное профессиональное образовательное учреждение «Дивногорский техникум лесных технологий»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ециальность 21.02.04 Землеустройство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14200" y="2357280"/>
            <a:ext cx="87152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лад на тему: Статическое электри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л студент 119 З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фимцев Д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вногорск - 202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14200"/>
            <a:ext cx="8229240" cy="21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пределение статистического электричеств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атическое электриче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совокупность явлений, связанных с возникновением, сохранением и релаксацией свободного электрического заряда на поверхности и в объеме диэлектрических и полупроводниковых веществ, материалов изделий или на изолированных проводниках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5" descr="Electrostatic-Force-2048x1152.jpg"/>
          <p:cNvPicPr/>
          <p:nvPr/>
        </p:nvPicPr>
        <p:blipFill>
          <a:blip r:embed="rId1"/>
          <a:stretch/>
        </p:blipFill>
        <p:spPr>
          <a:xfrm>
            <a:off x="1785960" y="3500280"/>
            <a:ext cx="5785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опасное проявление статического электричества — возникновение искрового разряда и высоких потенциалов.</a:t>
            </a:r>
            <a:br>
              <a:rPr sz="2800"/>
            </a:br>
            <a:br>
              <a:rPr sz="2800"/>
            </a:b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2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26880" indent="-32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ачка диэлектрических жидкостей (бензина, керосина, бензола, толуола и др.) по трубопроводам и перевозка в емкостях сопровождаются значительной электризацией. Она особенно опасна при транспортировании легковоспламеняющихся жидкостей с удельным сопротивлением более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Ом • м. Диэлектрические жидкости обычно содержат примеси, являющиеся носителями электрического заряда. Интенсивность образования зарядов возрастает с увеличением скорости движения жидкости, ее удельного сопротивления и площади контакта с твердой поверхностью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ическое электричество на производстве может вызывать пожары и взрывы, вероятность их возникновения зависит от концентрации горючей смеси и зажигающей способности электрических разрядов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омышленности вредное и опасное проявление статического электричества наблюдается при монтаже и сборке радиоэлектронного оборудования, изготовлении, испытании, транспортировке и хранении полупроводниковых приборов и интегральных микросхем, при переливании растворителей, нанесении покрытий распылением и ряде других процессов, где применяются диэлектрические материалы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здействие статического электричества на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0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проявляться в виде слабого длительно протекающего тока или в форме кратковременного разряда, проходящего через его тело. Такой разряд вызывает у человека рефлекторное движение, что в ряде случаев может привести к попаданию работающего в опасную зону производственного оборудования и закончиться несчастным случа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еле человека статическое электричество может накапливаться при ношении обуви с непроводящими электричество подошвами, одежды и белья из шерсти, шелка и искусственных волокон и при выполнении ряда ручных операций с веществами-диэлектрик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4"/>
          <p:cNvSpPr/>
          <p:nvPr/>
        </p:nvSpPr>
        <p:spPr>
          <a:xfrm>
            <a:off x="0" y="0"/>
            <a:ext cx="4357440" cy="64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итарно-гигиенические нормы допустимой напряженности электростатического поля (ЭСП) на рабочих местах установлены ГОСТ 12.1.045—84 ССБТ «Электростатические поля. Допустимые уровни на рабочих местах и требования к проведению контроля»; СанПиН 11—16—94 «Санитарно-гигиенические нормы допустимой напряженности электростатического поля на рабочих местах». Нормируемым параметром ЭСП является напряженность поля Е, которая измеряется в вольтах на метр (В/м) или киловольтах на метр (кВ/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ельно допустимые уровни напряженности электростатического поля (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П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устанавливаются в зависимости от времени пребывания персонала на рабочих местах и не должны превышать: при воздействии до 1 ч — 60 кВ/м. 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П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зависимости от времени воздействия ЭСП приведены в табл.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4572000" y="142920"/>
            <a:ext cx="45716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. Зависимость расчетных значений 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П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от времени воздействия ЭС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7" descr="018.jpg"/>
          <p:cNvPicPr/>
          <p:nvPr/>
        </p:nvPicPr>
        <p:blipFill>
          <a:blip r:embed="rId1"/>
          <a:stretch/>
        </p:blipFill>
        <p:spPr>
          <a:xfrm>
            <a:off x="4071960" y="785880"/>
            <a:ext cx="5071680" cy="9853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8"/>
          <p:cNvSpPr/>
          <p:nvPr/>
        </p:nvSpPr>
        <p:spPr>
          <a:xfrm>
            <a:off x="4286160" y="1857240"/>
            <a:ext cx="457164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ряженности электростатического поля менее 20 кВ/м время пребывания в электростатическом поле не регламентир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П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ревышает 20 кВ/м, необходимо применять соответствующие меры защ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9" descr="bDpc34f5XRk.jpg"/>
          <p:cNvPicPr/>
          <p:nvPr/>
        </p:nvPicPr>
        <p:blipFill>
          <a:blip r:embed="rId2"/>
          <a:stretch/>
        </p:blipFill>
        <p:spPr>
          <a:xfrm>
            <a:off x="4286160" y="3714840"/>
            <a:ext cx="4714560" cy="26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щита от статического электриче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2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дения о способах защиты от статического электричества обобщены в Правилах защиты от статического электричества в производствах химической, нефтехимической и нефтеперерабатывающей промышленности и ГОСТ 12.4.124—83 ССБТ «Средства защиты от статического электричества. Общие технические требования»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ыми способами уменьшения напряженности ЭСП в рабочей зоне являются: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ранирование источника поля или рабочего места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нейтрализаторов статического электричества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антистатических препаратов или увлажнение электризующихся материалов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на легкоэлектризующихся материалов и изделий на не-электризующиеся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бор контактирующих поверхностей, исходя из условий наименьшей электризации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ьшение скорости переработки и транспортировки материалов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ание оптимальной относительной влажности (не ниже 60%) ионного состава воздуха рабочих помещений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аление зон пребывания обслуживающего персонала от источников электростатических полей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54960" indent="-354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дельную группу выделяются способы, которые не предотвращают образования и накопления зарядов статического электричества, а направлены на то, чтобы возникший искровой разряд статического электричества не вызвал воспламенения горючей смес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4960" indent="-354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а от статического электричества ведется по двум направлениям: уменьшением интенсивности генерации электрических зарядов и устранением уже образовавшихся заряд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меньшение интенсивности генерации электрических заряд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достигается использованием слабоэлектризующихся или неэлектризующихся материалов; уменьшением силы трения и площади контакта взаимодействующих поверхностей, их хромированием или никелированием; ограничением скоростей переработки или транспортирования материалов; предотвращением налива жидкости в резервуары свободно падающей струей, а также ее разбрызгивания, распыления или быстрого перемешивания. Расстояние от конца загрузочной трубы до дна сосуда не должно превышать 200 мм, а если это невозможно, то струю направляют вдоль стенк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5" descr="fs5OzlFwy9s.jpg"/>
          <p:cNvPicPr/>
          <p:nvPr/>
        </p:nvPicPr>
        <p:blipFill>
          <a:blip r:embed="rId1"/>
          <a:stretch/>
        </p:blipFill>
        <p:spPr>
          <a:xfrm>
            <a:off x="2294640" y="3113280"/>
            <a:ext cx="3920040" cy="33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142920"/>
            <a:ext cx="4038120" cy="72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Устранение зарядов статического электричеств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 достигается, прежде всего, заземлением электропроводных частей оборудования (выполняется независимо от других средств защиты)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ля обеспечения заземления вращающихся частей применяют электропроводную смазку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втоцистерны, передвижные аппараты и сосуды, предназначенные для транспортирования огнеопасных жидкостей, заземляют на время их наполнения и опорожнения. Для перекачки нефтепродуктов используют шланги из электропроводной резины. Заземление передвижных объектов осуществляют посредством колес из электропроводных материалов или с помощью специальных заземляющих устройств (металлических цепочек или ленточек из электропроводной резины)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Заземление работающих обеспечивается применением антистатических заземляющих браслетов, антистатической одежды и обуви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ля обеспечения непрерывного отвода зарядов статического электричества в землю полы во взрывоопасных помещениях выполняют из бетона, антистатического линолеума и т.п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Рисунок 7" descr="6815.jpg"/>
          <p:cNvPicPr/>
          <p:nvPr/>
        </p:nvPicPr>
        <p:blipFill>
          <a:blip r:embed="rId1"/>
          <a:stretch/>
        </p:blipFill>
        <p:spPr>
          <a:xfrm>
            <a:off x="3857760" y="285840"/>
            <a:ext cx="5167080" cy="34426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8" descr="700.jpg"/>
          <p:cNvPicPr/>
          <p:nvPr/>
        </p:nvPicPr>
        <p:blipFill>
          <a:blip r:embed="rId2"/>
          <a:stretch/>
        </p:blipFill>
        <p:spPr>
          <a:xfrm>
            <a:off x="5072040" y="3857760"/>
            <a:ext cx="290484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  <Words>474</Words>
  <Paragraphs>4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5T12:30:25Z</dcterms:created>
  <dc:creator>Лена</dc:creator>
  <dc:description/>
  <dc:language>en-US</dc:language>
  <cp:lastModifiedBy>Лена</cp:lastModifiedBy>
  <dcterms:modified xsi:type="dcterms:W3CDTF">2021-12-08T12:48:18Z</dcterms:modified>
  <cp:revision>36</cp:revision>
  <dc:subject/>
  <dc:title>Министерство лесного хозяйства Красноярского края Краевое государственное бюджетное профессиональное образовательное учреждение «Дивногорский техникум лесных технологий» Специальность 21.02.04 Землеустрой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