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15C-5565-4CA3-8F02-1E8A0EA95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FF8-C90A-4F44-9795-E38E12F16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652-3236-4F84-A94D-506C6DFB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B08C-3725-4B6F-B228-7AD38DCE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6B2D-1467-47F1-9A44-683CE0D4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74147-B786-4F4B-B711-18B9F9D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2F20-DB0B-4F57-BB6A-C36F17D4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963D-1DCA-4822-BDFF-A4F3E08F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9607B-9510-4941-94AD-01AB6172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B535-9965-4D1F-9CBD-BD798771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E071-C676-47CC-9C5B-E3BE89A4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2697-F0CF-4A72-8BEE-35CE9845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EA347-C076-4E58-B9E0-CE2B83CB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D175-C546-474B-AC24-8B18C2D3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5C379-B122-40EF-A073-9D2AEAD8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E1100-EEFD-447F-AA60-98B92CF63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D307-8D65-4E6D-AEF0-8DE7FFCB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B8991-48B3-4C4E-BEA7-5464250DE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E59C3-6E51-4F32-8FA5-F6088212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CB175-E2C2-4728-AC73-68D992A7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4D9A-0D41-41E9-9A29-541116513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1406B-C5CC-4DDD-925C-8231E5B60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5124-EC33-480A-864D-5BB5F51D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F62DC-51AE-4B4C-8CF6-9DA2D4D7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EF3A5-886E-4B8E-9BE2-4712966C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D954A-830F-4F27-A643-DA2AE9ED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A932-B112-4F7E-8C8A-77E77432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528CB-9E86-4B25-9C79-74CE0A34E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0DD03-B77E-4EAF-B9F5-7B59BB8F7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4217A-4503-4C88-84CD-847BC62D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24BDC-392C-45B8-BB77-4E33EB36E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7141-22A4-400D-AA38-7920D548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318B7-34AC-468D-A091-1942F821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D87-67CB-4B63-AC77-23D3F489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CF3A0-BAD8-41E8-8975-210FB084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5EEE8-B69A-4573-A94F-6D316FCFD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4E770-2A24-4570-B5AC-DE89FA9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AC534-DF22-4D47-B06E-2F1C4A23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79B7B-A8E1-474D-9F11-3038C8DD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10FFA-AD25-4882-87F0-34731B9E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24598-608B-4976-852B-8F1B50C1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D4ABD-C386-41BA-903F-F19B4D17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8C3E9-56B9-4778-8E83-13735EC7C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010-247D-4367-BE8E-DFAEC196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00B4-8B3F-4246-AEF1-04DA8FD1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120-1141-41D4-8730-ED04B5FC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4401-AC5C-4ECB-97CA-C8E2A6AC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1980-457E-4FB1-9823-B4080A31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5FCACC-7D0E-4CD8-9917-94F53D78D9F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559CCB-E0B4-41BA-BC4E-E17D4868D25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BBFF1F-EAA7-405E-B8A5-51AC70430EF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397023-52C5-48DB-99B1-83C1E14A55E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42920"/>
            <a:ext cx="77720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инистерство лесного хозяйства Красноярского кра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аевое государственное бюджетное профессиональное образовательное учреждение «Дивногорский техникум лесных технологий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ециальность 21.02.04 Землеустройство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14200" y="2357280"/>
            <a:ext cx="87152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лад на тему: Статическое электр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 студент 119 З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фимцев Д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вногорск - 202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200"/>
            <a:ext cx="82292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ределение статистического электричеств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атическое электри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совокупность явлений, связанных с возникновением, сохранением и релаксацией свободного электрического заряда на поверхности и в объеме диэлектрических и полупроводниковых веществ, материалов изделий или на изолированных проводника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5" descr="Electrostatic-Force-2048x1152.jpg"/>
          <p:cNvPicPr/>
          <p:nvPr/>
        </p:nvPicPr>
        <p:blipFill>
          <a:blip r:embed="rId1"/>
          <a:stretch/>
        </p:blipFill>
        <p:spPr>
          <a:xfrm>
            <a:off x="1785960" y="3500280"/>
            <a:ext cx="5785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опасное проявление статического электричества — возникновение искрового разряда и высоких потенциалов.</a:t>
            </a:r>
            <a:br>
              <a:rPr sz="2800"/>
            </a:br>
            <a:br>
              <a:rPr sz="28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ачка диэлектрических жидкостей (бензина, керосина, бензола, толуола и др.) по трубопроводам и перевозка в емкостях сопровождаются значительной электризацией. Она особенно опасна при транспортировании легковоспламеняющихся жидкостей с удельным сопротивлением более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м • м. Диэлектрические жидкости обычно содержат примеси, являющиеся носителями электрического заряда. Интенсивность образования зарядов возрастает с увеличением скорости движения жидкости, ее удельного сопротивления и площади контакта с твердой поверхность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ческое электричество на производстве может вызывать пожары и взрывы, вероятность их возникновения зависит от концентрации горючей смеси и зажигающей способности электрических разряд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мышленности вредное и опасное проявление статического электричества наблюдается при монтаже и сборке радиоэлектронного оборудования, изготовлении, испытании, транспортировке и хранении полупроводниковых приборов и интегральных микросхем, при переливании растворителей, нанесении покрытий распылением и ряде других процессов, где применяются диэлектрические материалы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статического электричества на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проявляться в виде слабого длительно протекающего тока или в форме кратковременного разряда, проходящего через его тело. Такой разряд вызывает у человека рефлекторное движение, что в ряде случаев может привести к попаданию работающего в опасную зону производственного оборудования и закончиться несчастным случа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ле человека статическое электричество может накапливаться при ношении обуви с непроводящими электричество подошвами, одежды и белья из шерсти, шелка и искусственных волокон и при выполнении ряда ручных операций с веществами-диэлектрик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4"/>
          <p:cNvSpPr/>
          <p:nvPr/>
        </p:nvSpPr>
        <p:spPr>
          <a:xfrm>
            <a:off x="0" y="0"/>
            <a:ext cx="4357440" cy="64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итарно-гигиенические нормы допустимой напряженности электростатического поля (ЭСП) на рабочих местах установлены ГОСТ 12.1.045—84 ССБТ «Электростатические поля. Допустимые уровни на рабочих местах и требования к проведению контроля»; СанПиН 11—16—94 «Санитарно-гигиенические нормы допустимой напряженности электростатического поля на рабочих местах». Нормируемым параметром ЭСП является напряженность поля Е, которая измеряется в вольтах на метр (В/м) или киловольтах на метр (кВ/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о допустимые уровни напряженности электростатического поля (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устанавливаются в зависимости от времени пребывания персонала на рабочих местах и не должны превышать: при воздействии до 1 ч — 60 кВ/м.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зависимости от времени воздействия ЭСП приведены в табл.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4572000" y="142920"/>
            <a:ext cx="45716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. Зависимость расчетных значений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П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от времени воздействия Э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7" descr="018.jpg"/>
          <p:cNvPicPr/>
          <p:nvPr/>
        </p:nvPicPr>
        <p:blipFill>
          <a:blip r:embed="rId1"/>
          <a:stretch/>
        </p:blipFill>
        <p:spPr>
          <a:xfrm>
            <a:off x="4071960" y="785880"/>
            <a:ext cx="5071680" cy="9853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8"/>
          <p:cNvSpPr/>
          <p:nvPr/>
        </p:nvSpPr>
        <p:spPr>
          <a:xfrm>
            <a:off x="4286160" y="1857240"/>
            <a:ext cx="45716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ряженности электростатического поля менее 20 кВ/м время пребывания в электростатическом поле не регламентир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евышает 20 кВ/м, необходимо применять соответствующие меры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9" descr="bDpc34f5XRk.jpg"/>
          <p:cNvPicPr/>
          <p:nvPr/>
        </p:nvPicPr>
        <p:blipFill>
          <a:blip r:embed="rId2"/>
          <a:stretch/>
        </p:blipFill>
        <p:spPr>
          <a:xfrm>
            <a:off x="4286160" y="3714840"/>
            <a:ext cx="4714560" cy="26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от статического электриче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дения о способах защиты от статического электричества обобщены в Правилах защиты от статического электричества в производствах химической, нефтехимической и нефтеперерабатывающей промышленности и ГОСТ 12.4.124—83 ССБТ «Средства защиты от статического электричества. Общие технические требования»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ми способами уменьшения напряженности ЭСП в рабочей зоне являются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ранирование источника поля или рабочего мест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нейтрализаторов статического электричеств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антистатических препаратов или увлажнение электризующихся материал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на легкоэлектризующихся материалов и изделий на не-электризующиеся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ор контактирующих поверхностей, исходя из условий наименьшей электризации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ьшение скорости переработки и транспортировки материал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ание оптимальной относительной влажности (не ниже 60%) ионного состава воздуха рабочих помещений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ление зон пребывания обслуживающего персонала от источников электростатических поле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54960" indent="-354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дельную группу выделяются способы, которые не предотвращают образования и накопления зарядов статического электричества, а направлены на то, чтобы возникший искровой разряд статического электричества не вызвал воспламенения горючей смес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4960" indent="-354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от статического электричества ведется по двум направлениям: уменьшением интенсивности генерации электрических зарядов и устранением уже образовавшихся заря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меньшение интенсивности генерации электрических заря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достигается использованием слабоэлектризующихся или неэлектризующихся материалов; уменьшением силы трения и площади контакта взаимодействующих поверхностей, их хромированием или никелированием; ограничением скоростей переработки или транспортирования материалов; предотвращением налива жидкости в резервуары свободно падающей струей, а также ее разбрызгивания, распыления или быстрого перемешивания. Расстояние от конца загрузочной трубы до дна сосуда не должно превышать 200 мм, а если это невозможно, то струю направляют вдоль стен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5" descr="fs5OzlFwy9s.jpg"/>
          <p:cNvPicPr/>
          <p:nvPr/>
        </p:nvPicPr>
        <p:blipFill>
          <a:blip r:embed="rId1"/>
          <a:stretch/>
        </p:blipFill>
        <p:spPr>
          <a:xfrm>
            <a:off x="2294640" y="3113280"/>
            <a:ext cx="3920040" cy="33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4038120" cy="72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странение зарядов статического электричеств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 достигается, прежде всего, заземлением электропроводных частей оборудования (выполняется независимо от других средств защиты)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ля обеспечения заземления вращающихся частей применяют электропроводную смазку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втоцистерны, передвижные аппараты и сосуды, предназначенные для транспортирования огнеопасных жидкостей, заземляют на время их наполнения и опорожнения. Для перекачки нефтепродуктов используют шланги из электропроводной резины. Заземление передвижных объектов осуществляют посредством колес из электропроводных материалов или с помощью специальных заземляющих устройств (металлических цепочек или ленточек из электропроводной резины)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Заземление работающих обеспечивается применением антистатических заземляющих браслетов, антистатической одежды и обуви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ля обеспечения непрерывного отвода зарядов статического электричества в землю полы во взрывоопасных помещениях выполняют из бетона, антистатического линолеума и т.п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7" descr="6815.jpg"/>
          <p:cNvPicPr/>
          <p:nvPr/>
        </p:nvPicPr>
        <p:blipFill>
          <a:blip r:embed="rId1"/>
          <a:stretch/>
        </p:blipFill>
        <p:spPr>
          <a:xfrm>
            <a:off x="3857760" y="285840"/>
            <a:ext cx="5167080" cy="34426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700.jpg"/>
          <p:cNvPicPr/>
          <p:nvPr/>
        </p:nvPicPr>
        <p:blipFill>
          <a:blip r:embed="rId2"/>
          <a:stretch/>
        </p:blipFill>
        <p:spPr>
          <a:xfrm>
            <a:off x="5072040" y="3857760"/>
            <a:ext cx="29048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  <Words>474</Words>
  <Paragraphs>4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12:30:25Z</dcterms:created>
  <dc:creator>Лена</dc:creator>
  <dc:description/>
  <dc:language>en-US</dc:language>
  <cp:lastModifiedBy>Лена</cp:lastModifiedBy>
  <dcterms:modified xsi:type="dcterms:W3CDTF">2021-12-08T12:48:18Z</dcterms:modified>
  <cp:revision>36</cp:revision>
  <dc:subject/>
  <dc:title>Министерство лесного хозяйства Красноярского края Краевое государственное бюджетное профессиональное образовательное учреждение «Дивногорский техникум лесных технологий» Специальность 21.02.04 Землеустрой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