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6D1-85CA-48D5-83D3-162844BE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543-48F9-4EF0-AEC9-42A584E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12F-45F8-4FFB-BC51-80A16637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3CE-3577-466B-8917-56B86F8A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EC4-5C61-4D8F-B44F-109CF15C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DDD-D9C4-409C-A2DB-E55F7DD8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1378-F9A8-4CF3-9196-33C8F5E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E83-6D3C-413C-A3B9-67C9A80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8ACB-B292-488C-9251-9FC0AF3B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467A-2729-4DD7-976E-15C04862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9C8-7227-467F-A1DD-BF475DA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477-1FE8-4425-B275-328CB62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9380-C6CC-430F-9975-BDF592F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308-4F7A-40D3-AEDC-A38F1A1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E21D-B29E-4D0B-AE2B-ECA7878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87F4-BAD1-4468-919D-C76E2D87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095-2E10-4FED-B928-0A49B305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8EE8-ECCC-43B6-8EFA-328DF20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EDD5-F5AF-4B0B-BF6A-E14659B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FCC4-6BB5-46B3-BA78-DC26D44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2061-14C3-4DA6-8D3B-B1191A3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466C-FD85-417A-9D70-ACFE0E3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C4F-07DD-4F29-AC68-613963D3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9D8F-EAB9-4F0F-BF0C-0F04D0E2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4FDB-C534-41FA-B3A0-0393F33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8E75-1CCD-42FE-A504-2862D29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69B5-A5A2-4237-B224-B8BBBD6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0C01-E8CB-4701-B56F-A5FD4F1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893B-70AD-434F-ABB6-E0F74E01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C6F0-93D0-441E-822B-C72CCAAC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B14-B53F-44A5-9AAC-FA922B2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ABF-79FF-4E77-BF2E-1579A15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EC1-A3C6-4075-8A58-480ADA2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12C-183D-48E2-BD66-A52892B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A23-70D0-4562-931D-DFEA3C9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F28-E469-48D6-B446-24F235A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7320" y="500040"/>
            <a:ext cx="6143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61897"/>
                </a:solidFill>
                <a:latin typeface="Calibri"/>
              </a:rPr>
              <a:t>Образец</a:t>
            </a:r>
            <a:br>
              <a:rPr sz="6000"/>
            </a:br>
            <a:r>
              <a:rPr b="1" lang="ru-RU" sz="6000" spc="-1" strike="noStrike">
                <a:solidFill>
                  <a:srgbClr val="f61897"/>
                </a:solidFill>
                <a:latin typeface="Calibri"/>
              </a:rPr>
              <a:t>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EAFDC-76B3-43C0-B2D0-FC1B2755D505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70BC7-EF5B-4460-B7E4-F4BFAFD9C4FD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3187D-DDEF-42A3-9EC8-559E30765112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86;&#1076;&#1099;_&#1072;&#1082;&#1090;&#1080;&#1074;&#1085;&#1086;&#1075;&#1086;_&#1086;&#1073;&#1091;&#1095;&#1077;&#1085;&#1080;&#1103;" TargetMode="External"/><Relationship Id="rId2" Type="http://schemas.openxmlformats.org/officeDocument/2006/relationships/hyperlink" Target="http://ru.wikipedia.org/wiki/1988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0280" y="1143000"/>
            <a:ext cx="50716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Роль дидактической игры в становлении познавательных способностей детей дошкольного возраста с ОВЗ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857920" y="4714920"/>
            <a:ext cx="314280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 algn="r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-дефектолог: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Коноплева Анастасия Анатольев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3143160" y="285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ДОУ  детский сад комбинированного вида №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2"/>
          <p:cNvSpPr/>
          <p:nvPr/>
        </p:nvSpPr>
        <p:spPr>
          <a:xfrm>
            <a:off x="3286080" y="6286680"/>
            <a:ext cx="2857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8000"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баровск, 201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00120" y="357120"/>
            <a:ext cx="735768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Дидактические игры необходимо использовать на разных этапах усвоения знаний: на этапах объяснения нового материала, его закрепления, повторения, контроля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В первую очередь проводятся игры на выполнение заданий по практической ориентировке, затем - игры, основанные на зрительной ориентировке, а в дальнейшем - игры, в которых дети должны опираться на приобретенные в процессе дидактических игр чувственный опыт и опыт, обобщенный в слове, уметь оперировать образами-представлениями, вызванными этим словом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 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4280" y="857160"/>
            <a:ext cx="764352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0243e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у детей познавательных интересов и способностей проходит через образовательные области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«Познание»: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сенсорной культуры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познавательно-исследовательской и продуктивной (конструктивной) деятельности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формирование элементарных математических представлений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формирование целостной картины мира, расширение кругозора детей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и «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Коммуникация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»: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речи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подготовка к обучению грамоте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</a:rPr>
              <a:t>Дидактические игр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предметами и картинк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цифрами и числ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геометрическими фигур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путешествия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ориентировки в пространств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-эксперименты (опыты)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овые ситуаци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о словами и действия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логическое мышл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развитие творческих способностей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организации дете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321444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ндивидуальное обуч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Подгрупповое обуч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57" name="Picture 4" descr="C:\Documents and Settings\Татьяна\Рабочий стол\игры фото\2014-01-15\DSC02832.JPG"/>
          <p:cNvPicPr/>
          <p:nvPr/>
        </p:nvPicPr>
        <p:blipFill>
          <a:blip r:embed="rId1"/>
          <a:stretch/>
        </p:blipFill>
        <p:spPr>
          <a:xfrm>
            <a:off x="3571920" y="1214280"/>
            <a:ext cx="3364200" cy="2522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C:\Documents and Settings\Татьяна\Рабочий стол\игры фото\2014-01-15\DSC02867.JPG"/>
          <p:cNvPicPr/>
          <p:nvPr/>
        </p:nvPicPr>
        <p:blipFill>
          <a:blip r:embed="rId2"/>
          <a:stretch/>
        </p:blipFill>
        <p:spPr>
          <a:xfrm>
            <a:off x="5000760" y="3786120"/>
            <a:ext cx="3857400" cy="264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C:\Users\andrey\Desktop\DSC02802.JPG"/>
          <p:cNvPicPr/>
          <p:nvPr/>
        </p:nvPicPr>
        <p:blipFill>
          <a:blip r:embed="rId1"/>
          <a:stretch/>
        </p:blipFill>
        <p:spPr>
          <a:xfrm>
            <a:off x="755640" y="1124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andrey\Desktop\DSC02796.JPG"/>
          <p:cNvPicPr/>
          <p:nvPr/>
        </p:nvPicPr>
        <p:blipFill>
          <a:blip r:embed="rId2"/>
          <a:stretch/>
        </p:blipFill>
        <p:spPr>
          <a:xfrm>
            <a:off x="4860000" y="335700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еометрические фигуры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Documents and Settings\Татьяна\Рабочий стол\игры фото\2014-01-15\DSC02834.JPG"/>
          <p:cNvPicPr/>
          <p:nvPr/>
        </p:nvPicPr>
        <p:blipFill>
          <a:blip r:embed="rId1"/>
          <a:stretch/>
        </p:blipFill>
        <p:spPr>
          <a:xfrm>
            <a:off x="857160" y="1000080"/>
            <a:ext cx="3571560" cy="2400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C:\Documents and Settings\Татьяна\Рабочий стол\игры фото\2014-01-15\DSC02853.JPG"/>
          <p:cNvPicPr/>
          <p:nvPr/>
        </p:nvPicPr>
        <p:blipFill>
          <a:blip r:embed="rId2"/>
          <a:stretch/>
        </p:blipFill>
        <p:spPr>
          <a:xfrm>
            <a:off x="5072040" y="1000080"/>
            <a:ext cx="364284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4" name="Рисунок 9" descr="C:\Documents and Settings\Татьяна\Рабочий стол\игры фото\2014-01-15\DSC02870.JPG"/>
          <p:cNvPicPr/>
          <p:nvPr/>
        </p:nvPicPr>
        <p:blipFill>
          <a:blip r:embed="rId3"/>
          <a:stretch/>
        </p:blipFill>
        <p:spPr>
          <a:xfrm>
            <a:off x="2786040" y="3714840"/>
            <a:ext cx="3714480" cy="260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Татьяна\Рабочий стол\игры фото\2014-01-15\DSC02875.JPG"/>
          <p:cNvPicPr/>
          <p:nvPr/>
        </p:nvPicPr>
        <p:blipFill>
          <a:blip r:embed="rId1"/>
          <a:stretch/>
        </p:blipFill>
        <p:spPr>
          <a:xfrm>
            <a:off x="857160" y="642960"/>
            <a:ext cx="3904920" cy="2928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C:\Documents and Settings\Татьяна\Рабочий стол\игры фото\2014-01-15\DSC02883.JPG"/>
          <p:cNvPicPr/>
          <p:nvPr/>
        </p:nvPicPr>
        <p:blipFill>
          <a:blip r:embed="rId2"/>
          <a:stretch/>
        </p:blipFill>
        <p:spPr>
          <a:xfrm>
            <a:off x="4714920" y="3571920"/>
            <a:ext cx="4000320" cy="30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Татьяна\Рабочий стол\игры фото\2014-01-15\DSC02848.JPG"/>
          <p:cNvPicPr/>
          <p:nvPr/>
        </p:nvPicPr>
        <p:blipFill>
          <a:blip r:embed="rId1"/>
          <a:stretch/>
        </p:blipFill>
        <p:spPr>
          <a:xfrm>
            <a:off x="928800" y="2858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C:\Documents and Settings\Татьяна\Рабочий стол\игры фото\2014-01-15\DSC02851.JPG"/>
          <p:cNvPicPr/>
          <p:nvPr/>
        </p:nvPicPr>
        <p:blipFill>
          <a:blip r:embed="rId2"/>
          <a:stretch/>
        </p:blipFill>
        <p:spPr>
          <a:xfrm>
            <a:off x="4071960" y="3214800"/>
            <a:ext cx="4654080" cy="332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езультаты раб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28800" y="1571760"/>
            <a:ext cx="79293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Дети лучше усваивают программный материал, правильно выполняют задания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Повышается эффективность педагогического процесса в целом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Развивается познавательная активность у детей, что оказывает влияние на умственное развитие ребенка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У детей формируется умение самостоятельно мыслить, использовать полученные знания в различных условиях в соответствии с                           </a:t>
            </a: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    поставленной задачей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C:\Documents and Settings\Админ\Рабочий стол\0_70fce_502428fd_L.jpg.png"/>
          <p:cNvPicPr/>
          <p:nvPr/>
        </p:nvPicPr>
        <p:blipFill>
          <a:blip r:embed="rId1"/>
          <a:stretch/>
        </p:blipFill>
        <p:spPr>
          <a:xfrm>
            <a:off x="2593800" y="1600200"/>
            <a:ext cx="459936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одзаголовок 2"/>
          <p:cNvSpPr/>
          <p:nvPr/>
        </p:nvSpPr>
        <p:spPr>
          <a:xfrm>
            <a:off x="5214960" y="214200"/>
            <a:ext cx="3142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2786040" y="357120"/>
            <a:ext cx="6071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«Игра - это огромное светлое окно, через которое в духовный мир ребёнка вливается живительный поток представлений, понятий об окружающем мире. Игра - это искра, зажигающая огонёк пытливости и любознательности»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(В.А.Сухомлинский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Documents and Settings\Татьяна\Рабочий стол\игры фото\1.jpg"/>
          <p:cNvPicPr/>
          <p:nvPr/>
        </p:nvPicPr>
        <p:blipFill>
          <a:blip r:embed="rId1"/>
          <a:stretch/>
        </p:blipFill>
        <p:spPr>
          <a:xfrm>
            <a:off x="2071800" y="30002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429080" y="2643120"/>
            <a:ext cx="4257360" cy="39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и с множественными нарушениями  развития особенно нуждаются в целенаправленном обучении.  У таких детей отсутствует интерес к окружающему миру. Поэтому для организации обучения и воспитания этих детей особую роль играют способы воздействия, направленные на активизацию их познавательной деятельности.</a:t>
            </a:r>
            <a:endParaRPr b="0" lang="ru-RU" sz="3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И значительное место в процессе обучения и воспитания занимают дидактические игры. т.к. в игре создаются такие условия, в которых каждый ребенок приобретает собственный действенный и чувственный опыт. </a:t>
            </a:r>
            <a:endParaRPr b="0" lang="ru-RU" sz="3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2" name="Picture 4" descr="C:\Documents and Settings\Татьяна\Рабочий стол\игры фото\2.jpg"/>
          <p:cNvPicPr/>
          <p:nvPr/>
        </p:nvPicPr>
        <p:blipFill>
          <a:blip r:embed="rId2"/>
          <a:stretch/>
        </p:blipFill>
        <p:spPr>
          <a:xfrm>
            <a:off x="1357200" y="4929120"/>
            <a:ext cx="2190240" cy="165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Татьяна\Рабочий стол\игры фото\4.jpg"/>
          <p:cNvPicPr/>
          <p:nvPr/>
        </p:nvPicPr>
        <p:blipFill>
          <a:blip r:embed="rId3"/>
          <a:stretch/>
        </p:blipFill>
        <p:spPr>
          <a:xfrm>
            <a:off x="1000080" y="1643040"/>
            <a:ext cx="2266560" cy="15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9293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ридрих Фребель (1782-1852) </a:t>
            </a:r>
            <a:br>
              <a:rPr sz="48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2857320" cy="3695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3" descr="C:\Documents and Settings\Татьяна\Рабочий стол\игры фото\фребель.jpg"/>
          <p:cNvPicPr/>
          <p:nvPr/>
        </p:nvPicPr>
        <p:blipFill>
          <a:blip r:embed="rId2"/>
          <a:stretch/>
        </p:blipFill>
        <p:spPr>
          <a:xfrm>
            <a:off x="5857920" y="928800"/>
            <a:ext cx="3071520" cy="204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286160" y="2928960"/>
            <a:ext cx="2928600" cy="19483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935680" y="4857840"/>
            <a:ext cx="300600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лизавета ИвановнаТихеев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428840" y="2000160"/>
            <a:ext cx="2199960" cy="299196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5143680" y="2714760"/>
            <a:ext cx="3150360" cy="236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642960"/>
            <a:ext cx="764352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идакти́ческие и́гры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— это вид учебных занятий, организуемых в виде учебных игр, реализующих ряд принципов игрового, активного обучения и отличающихся наличием правил, фиксированной структуры игровой деятельности и системы оценивания, один из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етодов активного обучения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(В. Н. Кругликов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1988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). 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идактическая игра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— это такая коллективная, целенаправленная учебная деятельность, когда каждый участник и команда в целом объединены решением главной задачи и ориентируют свое поведение на выигрыш. Дидактическая игра — это активная учебная деятельность по имитационному моделированию изучаемых систем, явлений, процессов. 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ункции дидактической иг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285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овой метод обучения детей дошкольного возраста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форма обучения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амостоятельная игровая деятельность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редство всестороннего воспитания личности ребенка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715000" y="1571760"/>
            <a:ext cx="2900160" cy="217476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786280" y="4143240"/>
            <a:ext cx="2785680" cy="20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 </a:t>
            </a: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Основные виды игр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3640" y="1600200"/>
            <a:ext cx="7992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се дидактические игры можно разделить на три основных вида: игры с предметами (игрушками, природным материалом), настольно-печатные и словесные игры.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85840"/>
            <a:ext cx="7714800" cy="58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Дидактическая игра помогает проявлять познавательную активность в самостоятельной деятельности, расширять собственные познавательные интересы и потребности, учит владеть разными способами безопасного поведения в современной информационной среде, развивает интегративные качества  ребенка, воспитывает, социализирует, развлекает, дает отдых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Дидактическая игра содействует лучшему пониманию сущности вопроса, уточнению и формированию знаний. И решает как образовательные задачи НОД, так и задачи активизации познавательной деятельности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Игра помогает педагогу донести трудный материал в доступной форме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744048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28800" y="500040"/>
            <a:ext cx="792936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Роль взрослого в дидактической игре двойственна: с одной стороны, он руководит познавательным процессом, организует обучение детей, а с другой – выполняет роль участника игры, партнера, направляет каждого ребенка на выполнение игровых действий, а при необходимости дает образец поведения в игре. Участвуя в игре, взрослый одновременно следит за выполнением прави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          Важное условие результативного использования дидактических игр в обучении – это соблюдение последовательности в подборе игр. Прежде всего должны учитываться следующие дидактические принципы: доступность, повторяемость, постепенность выполнения заданий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/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TemplateFile" ma:contentTypeID="0x010100BB2780C3CC07BD4BAA623FF9571645580400D1570604EA743043A2641365C0E91715" ma:contentTypeVersion="33" ma:contentTypeDescription="Create a new document." ma:contentTypeScope="" ma:versionID="2a5270fa24c9a38fa487f85340389844"/>
</file>

<file path=customXml/itemProps1.xml><?xml version="1.0" encoding="utf-8"?>
<ds:datastoreItem xmlns:ds="http://schemas.openxmlformats.org/officeDocument/2006/customXml" ds:itemID="{794CE536-DBCF-4096-ADA7-58FF66A32C6F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2810B528-64AE-4D68-B4C5-C6C745CE699F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CAC72F22-A8E6-4CAB-B0F5-00A258397463}">
  <ds:schemaRefs>
    <ds:schemaRef ds:uri="http://schemas.microsoft.com/office/2006/metadata/contentType"/>
    <ds:schemaRef ds:uri="http://schemas.microsoft.com/office/2006/metadata/properties/metaAttribute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  <Words>512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4:30:04Z</dcterms:created>
  <dc:creator>Computer</dc:creator>
  <dc:description/>
  <dc:language>en-US</dc:language>
  <cp:lastModifiedBy>Компьютер</cp:lastModifiedBy>
  <dcterms:modified xsi:type="dcterms:W3CDTF">2015-03-17T01:27:26Z</dcterms:modified>
  <cp:revision>82</cp:revision>
  <dc:subject/>
  <dc:title>Познавательное развитие детей дошкольного возраста средствами нетрадиционных техник рисов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_MsoHelpTopicId">
    <vt:lpwstr/>
  </property>
  <property fmtid="{D5CDD505-2E9C-101B-9397-08002B2CF9AE}" pid="5" name="_TemplateID">
    <vt:lpwstr>TC101944155</vt:lpwstr>
  </property>
</Properties>
</file>