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C908-C547-4226-B0BC-FB32017F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CD9-ABAA-4B76-8E57-66AEAACA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269-6993-4461-AA93-3C92E344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10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008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10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0EF4-EB7F-4E3A-9A44-B3A8E566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D261-EB4B-4635-A109-FC2CC504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9293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D833-9F7C-4FD8-9B30-8FAE8225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6D12-6478-4116-BFFA-F3D07BB7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2488-BC8A-4EB2-896F-8D9DB247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BE02-B7DC-4FC1-B2FB-2D20AC14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28800" y="274680"/>
            <a:ext cx="79293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B8B9-9472-46F3-BBB4-5D30D0CA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611E-8675-40D2-A2E2-E640D6E0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9293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77E8-2C17-46CE-90FF-B788B08A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9D6A-99ED-4E20-8B50-7EB37D51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6A5C-4839-45AF-AF99-B8B7A322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62C3-52CB-46F9-AF66-03D151DB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CB93-C183-44AD-A82E-0FC6A5B8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910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1008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910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0314-DD70-40FB-AAB0-9A3A7BCB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4ABB6-051B-4CB2-80B0-54A9CA57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9293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1119F-A39D-47E4-ACD3-B8EF396E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D158C-D308-4E71-9E87-86D62D83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A559E-5E52-49A0-A807-D6C6636E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6DDCE-E85D-4A62-8CC2-79D5A436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CB20-8F0E-4215-B096-F9D3C36F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28800" y="274680"/>
            <a:ext cx="79293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EFCA1-B0B6-4D58-A315-477F02A8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6648C-3A57-49D7-BE79-0AE5FE4A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86CFD-704A-46DB-8F8B-DE3C08C8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11CDB-911E-40D9-B5AC-F2294548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B236D-0C74-4A92-A2E1-2A75F963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186E1-8F29-4201-B264-B80D2AE3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910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1008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910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C3200-D1AD-43BA-B439-811D0190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CAC9-2BF5-444C-A6EB-87374279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EAAD-610E-43B0-99A0-CF315229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28800" y="274680"/>
            <a:ext cx="79293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3012-9A97-41CC-8AE7-5B7D20FB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9DA2-5A8A-45C9-9763-6E161905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2A13-EB5C-40C0-B145-BA020691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B38A-1D99-4665-8D1E-05120522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7320" y="500040"/>
            <a:ext cx="61434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61897"/>
                </a:solidFill>
                <a:latin typeface="Calibri"/>
              </a:rPr>
              <a:t>Образец</a:t>
            </a:r>
            <a:br>
              <a:rPr sz="6000"/>
            </a:br>
            <a:r>
              <a:rPr b="1" lang="ru-RU" sz="6000" spc="-1" strike="noStrike">
                <a:solidFill>
                  <a:srgbClr val="f61897"/>
                </a:solidFill>
                <a:latin typeface="Calibri"/>
              </a:rPr>
              <a:t>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0b0f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b0f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07894E-8F56-4F5A-BE6B-54E6FF1E1487}" type="slidenum">
              <a:rPr b="0" lang="ru-RU" sz="1200" spc="-1" strike="noStrike">
                <a:solidFill>
                  <a:srgbClr val="00b0f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1f497d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1f497d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1f497d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1f497d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558ed5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558ed5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1f497d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1f497d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558ed5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558ed5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1f497d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1f497d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0b0f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b0f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946E1E-47C0-4008-9C61-97507AD6ECA5}" type="slidenum">
              <a:rPr b="0" lang="ru-RU" sz="1200" spc="-1" strike="noStrike">
                <a:solidFill>
                  <a:srgbClr val="00b0f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9293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558ed5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0b0f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b0f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516F13-6DD2-4471-9E42-CA5C471F8335}" type="slidenum">
              <a:rPr b="0" lang="ru-RU" sz="1200" spc="-1" strike="noStrike">
                <a:solidFill>
                  <a:srgbClr val="00b0f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90;&#1086;&#1076;&#1099;_&#1072;&#1082;&#1090;&#1080;&#1074;&#1085;&#1086;&#1075;&#1086;_&#1086;&#1073;&#1091;&#1095;&#1077;&#1085;&#1080;&#1103;" TargetMode="External"/><Relationship Id="rId2" Type="http://schemas.openxmlformats.org/officeDocument/2006/relationships/hyperlink" Target="http://ru.wikipedia.org/wiki/1988" TargetMode="External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00280" y="1143000"/>
            <a:ext cx="507168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Роль дидактической игры в становлении познавательных способностей детей дошкольного возраста с ОВЗ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857920" y="4714920"/>
            <a:ext cx="3142800" cy="14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indent="0" algn="r">
              <a:lnSpc>
                <a:spcPct val="100000"/>
              </a:lnSpc>
              <a:spcBef>
                <a:spcPts val="76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-дефектолог: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 Коноплева Анастасия Анатольевн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ая квалификационная катег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одзаголовок 2"/>
          <p:cNvSpPr/>
          <p:nvPr/>
        </p:nvSpPr>
        <p:spPr>
          <a:xfrm>
            <a:off x="3143160" y="28584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ДОУ  детский сад комбинированного вида №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одзаголовок 2"/>
          <p:cNvSpPr/>
          <p:nvPr/>
        </p:nvSpPr>
        <p:spPr>
          <a:xfrm>
            <a:off x="3286080" y="6286680"/>
            <a:ext cx="28573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8000"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баровск, 201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00120" y="357120"/>
            <a:ext cx="7357680" cy="57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22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Дидактические игры необходимо использовать на разных этапах усвоения знаний: на этапах объяснения нового материала, его закрепления, повторения, контроля. 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marL="322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В первую очередь проводятся игры на выполнение заданий по практической ориентировке, затем - игры, основанные на зрительной ориентировке, а в дальнейшем - игры, в которых дети должны опираться на приобретенные в процессе дидактических игр чувственный опыт и опыт, обобщенный в слове, уметь оперировать образами-представлениями, вызванными этим словом.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marL="322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   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214280" y="857160"/>
            <a:ext cx="7643520" cy="52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0243e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Развитие у детей познавательных интересов и способностей проходит через образовательные области 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«Познание»: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17375e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развитие сенсорной культуры;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17375e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развитие познавательно-исследовательской и продуктивной (конструктивной) деятельности;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17375e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формирование элементарных математических представлений;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17375e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формирование целостной картины мира, расширение кругозора детей.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и «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Коммуникация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»: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17375e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развитие речи;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17375e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подготовка к обучению грамоте.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</a:rPr>
              <a:t>Дидактические игр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00080" y="1571760"/>
            <a:ext cx="79293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гры с предметами и картинками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гры с цифрами и числами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гры с геометрическими фигурами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гры путешествия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гры на ориентировки в пространстве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гры-эксперименты (опыты)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гровые ситуации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гры со словами и действиями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гры на логическое мышление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гры на развитие творческих способностей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Формы организации дете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14240" y="1600200"/>
            <a:ext cx="321444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ндивидуальное обучение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Подгрупповое обучение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57" name="Picture 4" descr="C:\Documents and Settings\Татьяна\Рабочий стол\игры фото\2014-01-15\DSC02832.JPG"/>
          <p:cNvPicPr/>
          <p:nvPr/>
        </p:nvPicPr>
        <p:blipFill>
          <a:blip r:embed="rId1"/>
          <a:stretch/>
        </p:blipFill>
        <p:spPr>
          <a:xfrm>
            <a:off x="3571920" y="1214280"/>
            <a:ext cx="3364200" cy="25228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1" descr="C:\Documents and Settings\Татьяна\Рабочий стол\игры фото\2014-01-15\DSC02867.JPG"/>
          <p:cNvPicPr/>
          <p:nvPr/>
        </p:nvPicPr>
        <p:blipFill>
          <a:blip r:embed="rId2"/>
          <a:stretch/>
        </p:blipFill>
        <p:spPr>
          <a:xfrm>
            <a:off x="5000760" y="3786120"/>
            <a:ext cx="3857400" cy="2642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C:\Users\andrey\Desktop\DSC02802.JPG"/>
          <p:cNvPicPr/>
          <p:nvPr/>
        </p:nvPicPr>
        <p:blipFill>
          <a:blip r:embed="rId1"/>
          <a:stretch/>
        </p:blipFill>
        <p:spPr>
          <a:xfrm>
            <a:off x="755640" y="1124640"/>
            <a:ext cx="4038120" cy="3028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:\Users\andrey\Desktop\DSC02796.JPG"/>
          <p:cNvPicPr/>
          <p:nvPr/>
        </p:nvPicPr>
        <p:blipFill>
          <a:blip r:embed="rId2"/>
          <a:stretch/>
        </p:blipFill>
        <p:spPr>
          <a:xfrm>
            <a:off x="4860000" y="3357000"/>
            <a:ext cx="4038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Геометрические фигуры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C:\Documents and Settings\Татьяна\Рабочий стол\игры фото\2014-01-15\DSC02834.JPG"/>
          <p:cNvPicPr/>
          <p:nvPr/>
        </p:nvPicPr>
        <p:blipFill>
          <a:blip r:embed="rId1"/>
          <a:stretch/>
        </p:blipFill>
        <p:spPr>
          <a:xfrm>
            <a:off x="857160" y="1000080"/>
            <a:ext cx="3571560" cy="24001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8" descr="C:\Documents and Settings\Татьяна\Рабочий стол\игры фото\2014-01-15\DSC02853.JPG"/>
          <p:cNvPicPr/>
          <p:nvPr/>
        </p:nvPicPr>
        <p:blipFill>
          <a:blip r:embed="rId2"/>
          <a:stretch/>
        </p:blipFill>
        <p:spPr>
          <a:xfrm>
            <a:off x="5072040" y="1000080"/>
            <a:ext cx="3642840" cy="2428560"/>
          </a:xfrm>
          <a:prstGeom prst="rect">
            <a:avLst/>
          </a:prstGeom>
          <a:ln w="9525">
            <a:noFill/>
          </a:ln>
        </p:spPr>
      </p:pic>
      <p:pic>
        <p:nvPicPr>
          <p:cNvPr id="164" name="Рисунок 9" descr="C:\Documents and Settings\Татьяна\Рабочий стол\игры фото\2014-01-15\DSC02870.JPG"/>
          <p:cNvPicPr/>
          <p:nvPr/>
        </p:nvPicPr>
        <p:blipFill>
          <a:blip r:embed="rId3"/>
          <a:stretch/>
        </p:blipFill>
        <p:spPr>
          <a:xfrm>
            <a:off x="2786040" y="3714840"/>
            <a:ext cx="3714480" cy="2608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:\Documents and Settings\Татьяна\Рабочий стол\игры фото\2014-01-15\DSC02875.JPG"/>
          <p:cNvPicPr/>
          <p:nvPr/>
        </p:nvPicPr>
        <p:blipFill>
          <a:blip r:embed="rId1"/>
          <a:stretch/>
        </p:blipFill>
        <p:spPr>
          <a:xfrm>
            <a:off x="857160" y="642960"/>
            <a:ext cx="3904920" cy="292860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" descr="C:\Documents and Settings\Татьяна\Рабочий стол\игры фото\2014-01-15\DSC02883.JPG"/>
          <p:cNvPicPr/>
          <p:nvPr/>
        </p:nvPicPr>
        <p:blipFill>
          <a:blip r:embed="rId2"/>
          <a:stretch/>
        </p:blipFill>
        <p:spPr>
          <a:xfrm>
            <a:off x="4714920" y="3571920"/>
            <a:ext cx="4000320" cy="3071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Documents and Settings\Татьяна\Рабочий стол\игры фото\2014-01-15\DSC02848.JPG"/>
          <p:cNvPicPr/>
          <p:nvPr/>
        </p:nvPicPr>
        <p:blipFill>
          <a:blip r:embed="rId1"/>
          <a:stretch/>
        </p:blipFill>
        <p:spPr>
          <a:xfrm>
            <a:off x="928800" y="28584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C:\Documents and Settings\Татьяна\Рабочий стол\игры фото\2014-01-15\DSC02851.JPG"/>
          <p:cNvPicPr/>
          <p:nvPr/>
        </p:nvPicPr>
        <p:blipFill>
          <a:blip r:embed="rId2"/>
          <a:stretch/>
        </p:blipFill>
        <p:spPr>
          <a:xfrm>
            <a:off x="4071960" y="3214800"/>
            <a:ext cx="4654080" cy="3329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Результаты работ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28800" y="1571760"/>
            <a:ext cx="79293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Дети лучше усваивают программный материал, правильно выполняют задания.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Повышается эффективность педагогического процесса в целом.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Развивается познавательная активность у детей, что оказывает влияние на умственное развитие ребенка.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У детей формируется умение самостоятельно мыслить, использовать полученные знания в различных условиях в соответствии с                           </a:t>
            </a:r>
            <a:r>
              <a:rPr b="0" lang="ru-RU" sz="2400" spc="-1" strike="noStrike">
                <a:solidFill>
                  <a:srgbClr val="eeece1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      поставленной задачей.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Спасибо за внимание!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C:\Documents and Settings\Админ\Рабочий стол\0_70fce_502428fd_L.jpg.png"/>
          <p:cNvPicPr/>
          <p:nvPr/>
        </p:nvPicPr>
        <p:blipFill>
          <a:blip r:embed="rId1"/>
          <a:stretch/>
        </p:blipFill>
        <p:spPr>
          <a:xfrm>
            <a:off x="2593800" y="1600200"/>
            <a:ext cx="4599360" cy="4525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одзаголовок 2"/>
          <p:cNvSpPr/>
          <p:nvPr/>
        </p:nvSpPr>
        <p:spPr>
          <a:xfrm>
            <a:off x="5214960" y="214200"/>
            <a:ext cx="3142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1"/>
              </a:spcBef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2786040" y="357120"/>
            <a:ext cx="60717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«Игра - это огромное светлое окно, через которое в духовный мир ребёнка вливается живительный поток представлений, понятий об окружающем мире. Игра - это искра, зажигающая огонёк пытливости и любознательности».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(В.А.Сухомлинский)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Documents and Settings\Татьяна\Рабочий стол\игры фото\1.jpg"/>
          <p:cNvPicPr/>
          <p:nvPr/>
        </p:nvPicPr>
        <p:blipFill>
          <a:blip r:embed="rId1"/>
          <a:stretch/>
        </p:blipFill>
        <p:spPr>
          <a:xfrm>
            <a:off x="2071800" y="3000240"/>
            <a:ext cx="2071440" cy="20714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429080" y="2643120"/>
            <a:ext cx="4257360" cy="39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indent="0">
              <a:lnSpc>
                <a:spcPct val="100000"/>
              </a:lnSpc>
              <a:spcBef>
                <a:spcPts val="760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Дети с множественными нарушениями  развития особенно нуждаются в целенаправленном обучении.  У таких детей отсутствует интерес к окружающему миру. Поэтому для организации обучения и воспитания этих детей особую роль играют способы воздействия, направленные на активизацию их познавательной деятельности.</a:t>
            </a:r>
            <a:endParaRPr b="0" lang="ru-RU" sz="38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60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И значительное место в процессе обучения и воспитания занимают дидактические игры. т.к. в игре создаются такие условия, в которых каждый ребенок приобретает собственный действенный и чувственный опыт. </a:t>
            </a:r>
            <a:endParaRPr b="0" lang="ru-RU" sz="38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32" name="Picture 4" descr="C:\Documents and Settings\Татьяна\Рабочий стол\игры фото\2.jpg"/>
          <p:cNvPicPr/>
          <p:nvPr/>
        </p:nvPicPr>
        <p:blipFill>
          <a:blip r:embed="rId2"/>
          <a:stretch/>
        </p:blipFill>
        <p:spPr>
          <a:xfrm>
            <a:off x="1357200" y="4929120"/>
            <a:ext cx="2190240" cy="1657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Documents and Settings\Татьяна\Рабочий стол\игры фото\4.jpg"/>
          <p:cNvPicPr/>
          <p:nvPr/>
        </p:nvPicPr>
        <p:blipFill>
          <a:blip r:embed="rId3"/>
          <a:stretch/>
        </p:blipFill>
        <p:spPr>
          <a:xfrm>
            <a:off x="1000080" y="1643040"/>
            <a:ext cx="2266560" cy="15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92936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Фридрих Фребель (1782-1852) </a:t>
            </a:r>
            <a:br>
              <a:rPr sz="4800"/>
            </a:b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428840" y="1785960"/>
            <a:ext cx="2857320" cy="3695400"/>
          </a:xfrm>
          <a:prstGeom prst="rect">
            <a:avLst/>
          </a:prstGeom>
          <a:ln w="9525">
            <a:noFill/>
          </a:ln>
        </p:spPr>
      </p:pic>
      <p:pic>
        <p:nvPicPr>
          <p:cNvPr id="136" name="Picture 3" descr="C:\Documents and Settings\Татьяна\Рабочий стол\игры фото\фребель.jpg"/>
          <p:cNvPicPr/>
          <p:nvPr/>
        </p:nvPicPr>
        <p:blipFill>
          <a:blip r:embed="rId2"/>
          <a:stretch/>
        </p:blipFill>
        <p:spPr>
          <a:xfrm>
            <a:off x="5857920" y="928800"/>
            <a:ext cx="3071520" cy="2043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4286160" y="2928960"/>
            <a:ext cx="2928600" cy="1948320"/>
          </a:xfrm>
          <a:prstGeom prst="rect">
            <a:avLst/>
          </a:prstGeom>
          <a:ln w="9525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4"/>
          <a:stretch/>
        </p:blipFill>
        <p:spPr>
          <a:xfrm>
            <a:off x="5935680" y="4857840"/>
            <a:ext cx="3006000" cy="1999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Елизавета ИвановнаТихеева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428840" y="2000160"/>
            <a:ext cx="2199960" cy="2991960"/>
          </a:xfrm>
          <a:prstGeom prst="rect">
            <a:avLst/>
          </a:prstGeom>
          <a:ln w="9525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5143680" y="2714760"/>
            <a:ext cx="3150360" cy="2362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14280" y="642960"/>
            <a:ext cx="7643520" cy="54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Дидакти́ческие и́гры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 — это вид учебных занятий, организуемых в виде учебных игр, реализующих ряд принципов игрового, активного обучения и отличающихся наличием правил, фиксированной структуры игровой деятельности и системы оценивания, один из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методов активного обучения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 (В. Н. Кругликов,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1988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). 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Дидактическая игра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 — это такая коллективная, целенаправленная учебная деятельность, когда каждый участник и команда в целом объединены решением главной задачи и ориентируют свое поведение на выигрыш. Дидактическая игра — это активная учебная деятельность по имитационному моделированию изучаемых систем, явлений, процессов. 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Функции дидактической игры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32857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игровой метод обучения детей дошкольного возраста;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форма обучения;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самостоятельная игровая деятельность;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79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средство всестороннего воспитания личности ребенка.</a:t>
            </a: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715000" y="1571760"/>
            <a:ext cx="2900160" cy="2174760"/>
          </a:xfrm>
          <a:prstGeom prst="rect">
            <a:avLst/>
          </a:prstGeom>
          <a:ln w="9525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5786280" y="4143240"/>
            <a:ext cx="2785680" cy="2089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 </a:t>
            </a:r>
            <a:r>
              <a:rPr b="1" lang="ru-RU" sz="4800" spc="-1" strike="noStrike">
                <a:solidFill>
                  <a:srgbClr val="17375e"/>
                </a:solidFill>
                <a:latin typeface="Calibri"/>
              </a:rPr>
              <a:t>Основные виды игр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3640" y="1600200"/>
            <a:ext cx="79923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   </a:t>
            </a:r>
            <a:endParaRPr b="0" lang="ru-RU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Все дидактические игры можно разделить на три основных вида: игры с предметами (игрушками, природным материалом), настольно-печатные и словесные игры.</a:t>
            </a:r>
            <a:endParaRPr b="0" lang="ru-RU" sz="28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43000" y="285840"/>
            <a:ext cx="7714800" cy="58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1f497d"/>
              </a:buClr>
              <a:buFont typeface="Arial"/>
              <a:buChar char="•"/>
              <a:tabLst>
                <a:tab algn="l" pos="744048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Times New Roman"/>
              </a:rPr>
              <a:t>Дидактическая игра помогает проявлять познавательную активность в самостоятельной деятельности, расширять собственные познавательные интересы и потребности, учит владеть разными способами безопасного поведения в современной информационной среде, развивает интегративные качества  ребенка, воспитывает, социализирует, развлекает, дает отдых.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1f497d"/>
              </a:buClr>
              <a:buFont typeface="Arial"/>
              <a:buChar char="•"/>
              <a:tabLst>
                <a:tab algn="l" pos="744048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Times New Roman"/>
              </a:rPr>
              <a:t>Дидактическая игра содействует лучшему пониманию сущности вопроса, уточнению и формированию знаний. И решает как образовательные задачи НОД, так и задачи активизации познавательной деятельности. 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1f497d"/>
              </a:buClr>
              <a:buFont typeface="Arial"/>
              <a:buChar char="•"/>
              <a:tabLst>
                <a:tab algn="l" pos="744048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Times New Roman"/>
              </a:rPr>
              <a:t>Игра помогает педагогу донести трудный материал в доступной форме.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7440480"/>
              </a:tabLst>
            </a:pP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28800" y="500040"/>
            <a:ext cx="7929360" cy="56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31560" indent="-331560">
              <a:lnSpc>
                <a:spcPct val="100000"/>
              </a:lnSpc>
              <a:spcBef>
                <a:spcPts val="641"/>
              </a:spcBef>
              <a:buClr>
                <a:srgbClr val="1f497d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1f497d"/>
                </a:solidFill>
                <a:latin typeface="Times New Roman"/>
              </a:rPr>
              <a:t>Роль взрослого в дидактической игре двойственна: с одной стороны, он руководит познавательным процессом, организует обучение детей, а с другой – выполняет роль участника игры, партнера, направляет каждого ребенка на выполнение игровых действий, а при необходимости дает образец поведения в игре. Участвуя в игре, взрослый одновременно следит за выполнением правил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Times New Roman"/>
              </a:rPr>
              <a:t>          Важное условие результативного использования дидактических игр в обучении – это соблюдение последовательности в подборе игр. Прежде всего должны учитываться следующие дидактические принципы: доступность, повторяемость, постепенность выполнения заданий. </a:t>
            </a:r>
            <a:endParaRPr b="0" lang="ru-RU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S101944155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S101944155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S101944155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?mso-contentType ?>
<FormTemplates xmlns="http://schemas.microsoft.com/sharepoint/v3/contenttype/forms">
  <Display>DocumentLibraryForm</Display>
  <Edit>AssetEditForm</Edit>
  <New>DocumentLibraryForm</New>
</FormTemplates>
</file>

<file path=customXml/item2.xml><?xml version="1.0" encoding="utf-8"?>
<p:properties xmlns:p="http://schemas.microsoft.com/office/2006/metadata/properties" xmlns:xsi="http://www.w3.org/2001/XMLSchema-instance" xmlns:pc="http://schemas.microsoft.com/office/infopath/2007/PartnerControls"/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TemplateFile" ma:contentTypeID="0x010100BB2780C3CC07BD4BAA623FF9571645580400D1570604EA743043A2641365C0E91715" ma:contentTypeVersion="33" ma:contentTypeDescription="Create a new document." ma:contentTypeScope="" ma:versionID="2a5270fa24c9a38fa487f85340389844"/>
</file>

<file path=customXml/itemProps1.xml><?xml version="1.0" encoding="utf-8"?>
<ds:datastoreItem xmlns:ds="http://schemas.openxmlformats.org/officeDocument/2006/customXml" ds:itemID="{794CE536-DBCF-4096-ADA7-58FF66A32C6F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2810B528-64AE-4D68-B4C5-C6C745CE699F}">
  <ds:schemaRefs>
    <ds:schemaRef ds:uri="http://schemas.microsoft.com/office/2006/metadata/properties"/>
    <ds:schemaRef ds:uri="http://schemas.microsoft.com/office/infopath/2007/PartnerControls"/>
  </ds:schemaRefs>
</ds:datastoreItem>
</file>

<file path=customXml/itemProps3.xml><?xml version="1.0" encoding="utf-8"?>
<ds:datastoreItem xmlns:ds="http://schemas.openxmlformats.org/officeDocument/2006/customXml" ds:itemID="{CAC72F22-A8E6-4CAB-B0F5-00A258397463}">
  <ds:schemaRefs>
    <ds:schemaRef ds:uri="http://schemas.microsoft.com/office/2006/metadata/contentType"/>
    <ds:schemaRef ds:uri="http://schemas.microsoft.com/office/2006/metadata/properties/metaAttribute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  <Words>512</Words>
  <Paragraphs>5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04:30:04Z</dcterms:created>
  <dc:creator>Computer</dc:creator>
  <dc:description/>
  <dc:language>en-US</dc:language>
  <cp:lastModifiedBy>Компьютер</cp:lastModifiedBy>
  <dcterms:modified xsi:type="dcterms:W3CDTF">2015-03-17T01:27:26Z</dcterms:modified>
  <cp:revision>82</cp:revision>
  <dc:subject/>
  <dc:title>Познавательное развитие детей дошкольного возраста средствами нетрадиционных техник рисовани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  <property fmtid="{D5CDD505-2E9C-101B-9397-08002B2CF9AE}" pid="4" name="_MsoHelpTopicId">
    <vt:lpwstr/>
  </property>
  <property fmtid="{D5CDD505-2E9C-101B-9397-08002B2CF9AE}" pid="5" name="_TemplateID">
    <vt:lpwstr>TC101944155</vt:lpwstr>
  </property>
</Properties>
</file>