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8.gif" ContentType="image/gif"/>
  <Override PartName="/ppt/media/image48.png" ContentType="image/png"/>
  <Override PartName="/ppt/media/image13.png" ContentType="image/png"/>
  <Override PartName="/ppt/media/image10.gif" ContentType="image/gif"/>
  <Override PartName="/ppt/media/image51.png" ContentType="image/png"/>
  <Override PartName="/ppt/media/image11.gif" ContentType="image/gif"/>
  <Override PartName="/ppt/media/image14.png" ContentType="image/png"/>
  <Override PartName="/ppt/media/image31.png" ContentType="image/png"/>
  <Override PartName="/ppt/media/image30.png" ContentType="image/png"/>
  <Override PartName="/ppt/media/image9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40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B2E-1FA6-4CE1-BAF0-3474BE7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D1C-8E6D-475D-929B-312CA87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3542EA-8A82-4CAF-840D-620C42A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BE2B2E-59F1-4B69-962A-B9663C4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271CB-6B43-46DF-9AC9-D75BBC88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5BBB7-2E5C-476C-BFEE-034E142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CF24B-1AAD-43D9-866E-06947CC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D6E567-225E-408B-B241-B03B1CE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7DB23-B2E1-4B5D-8B0F-3684176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A4021-F68F-438D-8398-BE819C79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657B0-FE65-41E3-A154-E049EE83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2EB-8C25-47B6-A564-D5757191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82D-8837-490E-8731-6D9CFFDB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115E-B94D-44BE-A028-6EC81629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789E0-D50C-40C6-AF66-CF20A965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E3811-C064-48FB-B70B-BECEF14B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F643-9588-4EC9-82AA-7B758258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C9D6A-6674-49A3-946F-381E3995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34C9E-CE11-4058-852D-CCBD0D6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CD1DE-9340-474C-BE2D-3B28A87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B29-E537-4A2E-8E15-5B05BDF6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0739-A383-4675-BDD2-A3A8877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13683-86D0-459B-A462-840CA0D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8E55-6577-479A-AA0A-F3B5034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B2B76-06F4-44E5-921C-052B91A5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1D65-84D2-444E-A25B-F3C79BC6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0002-3302-43E6-A997-4837F52D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61D2-6541-4446-A47D-2535091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B258-4E14-484A-9686-5AE2192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BEBE-BE70-4799-9128-93BD42DC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7B0D-CB8C-4330-8FA2-337A9ED7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518-3334-43DE-9F86-23CCF0A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67E8-E549-4FFB-A61D-C790505F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AA85-B9C0-4310-B9D9-83AD32E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9C1A-9D18-4E43-9682-77A94F18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FD27-047B-40F3-94C4-710A19C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081C-31B2-4C3A-AD56-B3F3048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9714-8D4A-4349-AB25-74EF8872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C496-0580-4D7D-9112-D9A08840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542F7-51D7-459C-B6F6-43D7AA6C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17798-22FF-4763-825F-FF0D0CF7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A6381-C36A-4B14-8405-72549BB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697-2225-4B7E-9858-D2F4B98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41184-7A59-492A-AF01-67DA76F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DF4E8-1674-46CA-B0CC-DB62D900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EEE3A-F137-44BB-B273-81694E70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FEB05-ADC8-4923-B345-DDA24A6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86954-3A39-467A-BDEE-03D9788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34C63-474E-4711-AC2F-DC2CABB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EE553-7847-45DB-968E-24CE9F1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45555-1287-461D-AD23-E7AB92E0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44EF6-B387-4EE4-8A63-C6405EA5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8222C-349C-47DB-90C4-8CF84981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72D-94DE-4954-A7D0-2A95541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5583-53CF-4A7A-A908-51B96A3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6841-C1AB-477E-9D31-C65932D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F7E4-255A-46DF-8732-F6003C75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217E-AC28-4938-8F36-9CDFBFA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B92C-3CCD-4455-BB19-84350594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18BE-FBF9-442B-86F5-FCEC583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53F8-20D3-4063-8FBB-E345A0D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7FC6-414E-401B-A411-8CB47205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5F2F8-C218-4936-850D-C284E8A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F6B2-3548-4081-BE42-1ED3D0E4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6D4-EBB1-4834-860C-69AF725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ACDD-AC12-4AAD-BB20-0BB85380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03C0-80DA-4DE8-BBAC-DBB34ED9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0E24-FF1E-4D77-805E-627A9278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4B8E-4AA0-4288-86CA-C869285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D69D-CAEC-45C4-B1EF-07702EE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8150-E72A-4626-955A-A407C58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48A7-82AC-4BE6-89A3-9B542E8D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A0FA-E4EB-4B71-9241-3BFADDA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7291-2AF3-4415-A0E7-56E4A61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73F1-2648-4A04-A152-E9DDB35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E44-3063-48D1-8C39-B4CED00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498F-67D8-498C-8A26-B1F084E4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C08C-6CB9-4684-AABC-5B2834AB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3116-293A-4A04-91BD-23EE4B03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7FD9B-3C58-456A-AF77-B74BBD47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60B9-B80C-4EFA-BE20-DB591EF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485D-CFA1-4A86-A35D-8045718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233F-5B0D-469A-9899-EFADDA9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D92E-9D67-4157-8A57-CCE76916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F754-A2D9-4198-8838-4D28E65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25D0-94FE-4895-99FC-5A4AD5F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B57-984A-453D-B67D-538949F9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549A-4DD4-47AA-8E21-F06C016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A132-D182-448B-B5A8-2FE1F56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FB65-6319-4723-B75B-2BE45A23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FEE3-13BB-4CCA-8ECF-9955AFA6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D060-5197-4B28-A102-BDBBCA7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C4B1C-2117-4F18-8132-7B47C1C4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D6B8A9-FCDE-45F0-96A4-7311D59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3A2E2-4974-4BBE-9C72-4B2EF866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46825-290D-4307-8718-42F2E51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2AFA59-F86F-46DA-B0C2-DEA8F7C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EA9-2B2E-436D-8BC7-6AB621C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938D5-6072-4134-B86A-F985FE9E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21397-2F06-4C84-BB70-DE05258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13415C-0C0E-4B44-A711-030699F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304D1F-EAC7-4D03-9C64-EA302401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E1FEA-A816-4918-A016-852D3B3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35C3B-AB5D-40D2-A011-129D0ABA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85E95-0481-446C-9EFE-F5BEA8ED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6E004-53EE-4CAC-BD9C-77C550A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DCA07-CD4F-45E8-B4BF-5C5BE31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9EE34-203D-4200-B0D2-CFA0C885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468F-8AC7-4A0D-9213-4671A35A9C1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6BE7-FB30-4D13-8095-29FAC8D8610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E7DE-ED7D-46B2-9E9A-817400ED380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B89-B185-40B7-88B4-7F4C579607A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98F1-0873-4E76-8394-490576F0437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DE7-EC63-4A69-B1B6-D2E527946D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95C-F10B-472F-8727-09C125AEE54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EC9-E9A2-42D6-82D9-49757C45B38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123-0B01-4D45-BAE6-AC3A69EB02B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plus-msk.ru/" TargetMode="External"/><Relationship Id="rId3" Type="http://schemas.openxmlformats.org/officeDocument/2006/relationships/hyperlink" Target="http://plus-msk.ru/" TargetMode="External"/><Relationship Id="rId4" Type="http://schemas.openxmlformats.org/officeDocument/2006/relationships/hyperlink" Target="http://plus-msk.ru/" TargetMode="External"/><Relationship Id="rId5" Type="http://schemas.openxmlformats.org/officeDocument/2006/relationships/hyperlink" Target="http://plus-msk.ru/" TargetMode="External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749160" y="2560680"/>
            <a:ext cx="8242560" cy="1498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627280" y="436536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: Брычка Н.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 «СОШ №23»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ЛИДИЯ\Desktop\vollybal_01.gif"/>
          <p:cNvPicPr/>
          <p:nvPr/>
        </p:nvPicPr>
        <p:blipFill>
          <a:blip r:embed="rId3"/>
          <a:stretch/>
        </p:blipFill>
        <p:spPr>
          <a:xfrm>
            <a:off x="539640" y="1700280"/>
            <a:ext cx="1171800" cy="1904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Users\ЛИДИЯ\Desktop\vollybal_22.gif"/>
          <p:cNvPicPr/>
          <p:nvPr/>
        </p:nvPicPr>
        <p:blipFill>
          <a:blip r:embed="rId4"/>
          <a:stretch/>
        </p:blipFill>
        <p:spPr>
          <a:xfrm>
            <a:off x="7596360" y="1916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C:\Users\ЛИДИЯ\Desktop\009.gif"/>
          <p:cNvPicPr/>
          <p:nvPr/>
        </p:nvPicPr>
        <p:blipFill>
          <a:blip r:embed="rId5"/>
          <a:stretch/>
        </p:blipFill>
        <p:spPr>
          <a:xfrm>
            <a:off x="4500720" y="189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C:\Users\ЛИДИЯ\Desktop\vollybal_20.gif"/>
          <p:cNvPicPr/>
          <p:nvPr/>
        </p:nvPicPr>
        <p:blipFill>
          <a:blip r:embed="rId6"/>
          <a:stretch/>
        </p:blipFill>
        <p:spPr>
          <a:xfrm>
            <a:off x="3359160" y="765000"/>
            <a:ext cx="2554200" cy="1592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C:\Users\ЛИДИЯ\Desktop\vollybal_11.gif"/>
          <p:cNvPicPr/>
          <p:nvPr/>
        </p:nvPicPr>
        <p:blipFill>
          <a:blip r:embed="rId7"/>
          <a:stretch/>
        </p:blipFill>
        <p:spPr>
          <a:xfrm>
            <a:off x="1042920" y="4437000"/>
            <a:ext cx="857160" cy="148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C:\Users\ЛИДИЯ\Desktop\vollybal_23.gif"/>
          <p:cNvPicPr/>
          <p:nvPr/>
        </p:nvPicPr>
        <p:blipFill>
          <a:blip r:embed="rId8"/>
          <a:stretch/>
        </p:blipFill>
        <p:spPr>
          <a:xfrm>
            <a:off x="6858000" y="5429160"/>
            <a:ext cx="1784520" cy="890640"/>
          </a:xfrm>
          <a:prstGeom prst="rect">
            <a:avLst/>
          </a:prstGeom>
          <a:ln w="0">
            <a:noFill/>
          </a:ln>
        </p:spPr>
      </p:pic>
      <p:pic>
        <p:nvPicPr>
          <p:cNvPr id="402" name="спортивный марш музыка.mp3" descr=""/>
          <p:cNvPicPr/>
          <p:nvPr/>
        </p:nvPicPr>
        <p:blipFill>
          <a:blip r:embed="rId9"/>
          <a:stretch/>
        </p:blipFill>
        <p:spPr>
          <a:xfrm>
            <a:off x="88390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100640" cy="860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которым мяч вводится в игру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одачей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ми деталями техники для всех видов подач являются устойчивая стойка, удобная для удара, подбрасывание мяча, удар по мячу, переход волейболиста к последующим игровым действия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чают несколько разновидностей подач : нижняя прямая (рис.2), нижняя боковая (рис.3), верхняя прямая (рис.4) и верхняя боковая (рис.5). Так называемая планирующая  подача (рис.6) является разновидностью верхней подачи. Особенность « планирующей » подачи заключается в том, что удар по мячу наносится рукой закрепленной в лучезапястном суставе, без всякого сопровождения (рис.7). В результате этого мяч не вращается, а планирует, не имея траектории полета. Прием таких мячей затруднен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же часто применяется подача в прыжке (рис.8). В подаче в прыжке главное - это правильно подбросить мяч, если не правильно подбросить, то вряд ли вы вообще подадите. Мяч необходимо подбрасывать перед собой и вперед, на расстояние необходимое для разбега. При этом высота и длина подброса определяется индивидуально, исходя из простого удобств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8160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1116000" y="32130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 Нижняя прямая по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ид спереди и сбоку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71800" cy="1819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12680" y="3141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3 Ниж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409840" cy="19717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6"/>
          <p:cNvSpPr/>
          <p:nvPr/>
        </p:nvSpPr>
        <p:spPr>
          <a:xfrm>
            <a:off x="1704600" y="602136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4 Верхняя прямая подача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781360" cy="22575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8"/>
          <p:cNvSpPr/>
          <p:nvPr/>
        </p:nvSpPr>
        <p:spPr>
          <a:xfrm>
            <a:off x="5439960" y="602136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5 Верх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448160" cy="19717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2"/>
          <p:cNvSpPr/>
          <p:nvPr/>
        </p:nvSpPr>
        <p:spPr>
          <a:xfrm>
            <a:off x="971640" y="3068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6 Вариант верхней боковой подачи, так называемая планирующая подач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362320" cy="12952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5580000" y="263700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7 Способы ударов по мячу  при выполнении планирующих пода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581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881840" cy="860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971280" y="98100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с помощью которого мяч направляется партнеру для продолжения игры или переправляется на сторону противник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ередачей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направлению относительно передающего различают передачи вперед, над собой и назад. По длине траектории различают : длинные передачи – через зону ; короткие  - в соседнюю зону ; укороченные – в свою зону. По высоте различают передачи низкие (до 1 м над сеткой), средние (свыше 2 м), а по расстоянию от сетки – близкие (менее 0,5 м) и отдаленные ( более 0,5 м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ой является передача двумя руками сверху (рис.8,а). Ее главные преимущества заключаются в надежности и точности. При выполнении этой передачи в исходном положении ноги игрока согнуты в коленях, руки вынесены перед лицом так, что большие пальцы находятся примерно на уровне бровей. Кисти рук слегка повернуты внутрь, концы пальцев образуют овал в форме ковша (рис.8,б). Пальцы оптимально напряж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1042920" y="981000"/>
            <a:ext cx="748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ближении мяча встречное движение к нему начинают ноги – они выпрямляются в коленных суставах и поднимают тело игрока. Вслед за этим в движение включаются руки -  они поднимаются и выпрямляются на встречу мячу. Основную амортизирующую нагрузку принимают на себя большие пальцы. Указательные (главным образом) и средние пальцы являются ударными. Безымянные пальцы и мизинцы удерживают мяч  с боков, не захватывая его. Эти движения ног, туловища и рук, выполненные слитно, обеспечивают короткое касание мяча упругими пальцами, позволяют направить его в нужную точку по задуманной траект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ите позы и движения волейболиста при передачах двумя руками сверху,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ите внимание на положение ног, туловища  рук в основной стойке (рис.8,а); расположение пальцев рук на мяче (рис.8,б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я волейболиста при передачах мяча вперед, над собой и назад (рис.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виды передач применяются реже : двумя руками сверху в прыжке (рис.10,а), одной рукой сверху(рис.10,б),двумя руками снизу(рис.16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овременной игре передача –важный элемент организации нападения, связывающий защиту с атакой. Задача передающего игрока в связи с этим – создавать партнерам наилучшие условия для атаки нападающими ударами. Каждый волейболист должен овладеть всем арсеналом быстрых и точных передач, уметь чередовать ( менять ) их по длине, высоте, направлению, своевременно выполнять отвлекающие действ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4286160" cy="19717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2"/>
          <p:cNvSpPr/>
          <p:nvPr/>
        </p:nvSpPr>
        <p:spPr>
          <a:xfrm>
            <a:off x="1116000" y="2276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8 Передача мяча двумя руками сверху (а) ; положение кистей рук и расположение пальцев на мяче в момент выполнения передачи (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000240" cy="2600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5508720" y="4941720"/>
            <a:ext cx="33112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10 Другие виды  выполненная в различных направлениях   передач в волейбо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двумя руками в прыжк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одной рукой сверху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1876680" cy="20955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6"/>
          <p:cNvSpPr/>
          <p:nvPr/>
        </p:nvSpPr>
        <p:spPr>
          <a:xfrm>
            <a:off x="1476360" y="573264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9 Передача двумя руками сверху,                                       выполненная в различных направления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перед ; б) над собой ; в) назад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963720" y="-304920"/>
            <a:ext cx="7692840" cy="1938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971280" y="1483920"/>
            <a:ext cx="7715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о» обычный высокий пас во 2-ю и 4-ю зо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» пасуется в 3-ю зону, на высоту метра от сетк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 сзади» пасуется также как и метр, только связующий дает пас себе за спи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» пасуется в 3-ю зону. В момент, когда мяча касается связующий, нападающий уже должен быть в воздухе с вытянутой рукой готовой к удару, а связующий должен быстрым и коротким пасом вложить мяч в руку нападающего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 сзади» пасуется как обычный взлет, только за голову и нападающий бежит чуть с опозданием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душка» пасуется как взлет, но только в разрыв блока. Например, между третей и четвертой зоно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стопка» играется как взлет в 3-й зоне, но мяч не швыряется с силой в руку нападающему, а подвешивается над сеткой на высоте 20-50 см.Нападающий должен бежать с задержкой, по сравнению с взлетом. Но такие удары легче блокировать, так как блокирующим есть время, чтобы успеть поставить блок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рел» пасуется на антенну, ниже и быстрее чем «просто», в момент, когда связующий касается мяча, нападающий должен быть в завершающем этапе разбега и готовым к прыжк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арита» пасуется как «метр»,но отличие в том, что нападающий имитирует разбег на взлет и останавливается, блок поднимается, в тот момент, когда блок опускается, прыгает и бьет нападающи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036800" y="133200"/>
            <a:ext cx="7461000" cy="860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7128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ющие удары.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атаки, состоящий в перебивании одной рукой мяча, находящегося выше верхнего края сетки, на сторону противника,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нападающим ударом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сть полета мяча зависит от удара: чем сильнее удар, тем больше скорость, следовательно, его труднее принять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технике выполнения, различают прямой нападающий удар и боковой. И тот и другой могут быть выполнены в прыжке с места или с разбега. По скорости полета мяча различают: 1) Силовые(скоростные); 2) Кистевые(ускоренные); 3) Обманные(медленные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й нападающий удар. Длина разбега колеблется от 2 до 4 м и состоит из 2 – 4 шагов. Первый шаг короткий, выполняется мягко, как бы крадучись, последний шаг длинный, выполняется в виде скачка. Прямая нога выносится вперед и ставится на пятку, в след за этим быстро приставляется другая нога. Туловище слегка отклоняется назад, руки внизу –сзади. Вместе с перекатом на носки ноги выпрямляются и выполняется прыжок, бьющая рука взмахом по кратчайшему пути поднимается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256000" cy="521028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2"/>
          <p:cNvSpPr/>
          <p:nvPr/>
        </p:nvSpPr>
        <p:spPr>
          <a:xfrm>
            <a:off x="6227640" y="692280"/>
            <a:ext cx="29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ыжке плечи и бьющая рука отводится назад, туловище прогибается(рис.12). С этого момента начинается выполнение собственно нападающего удара. Первое движении – выведение вперед локтя бьющей руки. Бьющая рука, разгибаясь в локтевом суставе, начинает движение вперед и акцентированным движением кистью ударят по мячу. Пальцы кисти в момент удара плотно сжаты, мяч находится несколько впереди игро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емление после удара выполняются на согнутые ноги с опущенными руками, что дает игроку возможность быстро начать перемещение в нужном направлении или выполнить повторный прыжок для блокировк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963720" y="66600"/>
            <a:ext cx="7521480" cy="854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553440" cy="30384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1187280" y="4869000"/>
            <a:ext cx="66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осле широкого через сторону замаха бьющей рукой. Изменяя движения руки и кисти, можно выполнять также нападающие удары с переводом мяча вправо и вле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учащихся с происхождением волейбола и его историей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с историей волейбола в СССР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ть представление о технике волейбол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ть интерес к игре в волейбол через обучающее видео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963720" y="-36360"/>
            <a:ext cx="7437240" cy="957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5724360" y="1557360"/>
            <a:ext cx="320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 бывает с поворотом туловища и без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ы с поворотом туловища выполняются также как и прямой, но с незначительным поворотом туловища в сторону удара и удар по мячу наносится сверху – сзади - справа. При переводе вправо туловище начинает моментальный поворот после отрыва от земли, далее его порядком при наклоняют влево, а  плечо отводят от се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при ударе без поворота туловища основную роль играет удар по мячу ки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388280" cy="860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защиты, с помощь которого преграждают путь мячу после нападающего удара со стороны противника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блоко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 действие защитников –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ожения игрока (рис.20),готовящегося к блокированию, приставным шагом, скачком или бегом защитник перемещается к предполагаемому месту блокирования. Последний шаг перед выпрыгиванием выполняется как напрыгивающий, стопорящий (по типу разбега перед нападающим ударом); другая нога приставляется на ширину плеч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ледует выпрыгивание. Движение начинают ноги, затем продолжают руки. При приближении мяча руки выпрямляются и ставятся на пути его движения: пальцы рук разведены и оптимально напряжены, кисти слегка согнуты, чтоб мяч направить вперед – вниз на площадку противни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2333520" cy="19242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"/>
          <p:cNvSpPr/>
          <p:nvPr/>
        </p:nvSpPr>
        <p:spPr>
          <a:xfrm>
            <a:off x="5364000" y="90792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0 Стойка защитника перед блокирова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6372360" y="2133720"/>
            <a:ext cx="252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й блок называют неподвижным, в отличие от подвижного, при котором руки над сеткой перемещаются вправо или влево, в зависимости от полета мяча и задуманного отскока. Важно, чтобы при блокировании мяч не проскочил между ладонями блокирующего, а также между его руками и сеткой (рис.а). Против сильного нападающего игрока применяется групповой блок(рис.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2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963720" y="208080"/>
            <a:ext cx="7461000" cy="858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защит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щите применяются те же стойки, что и в нападении, но чаще используются низкие стойки. Перемещение в защите так же мало чем отличаются от перемещений в нападении – ходьба, бег, выпады и прыжки, однако выполняются они, как правило, стремительно, с резкими остановками, с быстрой сменой направлений, часто переходит в прыжок или нападение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ротиводействиям относятся приемы мяча и блокирование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– технический прием защиты, позволяющий оставить мяч в игре после нападающих действий соперников. Основным в современном волейболе является прием мяча двумя руками снизу(рис.16). Он является наиболее надежным против возросшей мощи нападения, против сильных ударов и планирующих подач. При этом способе приема мяча туловище вертикально или слегка наклонено вперед, прямые руки опущены вперед – вниз, локти сближены, кисти вместе. Мяч принимается на предплечья ближе к кистям рук ( говорят – «на манжет»рис.16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057400" cy="13813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313200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6. Прием и передача мя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умя руками сниз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1547640" y="39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гка напряженные прямые руки не быстрым движением в плечевых суставах поднимаются на встречу мячу; Но и в момент приема  выпрямляются и туловище поднимается. Полезно после приема мяча выполнять (особенно начинающим волейболистам) некоторое сопровождение мяча руками: это позволит лучше усвоить движение; приняв мяч, точно адресовать его партнер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971640" y="981000"/>
            <a:ext cx="792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двумя руками сверху применяется против не сильно летящих мячей, а также в случаях, когда другой способ приема не рационален. Так, игровая ситуация часто заставляет выполнять прием и направленную передачу с последующим падением на спину (рис.17 и рис.18). В других же случаях прием двумя руками сверху аналогичен одноименной передач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4229280" cy="199080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6"/>
          <p:cNvSpPr/>
          <p:nvPr/>
        </p:nvSpPr>
        <p:spPr>
          <a:xfrm>
            <a:off x="5796000" y="2781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7. Прием мяча с падением и перекатом на сп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1763640" y="4653000"/>
            <a:ext cx="3629160" cy="167652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8"/>
          <p:cNvSpPr/>
          <p:nvPr/>
        </p:nvSpPr>
        <p:spPr>
          <a:xfrm>
            <a:off x="5651640" y="494172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8. Прием мяча с выпадом и падением(перекатом на спи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971640" y="981000"/>
            <a:ext cx="727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одной рукой снизу считается не точным и применяется сравнительно редко, но, если мяч летит далеко от игрока и другим способом его принять невозможно, волейболист вынужден использовать этот прием. Прямая рука с напряженно сжатыми пальцами преграждает путь мячу ; ударное движение выполняется ладонью, кулаком, предплечьем или плечом. Ног в этих движениях, как правило, не участву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й рукой снизу в падении (рис.19) мяч принимается после разбега и прыжка. Прежде чем освоить этот способ приема, следует научиться правильному приземлению. После приема мяча руки вытягиваются вперед и разводятся в стороны несколько шире плеч, ставятся на пол и медленно сгибаются в локтях, амортизируя силу па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476600" cy="173376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3"/>
          <p:cNvSpPr/>
          <p:nvPr/>
        </p:nvSpPr>
        <p:spPr>
          <a:xfrm>
            <a:off x="1042920" y="55897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к приземляется на грудь и делает перекат на живот и бедра. Освоив элемент на гимнастических матах и на полу, его можно безопасно применять на игровых площад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1785960" y="4998960"/>
            <a:ext cx="6102360" cy="451080"/>
          </a:xfrm>
          <a:prstGeom prst="rect">
            <a:avLst/>
          </a:prstGeom>
          <a:ln w="0">
            <a:noFill/>
          </a:ln>
        </p:spPr>
      </p:pic>
      <p:grpSp>
        <p:nvGrpSpPr>
          <p:cNvPr id="476" name="Рисунок 2"/>
          <p:cNvGrpSpPr/>
          <p:nvPr/>
        </p:nvGrpSpPr>
        <p:grpSpPr>
          <a:xfrm>
            <a:off x="-12600" y="201600"/>
            <a:ext cx="8559720" cy="4370400"/>
            <a:chOff x="-12600" y="201600"/>
            <a:chExt cx="8559720" cy="4370400"/>
          </a:xfrm>
        </p:grpSpPr>
        <p:pic>
          <p:nvPicPr>
            <p:cNvPr id="477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-12600" y="201600"/>
              <a:ext cx="8559720" cy="43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44360" y="358920"/>
              <a:ext cx="82454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2071800" y="1000080"/>
            <a:ext cx="5081400" cy="3740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Users\ЛИДИЯ\Desktop\vollybal_12.gif"/>
          <p:cNvPicPr/>
          <p:nvPr/>
        </p:nvPicPr>
        <p:blipFill>
          <a:blip r:embed="rId4"/>
          <a:stretch/>
        </p:blipFill>
        <p:spPr>
          <a:xfrm>
            <a:off x="4211640" y="5516640"/>
            <a:ext cx="942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963720" y="901800"/>
            <a:ext cx="7796160" cy="4460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1262880" y="22050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youtub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1258920" y="2637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linkietheo.n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1258920" y="306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2"/>
              </a:rPr>
              <a:t>3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3"/>
              </a:rPr>
              <a:t>. http</a:t>
            </a: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5"/>
              </a:rPr>
              <a:t>plus-msk.ru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тивный мар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игровой вид спорта, пользующийся немалой популярностью. Занятия этим видом спорта способствуют развитию многих физических качеств: силы рук и плечевого пояса, прыгучести, быстроты реакции, координации движений в пространстве и во времен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явился волейбол в США в 1895 году. Основоположником этой игры  был пастор Уильям Морган - преподаватель колледжа, предложивший назвать игру «волейбол», что в переводе с английского  «летящий мяч» (от «volley» - отбивать на лету и «ball» - мяч). В 1900 году появились первые правила волейбол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падной Европе стал очень популярным пляжный волейбол (2 х 2), в последние годы по этому красивейшему виду спорта проходят чемпионаты Европы и мира, и он включен в программу Олимпийских игр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, возникнув в 1895 году, в США, быстро стал популярным в разных странах, особенно на европейском континенте. Первоначально это была игра развлечение. Мяч подолгу находился в воздухе, т.к. большое количество игроков в команде    (8 – 10 человек) и слабая техника нападения подолгу не позволяли мячу упасть на площадку. Однако постепенно стали появляться способы перебивания мяча через сетку, затруднявшие защитные действия соперников. Это привело к выделению основных технических приемов: подача, передача, нападающий удар, блок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87280" y="119700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ялась и тактика игры. Если первоначально вся тактика сводилась к равновесной расстановке игроков на площадке, то усложнение игры сделало необходимым согласованные групповые и командные действия. Волейбол становился коллективной игр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947 году была создана Международная федерация волейбола(ФИВБ). Развитие волейбола пошло ускоренными темпами. Стали проводиться первенства Европы и мира, разыгрывается Кубок европейских чемпионов. В 1964 г. волейбол включен в программу Олимпийских игр. В настоящее время членами ФИВБ являются более 110 стран. Весомый вклад в становление мирового волейбола внес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ЛИДИЯ\Desktop\vollybal_20.gif"/>
          <p:cNvPicPr/>
          <p:nvPr/>
        </p:nvPicPr>
        <p:blipFill>
          <a:blip r:embed="rId1"/>
          <a:stretch/>
        </p:blipFill>
        <p:spPr>
          <a:xfrm>
            <a:off x="3564000" y="4221000"/>
            <a:ext cx="27813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420840"/>
            <a:ext cx="8491680" cy="1481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нас в стране волейбол появился в 1920 – 1921 гг. в Казани, Нижнем Новгороде и в других городах Поволжья. С 1925 г. он активно развивался на Украине, на Дальнем Востоке. Активным популяризатором спортивного волейбола выступило созданное в 1923 г. по инициативе Ф. Э. Дзержинского физкультурно -спортивное общество « Динамо ». В 1925 г. в Москве были утверждены первые в нашей стране официальные правила по волейболу, по которым вскоре (в 1926 г. ) были проведены первые соревнования. В этом же году была проведена первая междугородная встреча между волейболистами Москвы и Харькова. А уже в 1928 г. на I Всесоюзной спартакиаде в Москве впервые был разыгран всесоюзный чемпионат по волейболу среди мужских и женских команд. Встречи на Спартакиаде способствовали единому толкованию правил соревнований, убедили в необходимости коллективных командных действий. После этого волейбол повсеместно стал массовым видом спорт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чению молодежи к занятиям волейболом способствовал введенный в 1931 – 1932 гг. физкультурный комплекс ГТО, одной из задач которого было улучшение общей физической подготовленности занимающихся спортом. На этой базе повышалось мастерство волейболистов, расширялись технические возможности игроков и команд. Волейбол становится в полном смысле слова спортивной игрой. Его включали в программы многих крупных соревнований. В 1932 г.была создана Всесоюзная секция волейбола, а с 1933 г. стали регулярно проводиться первенства Советского Союз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е международные встречи наши волейболисты провели в 1935 г.с командами Афганистана. В двух играх победи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1042920" y="907920"/>
            <a:ext cx="78501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коре уже стали проводиться чемпионаты мира по волейболу. Мужские ЧМ с 1949, а женские с 1952 года. Интересно то, что уже на первом чемпионате мира, сборная СССР заняла первое место, а женская сборная в том же году первое место в Чемпионате Европы. С того времени наши спортсмены и до сих пор в рядах лучших на мировой аре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е в 1964 году волейбол был в включен в программу Олимпийских игр, проходивших в Токио. На этих соревнованиях золото взяли волейболисты СССР, и волейболистки Япо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се время прохождения Олимпийских игр(с того времени как волейбол вошел в программу Олимпийских игр), наши волейболисты и волейболистки семь раз становились олимпийскими чемпиона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ярность волейбола в мире продолжала расти. Проводились первенства стран и континентов. Встал вопрос об включении его в программу летних Олимпийских игр. в 1957 г. сессия Международного олимпийского комитета приняла решение признать волейбол олимпийским видом спорта. На прошедших после этого олимпиадах советские волейболисты и волейболистки по три раза становились чемпионами. Победили наши спортсмены и на ХХI I Олимпийских игр в Моск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да в год росло количество международных соревнований и турниров. С 1965 г. установилась такая их последовательность проведения по годам: волейбольный турнир на Олимпийских играх, в следующем году – кубок мира, затем – первенство мира, затем –первенство Европы, и наконец – вновь Олимпийские иг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822240" y="85680"/>
            <a:ext cx="7920000" cy="914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2" descr="C:\Users\ЛИДИЯ\Desktop\Новая папка (4)\15.jpg"/>
          <p:cNvPicPr/>
          <p:nvPr/>
        </p:nvPicPr>
        <p:blipFill>
          <a:blip r:embed="rId2"/>
          <a:stretch/>
        </p:blipFill>
        <p:spPr>
          <a:xfrm>
            <a:off x="1042920" y="98100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963720" y="-792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игры в волейболе подразделяется  на технику нападения и технику защиты. Как в нападении, так и в защите выделяют : стойки и перемещения, технику владения мяч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игры волейболист перемещается по площадке. Целью этих перемещений является выбор наилучшего места для приема мяча, для выполнения других технических приемов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ксимальная готовность к перемещениям – вот что самое главное в стартовых стойках игро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различаются по степени сгибания ног: основная, высокая, низкая. Основная стойка (рис.1): ноги на одном уровне и слегка согнуты, стопы параллельны на расстоянии 20 – 30 см друг от друга, туловище не сильно наклонено вперед, руки согнуты перед собой. Приняв определенную стойку, одни игроки стоят неподвижно ( статическая стойка ), другие двигаются на месте переступанием или подскоками ( динамическая    стойка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мещения по площадке выполняются ходьбой, бегом или скачк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876400" cy="2428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64832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ьба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грок ходит пригибным шагом, вынося ногу вперед слегка согнутой.Это позволяет сохранять стойку и быстро принимать необходимые исходные положения для выполнения тактических приемов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г 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ые перемещения по площадке и резкие изменения направлений выполняются бегом на слегка согнутых ногах. Последний беговой шаг наиболее длинный, так как после него следует стопорящее движение ( остановка, смена направления, выпрыгивание для нападающего удара или блока 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чок 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ычно выполняется после шага или бега, когда игровая ситуация  заставляет предельно быстро занять новую позицию для выполнения технического приема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971640" y="364500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волейболис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сновная стой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тоика в момент вы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  двумя руками сверх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4:51Z</dcterms:created>
  <dc:creator>ЛИДИЯ</dc:creator>
  <dc:description/>
  <dc:language>en-US</dc:language>
  <cp:lastModifiedBy>1111</cp:lastModifiedBy>
  <dcterms:modified xsi:type="dcterms:W3CDTF">2014-09-12T04:11:56Z</dcterms:modified>
  <cp:revision>39</cp:revision>
  <dc:subject/>
  <dc:title>Слайд 1</dc:title>
</cp:coreProperties>
</file>