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8.gif" ContentType="image/gif"/>
  <Override PartName="/ppt/media/image48.png" ContentType="image/png"/>
  <Override PartName="/ppt/media/image13.png" ContentType="image/png"/>
  <Override PartName="/ppt/media/image10.gif" ContentType="image/gif"/>
  <Override PartName="/ppt/media/image51.png" ContentType="image/png"/>
  <Override PartName="/ppt/media/image11.gif" ContentType="image/gif"/>
  <Override PartName="/ppt/media/image14.png" ContentType="image/png"/>
  <Override PartName="/ppt/media/image31.png" ContentType="image/png"/>
  <Override PartName="/ppt/media/image30.png" ContentType="image/png"/>
  <Override PartName="/ppt/media/image9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40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104-AE4A-4650-BB2B-332B7C43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903-E9F6-4149-83BF-705215E9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72A1D-0280-4AFC-A336-688D34D5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04E5E-78CE-42D7-BB08-2C6454C8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3852B-6FF3-4573-B863-1E19DDD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F8FC3-D8B8-4D9C-AA31-2C04A17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B9A71-4243-4777-A3CA-4F0E5AD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268BE-946C-4BDC-B264-2DE3127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D17C9-3CD9-415B-8138-15543B7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B7B4B-3DF0-4870-906D-E7DCE587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5C086-BABE-482A-AF4D-8DA08F79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852-6404-418E-82C4-DEDBD028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DFA-3C1D-4053-BCB6-1FD6F0C7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826D-2367-4F41-BF9A-2177D7FB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9436F-464B-4DCC-A7DE-5F78910F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841EB-BDA4-434E-9D5C-4233969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08F1-60FE-44E5-A157-933C1535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BCA7-073C-4D7C-B6F8-50BEC6E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3B3C-E5A6-4CB7-B387-D6D0EF53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E3F0-DC2F-4D76-8F56-C03DC76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45D-6F7A-40C5-843B-3633ACE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3AF44-4007-403C-8F4C-B82DC71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005C3-E7D8-47D1-938C-E3320F9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80BA-1D53-48E0-B54E-49E9AEA6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FCD5C-8A2C-431F-901C-09E8B802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7839-DDB9-479F-9B56-3C15C9A3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40CD-DCE0-4AD0-B8B1-088E8E5B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8DBE-818B-49FA-8A28-7E0DB92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3F75-7D71-46D1-AA69-1359C7C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EB2A-6B5A-45FE-9DAE-36551B4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5EDA-CAD1-405F-B2FF-193C1DF7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B10-A93C-4E04-89CF-E624E83E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274E-029C-4AA1-B041-D65CB36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8F9A-3AD3-4B72-86FF-9E49BA4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E8EF-D3AD-41EB-B097-B4D4FB3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9ED7-8283-4685-A2C8-48BF648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D832-5F40-46EC-96FE-C625BED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E869-5158-491B-824C-CCDFBFC5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EC548-5623-4F30-BECC-B102EC98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50EE5-1E92-4914-9BF9-CB1A562F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6FCFC-5085-4551-A3C6-3DB08FF9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E78C0-EBF8-43B4-82C1-CAF084B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D8C-FD3A-47EF-A539-6D15E37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D4095-A1DD-47E2-A954-E55CBBF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00041-DAF7-4F26-8526-B3E5968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D7244-3296-47E0-A2EB-3148392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A8449-4BAB-41E9-A801-93AE957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6D30E-8FD1-4C94-B85D-9397101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6605E-CC16-4C04-AFE9-8F15582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DEB64-E8BE-45B9-864A-089B1DE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C4FAE-87AD-4EB5-A220-1C0D0C2B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1C0CA-0120-49AD-81EA-69A540C1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6E272-A524-4BE2-A022-15AE8CDE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29E-886A-4B63-AB59-792C6DF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9734-5617-4F0F-A787-F5E65743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7EC1-A985-489C-88A8-BCAFA35A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ED8C-EAF6-4FEF-9A88-90F7907D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3EB9F-253B-4DC7-A7A8-C8955E08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2310-C054-455D-9B4C-3D227980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5071-D7F7-498B-B677-12A41D6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338C-833E-4A8D-B66E-B643C13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3C01-F21E-4A62-BA14-1500913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A024-24DC-4FF1-9C77-D9979D9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473F-62A8-49E4-9CBA-58E088BF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8B2-EEFA-41B8-81EA-D534993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50039-D617-48C2-98BB-1F0E219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E13BD-F1B4-46C2-B0A0-97FA7906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3C53-269F-431C-A3A3-CB1A228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9C71-66BA-4958-8418-4F670C1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F3DD-0803-4C19-8729-5AFE9C2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7F64-029D-42F5-95B9-F0D39105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BF30-3E61-4893-9481-BC9F8C9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56BD4-B2B7-49F4-82A0-18E2371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7BC7-4420-4967-8A9B-C804F33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8FD9-9EFB-410C-9475-23AA53D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E7F-5AA0-462F-A8AB-E6C8C37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C9E7-8FE9-4DE3-BAF2-2BB8823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750E6-397D-4042-82A6-3935C892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8D9A-A329-4E90-A631-81CC5451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E29F-0E70-41A1-A138-EABE4E9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E241-B241-4C70-9923-891FC2C5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A4F2-EE91-4F76-ACE4-70ED2370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F54D-3D5D-48CF-B3CF-850EB4AA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BF75-049E-4780-8A72-968508E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EF41-C7DA-4FEB-A42C-D2E820C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D03C-5BE1-4EB9-B5D0-F3FB39EB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6A5-9039-4F0F-8C07-6A4C8BE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3ADE-F213-41ED-AB58-6FE2BE0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E91B-EB6D-4F10-B566-3F9DC45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2CD9-C0BD-43C8-9B3E-5311862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6851F-448F-4311-81CD-936AE9D1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08F8-6239-4FA7-9B26-96246409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A74BB-A336-4414-A9C2-7F0ABB22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24B6D-51F1-4338-A05F-2AC99DCA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5C934-A0ED-47AE-879C-893DD5BD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8EE68-4DB6-4334-8C5B-63F4DAA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38FC8-828E-4D68-9136-FFAF651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FEF-8BC5-48CE-83F3-B5F260C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C88B2-7208-4554-AEF2-4C9C2C3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B03EA-AF5F-4AC7-94DE-4BE94F3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6865E-1E0A-44FB-B6E2-F99D31C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F6301-E2BD-477E-902D-6B20FE5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2DAE4-3EDF-4F3F-B433-6F9BBEB3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92B01-73E7-4D17-972B-F319D357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F8554-B93F-4A14-B8D9-19469AA0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6C790-EAA8-4040-9ACF-EB08B2D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91F80-DEAD-47E2-A460-A3267CFB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A4186-2283-4959-A638-D4DA11B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338-C497-4E14-866E-053FD15FCA3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145E-424E-486A-9AE7-5E55364A8D1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9BA-B277-4696-8CDA-1DA449BF143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E178-7B6C-4627-AFF2-6C65ADA481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D23C-05D5-4ED2-A9AD-D0D34B9E232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4112-C5E6-46FA-8C45-2BEC76E1859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36EE-C59A-4646-AFEA-DF3840DFCD5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BAC-F8C6-483E-A340-B52195537FC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C14-679E-484A-BE9E-7C9CECCC73D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plus-msk.ru/" TargetMode="External"/><Relationship Id="rId3" Type="http://schemas.openxmlformats.org/officeDocument/2006/relationships/hyperlink" Target="http://plus-msk.ru/" TargetMode="External"/><Relationship Id="rId4" Type="http://schemas.openxmlformats.org/officeDocument/2006/relationships/hyperlink" Target="http://plus-msk.ru/" TargetMode="External"/><Relationship Id="rId5" Type="http://schemas.openxmlformats.org/officeDocument/2006/relationships/hyperlink" Target="http://plus-msk.ru/" TargetMode="External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749160" y="2560680"/>
            <a:ext cx="8242560" cy="1498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627280" y="436536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: Брычка Н.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 «СОШ №23»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ЛИДИЯ\Desktop\vollybal_01.gif"/>
          <p:cNvPicPr/>
          <p:nvPr/>
        </p:nvPicPr>
        <p:blipFill>
          <a:blip r:embed="rId3"/>
          <a:stretch/>
        </p:blipFill>
        <p:spPr>
          <a:xfrm>
            <a:off x="539640" y="1700280"/>
            <a:ext cx="1171800" cy="1904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Users\ЛИДИЯ\Desktop\vollybal_22.gif"/>
          <p:cNvPicPr/>
          <p:nvPr/>
        </p:nvPicPr>
        <p:blipFill>
          <a:blip r:embed="rId4"/>
          <a:stretch/>
        </p:blipFill>
        <p:spPr>
          <a:xfrm>
            <a:off x="7596360" y="1916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C:\Users\ЛИДИЯ\Desktop\009.gif"/>
          <p:cNvPicPr/>
          <p:nvPr/>
        </p:nvPicPr>
        <p:blipFill>
          <a:blip r:embed="rId5"/>
          <a:stretch/>
        </p:blipFill>
        <p:spPr>
          <a:xfrm>
            <a:off x="4500720" y="189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C:\Users\ЛИДИЯ\Desktop\vollybal_20.gif"/>
          <p:cNvPicPr/>
          <p:nvPr/>
        </p:nvPicPr>
        <p:blipFill>
          <a:blip r:embed="rId6"/>
          <a:stretch/>
        </p:blipFill>
        <p:spPr>
          <a:xfrm>
            <a:off x="3359160" y="765000"/>
            <a:ext cx="2554200" cy="1592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C:\Users\ЛИДИЯ\Desktop\vollybal_11.gif"/>
          <p:cNvPicPr/>
          <p:nvPr/>
        </p:nvPicPr>
        <p:blipFill>
          <a:blip r:embed="rId7"/>
          <a:stretch/>
        </p:blipFill>
        <p:spPr>
          <a:xfrm>
            <a:off x="1042920" y="4437000"/>
            <a:ext cx="857160" cy="148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C:\Users\ЛИДИЯ\Desktop\vollybal_23.gif"/>
          <p:cNvPicPr/>
          <p:nvPr/>
        </p:nvPicPr>
        <p:blipFill>
          <a:blip r:embed="rId8"/>
          <a:stretch/>
        </p:blipFill>
        <p:spPr>
          <a:xfrm>
            <a:off x="6858000" y="5429160"/>
            <a:ext cx="1784520" cy="890640"/>
          </a:xfrm>
          <a:prstGeom prst="rect">
            <a:avLst/>
          </a:prstGeom>
          <a:ln w="0">
            <a:noFill/>
          </a:ln>
        </p:spPr>
      </p:pic>
      <p:pic>
        <p:nvPicPr>
          <p:cNvPr id="402" name="спортивный марш музыка.mp3" descr=""/>
          <p:cNvPicPr/>
          <p:nvPr/>
        </p:nvPicPr>
        <p:blipFill>
          <a:blip r:embed="rId9"/>
          <a:stretch/>
        </p:blipFill>
        <p:spPr>
          <a:xfrm>
            <a:off x="88390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100640" cy="860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которым мяч вводится в игру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одачей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ми деталями техники для всех видов подач являются устойчивая стойка, удобная для удара, подбрасывание мяча, удар по мячу, переход волейболиста к последующим игровым действия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чают несколько разновидностей подач : нижняя прямая (рис.2), нижняя боковая (рис.3), верхняя прямая (рис.4) и верхняя боковая (рис.5). Так называемая планирующая  подача (рис.6) является разновидностью верхней подачи. Особенность « планирующей » подачи заключается в том, что удар по мячу наносится рукой закрепленной в лучезапястном суставе, без всякого сопровождения (рис.7). В результате этого мяч не вращается, а планирует, не имея траектории полета. Прием таких мячей затруднен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же часто применяется подача в прыжке (рис.8). В подаче в прыжке главное - это правильно подбросить мяч, если не правильно подбросить, то вряд ли вы вообще подадите. Мяч необходимо подбрасывать перед собой и вперед, на расстояние необходимое для разбега. При этом высота и длина подброса определяется индивидуально, исходя из простого удобств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8160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1116000" y="32130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 Нижняя прямая по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ид спереди и сбоку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71800" cy="1819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12680" y="3141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3 Ниж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409840" cy="19717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6"/>
          <p:cNvSpPr/>
          <p:nvPr/>
        </p:nvSpPr>
        <p:spPr>
          <a:xfrm>
            <a:off x="1704600" y="602136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4 Верхняя прямая подача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781360" cy="22575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8"/>
          <p:cNvSpPr/>
          <p:nvPr/>
        </p:nvSpPr>
        <p:spPr>
          <a:xfrm>
            <a:off x="5439960" y="602136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5 Верх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448160" cy="19717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2"/>
          <p:cNvSpPr/>
          <p:nvPr/>
        </p:nvSpPr>
        <p:spPr>
          <a:xfrm>
            <a:off x="971640" y="3068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6 Вариант верхней боковой подачи, так называемая планирующая подач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362320" cy="12952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5580000" y="263700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7 Способы ударов по мячу  при выполнении планирующих пода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581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881840" cy="860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971280" y="98100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с помощью которого мяч направляется партнеру для продолжения игры или переправляется на сторону противник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ередачей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направлению относительно передающего различают передачи вперед, над собой и назад. По длине траектории различают : длинные передачи – через зону ; короткие  - в соседнюю зону ; укороченные – в свою зону. По высоте различают передачи низкие (до 1 м над сеткой), средние (свыше 2 м), а по расстоянию от сетки – близкие (менее 0,5 м) и отдаленные ( более 0,5 м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ой является передача двумя руками сверху (рис.8,а). Ее главные преимущества заключаются в надежности и точности. При выполнении этой передачи в исходном положении ноги игрока согнуты в коленях, руки вынесены перед лицом так, что большие пальцы находятся примерно на уровне бровей. Кисти рук слегка повернуты внутрь, концы пальцев образуют овал в форме ковша (рис.8,б). Пальцы оптимально напряж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1042920" y="981000"/>
            <a:ext cx="748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ближении мяча встречное движение к нему начинают ноги – они выпрямляются в коленных суставах и поднимают тело игрока. Вслед за этим в движение включаются руки -  они поднимаются и выпрямляются на встречу мячу. Основную амортизирующую нагрузку принимают на себя большие пальцы. Указательные (главным образом) и средние пальцы являются ударными. Безымянные пальцы и мизинцы удерживают мяч  с боков, не захватывая его. Эти движения ног, туловища и рук, выполненные слитно, обеспечивают короткое касание мяча упругими пальцами, позволяют направить его в нужную точку по задуманной траект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ите позы и движения волейболиста при передачах двумя руками сверху,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ите внимание на положение ног, туловища  рук в основной стойке (рис.8,а); расположение пальцев рук на мяче (рис.8,б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я волейболиста при передачах мяча вперед, над собой и назад (рис.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виды передач применяются реже : двумя руками сверху в прыжке (рис.10,а), одной рукой сверху(рис.10,б),двумя руками снизу(рис.16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овременной игре передача –важный элемент организации нападения, связывающий защиту с атакой. Задача передающего игрока в связи с этим – создавать партнерам наилучшие условия для атаки нападающими ударами. Каждый волейболист должен овладеть всем арсеналом быстрых и точных передач, уметь чередовать ( менять ) их по длине, высоте, направлению, своевременно выполнять отвлекающие действ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4286160" cy="19717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2"/>
          <p:cNvSpPr/>
          <p:nvPr/>
        </p:nvSpPr>
        <p:spPr>
          <a:xfrm>
            <a:off x="1116000" y="2276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8 Передача мяча двумя руками сверху (а) ; положение кистей рук и расположение пальцев на мяче в момент выполнения передачи (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000240" cy="2600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5508720" y="4941720"/>
            <a:ext cx="33112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10 Другие виды  выполненная в различных направлениях   передач в волейбо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двумя руками в прыжк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одной рукой сверху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1876680" cy="20955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6"/>
          <p:cNvSpPr/>
          <p:nvPr/>
        </p:nvSpPr>
        <p:spPr>
          <a:xfrm>
            <a:off x="1476360" y="573264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9 Передача двумя руками сверху,                                       выполненная в различных направления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перед ; б) над собой ; в) назад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963720" y="-304920"/>
            <a:ext cx="7692840" cy="1938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971280" y="1483920"/>
            <a:ext cx="7715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о» обычный высокий пас во 2-ю и 4-ю зо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» пасуется в 3-ю зону, на высоту метра от сетк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 сзади» пасуется также как и метр, только связующий дает пас себе за спи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» пасуется в 3-ю зону. В момент, когда мяча касается связующий, нападающий уже должен быть в воздухе с вытянутой рукой готовой к удару, а связующий должен быстрым и коротким пасом вложить мяч в руку нападающего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 сзади» пасуется как обычный взлет, только за голову и нападающий бежит чуть с опозданием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душка» пасуется как взлет, но только в разрыв блока. Например, между третей и четвертой зоно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стопка» играется как взлет в 3-й зоне, но мяч не швыряется с силой в руку нападающему, а подвешивается над сеткой на высоте 20-50 см.Нападающий должен бежать с задержкой, по сравнению с взлетом. Но такие удары легче блокировать, так как блокирующим есть время, чтобы успеть поставить блок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рел» пасуется на антенну, ниже и быстрее чем «просто», в момент, когда связующий касается мяча, нападающий должен быть в завершающем этапе разбега и готовым к прыжк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арита» пасуется как «метр»,но отличие в том, что нападающий имитирует разбег на взлет и останавливается, блок поднимается, в тот момент, когда блок опускается, прыгает и бьет нападающи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036800" y="133200"/>
            <a:ext cx="7461000" cy="860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7128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ющие удары.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атаки, состоящий в перебивании одной рукой мяча, находящегося выше верхнего края сетки, на сторону противника,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нападающим ударом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сть полета мяча зависит от удара: чем сильнее удар, тем больше скорость, следовательно, его труднее принять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технике выполнения, различают прямой нападающий удар и боковой. И тот и другой могут быть выполнены в прыжке с места или с разбега. По скорости полета мяча различают: 1) Силовые(скоростные); 2) Кистевые(ускоренные); 3) Обманные(медленные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й нападающий удар. Длина разбега колеблется от 2 до 4 м и состоит из 2 – 4 шагов. Первый шаг короткий, выполняется мягко, как бы крадучись, последний шаг длинный, выполняется в виде скачка. Прямая нога выносится вперед и ставится на пятку, в след за этим быстро приставляется другая нога. Туловище слегка отклоняется назад, руки внизу –сзади. Вместе с перекатом на носки ноги выпрямляются и выполняется прыжок, бьющая рука взмахом по кратчайшему пути поднимается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256000" cy="521028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2"/>
          <p:cNvSpPr/>
          <p:nvPr/>
        </p:nvSpPr>
        <p:spPr>
          <a:xfrm>
            <a:off x="6227640" y="692280"/>
            <a:ext cx="29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ыжке плечи и бьющая рука отводится назад, туловище прогибается(рис.12). С этого момента начинается выполнение собственно нападающего удара. Первое движении – выведение вперед локтя бьющей руки. Бьющая рука, разгибаясь в локтевом суставе, начинает движение вперед и акцентированным движением кистью ударят по мячу. Пальцы кисти в момент удара плотно сжаты, мяч находится несколько впереди игро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емление после удара выполняются на согнутые ноги с опущенными руками, что дает игроку возможность быстро начать перемещение в нужном направлении или выполнить повторный прыжок для блокировк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963720" y="66600"/>
            <a:ext cx="7521480" cy="854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553440" cy="30384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1187280" y="4869000"/>
            <a:ext cx="66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осле широкого через сторону замаха бьющей рукой. Изменяя движения руки и кисти, можно выполнять также нападающие удары с переводом мяча вправо и вле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учащихся с происхождением волейбола и его историей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с историей волейбола в СССР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ть представление о технике волейбол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ть интерес к игре в волейбол через обучающее видео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963720" y="-36360"/>
            <a:ext cx="7437240" cy="957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5724360" y="1557360"/>
            <a:ext cx="320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 бывает с поворотом туловища и без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ы с поворотом туловища выполняются также как и прямой, но с незначительным поворотом туловища в сторону удара и удар по мячу наносится сверху – сзади - справа. При переводе вправо туловище начинает моментальный поворот после отрыва от земли, далее его порядком при наклоняют влево, а  плечо отводят от се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при ударе без поворота туловища основную роль играет удар по мячу ки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388280" cy="860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защиты, с помощь которого преграждают путь мячу после нападающего удара со стороны противника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блоко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 действие защитников –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ожения игрока (рис.20),готовящегося к блокированию, приставным шагом, скачком или бегом защитник перемещается к предполагаемому месту блокирования. Последний шаг перед выпрыгиванием выполняется как напрыгивающий, стопорящий (по типу разбега перед нападающим ударом); другая нога приставляется на ширину плеч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ледует выпрыгивание. Движение начинают ноги, затем продолжают руки. При приближении мяча руки выпрямляются и ставятся на пути его движения: пальцы рук разведены и оптимально напряжены, кисти слегка согнуты, чтоб мяч направить вперед – вниз на площадку противни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2333520" cy="19242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"/>
          <p:cNvSpPr/>
          <p:nvPr/>
        </p:nvSpPr>
        <p:spPr>
          <a:xfrm>
            <a:off x="5364000" y="90792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0 Стойка защитника перед блокирова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6372360" y="2133720"/>
            <a:ext cx="252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й блок называют неподвижным, в отличие от подвижного, при котором руки над сеткой перемещаются вправо или влево, в зависимости от полета мяча и задуманного отскока. Важно, чтобы при блокировании мяч не проскочил между ладонями блокирующего, а также между его руками и сеткой (рис.а). Против сильного нападающего игрока применяется групповой блок(рис.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2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963720" y="208080"/>
            <a:ext cx="7461000" cy="858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защит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щите применяются те же стойки, что и в нападении, но чаще используются низкие стойки. Перемещение в защите так же мало чем отличаются от перемещений в нападении – ходьба, бег, выпады и прыжки, однако выполняются они, как правило, стремительно, с резкими остановками, с быстрой сменой направлений, часто переходит в прыжок или нападение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ротиводействиям относятся приемы мяча и блокирование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– технический прием защиты, позволяющий оставить мяч в игре после нападающих действий соперников. Основным в современном волейболе является прием мяча двумя руками снизу(рис.16). Он является наиболее надежным против возросшей мощи нападения, против сильных ударов и планирующих подач. При этом способе приема мяча туловище вертикально или слегка наклонено вперед, прямые руки опущены вперед – вниз, локти сближены, кисти вместе. Мяч принимается на предплечья ближе к кистям рук ( говорят – «на манжет»рис.16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057400" cy="13813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313200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6. Прием и передача мя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умя руками сниз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1547640" y="39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гка напряженные прямые руки не быстрым движением в плечевых суставах поднимаются на встречу мячу; Но и в момент приема  выпрямляются и туловище поднимается. Полезно после приема мяча выполнять (особенно начинающим волейболистам) некоторое сопровождение мяча руками: это позволит лучше усвоить движение; приняв мяч, точно адресовать его партнер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971640" y="981000"/>
            <a:ext cx="792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двумя руками сверху применяется против не сильно летящих мячей, а также в случаях, когда другой способ приема не рационален. Так, игровая ситуация часто заставляет выполнять прием и направленную передачу с последующим падением на спину (рис.17 и рис.18). В других же случаях прием двумя руками сверху аналогичен одноименной передач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4229280" cy="199080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6"/>
          <p:cNvSpPr/>
          <p:nvPr/>
        </p:nvSpPr>
        <p:spPr>
          <a:xfrm>
            <a:off x="5796000" y="2781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7. Прием мяча с падением и перекатом на сп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1763640" y="4653000"/>
            <a:ext cx="3629160" cy="167652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8"/>
          <p:cNvSpPr/>
          <p:nvPr/>
        </p:nvSpPr>
        <p:spPr>
          <a:xfrm>
            <a:off x="5651640" y="494172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8. Прием мяча с выпадом и падением(перекатом на спи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971640" y="981000"/>
            <a:ext cx="727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одной рукой снизу считается не точным и применяется сравнительно редко, но, если мяч летит далеко от игрока и другим способом его принять невозможно, волейболист вынужден использовать этот прием. Прямая рука с напряженно сжатыми пальцами преграждает путь мячу ; ударное движение выполняется ладонью, кулаком, предплечьем или плечом. Ног в этих движениях, как правило, не участву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й рукой снизу в падении (рис.19) мяч принимается после разбега и прыжка. Прежде чем освоить этот способ приема, следует научиться правильному приземлению. После приема мяча руки вытягиваются вперед и разводятся в стороны несколько шире плеч, ставятся на пол и медленно сгибаются в локтях, амортизируя силу па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476600" cy="173376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3"/>
          <p:cNvSpPr/>
          <p:nvPr/>
        </p:nvSpPr>
        <p:spPr>
          <a:xfrm>
            <a:off x="1042920" y="55897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к приземляется на грудь и делает перекат на живот и бедра. Освоив элемент на гимнастических матах и на полу, его можно безопасно применять на игровых площад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1785960" y="4998960"/>
            <a:ext cx="6102360" cy="451080"/>
          </a:xfrm>
          <a:prstGeom prst="rect">
            <a:avLst/>
          </a:prstGeom>
          <a:ln w="0">
            <a:noFill/>
          </a:ln>
        </p:spPr>
      </p:pic>
      <p:grpSp>
        <p:nvGrpSpPr>
          <p:cNvPr id="476" name="Рисунок 2"/>
          <p:cNvGrpSpPr/>
          <p:nvPr/>
        </p:nvGrpSpPr>
        <p:grpSpPr>
          <a:xfrm>
            <a:off x="-12600" y="201600"/>
            <a:ext cx="8559720" cy="4370400"/>
            <a:chOff x="-12600" y="201600"/>
            <a:chExt cx="8559720" cy="4370400"/>
          </a:xfrm>
        </p:grpSpPr>
        <p:pic>
          <p:nvPicPr>
            <p:cNvPr id="477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-12600" y="201600"/>
              <a:ext cx="8559720" cy="43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44360" y="358920"/>
              <a:ext cx="82454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2071800" y="1000080"/>
            <a:ext cx="5081400" cy="3740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Users\ЛИДИЯ\Desktop\vollybal_12.gif"/>
          <p:cNvPicPr/>
          <p:nvPr/>
        </p:nvPicPr>
        <p:blipFill>
          <a:blip r:embed="rId4"/>
          <a:stretch/>
        </p:blipFill>
        <p:spPr>
          <a:xfrm>
            <a:off x="4211640" y="5516640"/>
            <a:ext cx="942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963720" y="901800"/>
            <a:ext cx="7796160" cy="4460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1262880" y="22050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youtub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1258920" y="2637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linkietheo.n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1258920" y="306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2"/>
              </a:rPr>
              <a:t>3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3"/>
              </a:rPr>
              <a:t>. http</a:t>
            </a: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5"/>
              </a:rPr>
              <a:t>plus-msk.ru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тивный мар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игровой вид спорта, пользующийся немалой популярностью. Занятия этим видом спорта способствуют развитию многих физических качеств: силы рук и плечевого пояса, прыгучести, быстроты реакции, координации движений в пространстве и во времен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явился волейбол в США в 1895 году. Основоположником этой игры  был пастор Уильям Морган - преподаватель колледжа, предложивший назвать игру «волейбол», что в переводе с английского  «летящий мяч» (от «volley» - отбивать на лету и «ball» - мяч). В 1900 году появились первые правила волейбол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падной Европе стал очень популярным пляжный волейбол (2 х 2), в последние годы по этому красивейшему виду спорта проходят чемпионаты Европы и мира, и он включен в программу Олимпийских игр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, возникнув в 1895 году, в США, быстро стал популярным в разных странах, особенно на европейском континенте. Первоначально это была игра развлечение. Мяч подолгу находился в воздухе, т.к. большое количество игроков в команде    (8 – 10 человек) и слабая техника нападения подолгу не позволяли мячу упасть на площадку. Однако постепенно стали появляться способы перебивания мяча через сетку, затруднявшие защитные действия соперников. Это привело к выделению основных технических приемов: подача, передача, нападающий удар, блок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87280" y="119700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ялась и тактика игры. Если первоначально вся тактика сводилась к равновесной расстановке игроков на площадке, то усложнение игры сделало необходимым согласованные групповые и командные действия. Волейбол становился коллективной игр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947 году была создана Международная федерация волейбола(ФИВБ). Развитие волейбола пошло ускоренными темпами. Стали проводиться первенства Европы и мира, разыгрывается Кубок европейских чемпионов. В 1964 г. волейбол включен в программу Олимпийских игр. В настоящее время членами ФИВБ являются более 110 стран. Весомый вклад в становление мирового волейбола внес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ЛИДИЯ\Desktop\vollybal_20.gif"/>
          <p:cNvPicPr/>
          <p:nvPr/>
        </p:nvPicPr>
        <p:blipFill>
          <a:blip r:embed="rId1"/>
          <a:stretch/>
        </p:blipFill>
        <p:spPr>
          <a:xfrm>
            <a:off x="3564000" y="4221000"/>
            <a:ext cx="27813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420840"/>
            <a:ext cx="8491680" cy="1481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нас в стране волейбол появился в 1920 – 1921 гг. в Казани, Нижнем Новгороде и в других городах Поволжья. С 1925 г. он активно развивался на Украине, на Дальнем Востоке. Активным популяризатором спортивного волейбола выступило созданное в 1923 г. по инициативе Ф. Э. Дзержинского физкультурно -спортивное общество « Динамо ». В 1925 г. в Москве были утверждены первые в нашей стране официальные правила по волейболу, по которым вскоре (в 1926 г. ) были проведены первые соревнования. В этом же году была проведена первая междугородная встреча между волейболистами Москвы и Харькова. А уже в 1928 г. на I Всесоюзной спартакиаде в Москве впервые был разыгран всесоюзный чемпионат по волейболу среди мужских и женских команд. Встречи на Спартакиаде способствовали единому толкованию правил соревнований, убедили в необходимости коллективных командных действий. После этого волейбол повсеместно стал массовым видом спорт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чению молодежи к занятиям волейболом способствовал введенный в 1931 – 1932 гг. физкультурный комплекс ГТО, одной из задач которого было улучшение общей физической подготовленности занимающихся спортом. На этой базе повышалось мастерство волейболистов, расширялись технические возможности игроков и команд. Волейбол становится в полном смысле слова спортивной игрой. Его включали в программы многих крупных соревнований. В 1932 г.была создана Всесоюзная секция волейбола, а с 1933 г. стали регулярно проводиться первенства Советского Союз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е международные встречи наши волейболисты провели в 1935 г.с командами Афганистана. В двух играх победи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1042920" y="907920"/>
            <a:ext cx="78501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коре уже стали проводиться чемпионаты мира по волейболу. Мужские ЧМ с 1949, а женские с 1952 года. Интересно то, что уже на первом чемпионате мира, сборная СССР заняла первое место, а женская сборная в том же году первое место в Чемпионате Европы. С того времени наши спортсмены и до сих пор в рядах лучших на мировой аре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е в 1964 году волейбол был в включен в программу Олимпийских игр, проходивших в Токио. На этих соревнованиях золото взяли волейболисты СССР, и волейболистки Япо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се время прохождения Олимпийских игр(с того времени как волейбол вошел в программу Олимпийских игр), наши волейболисты и волейболистки семь раз становились олимпийскими чемпиона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ярность волейбола в мире продолжала расти. Проводились первенства стран и континентов. Встал вопрос об включении его в программу летних Олимпийских игр. в 1957 г. сессия Международного олимпийского комитета приняла решение признать волейбол олимпийским видом спорта. На прошедших после этого олимпиадах советские волейболисты и волейболистки по три раза становились чемпионами. Победили наши спортсмены и на ХХI I Олимпийских игр в Моск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да в год росло количество международных соревнований и турниров. С 1965 г. установилась такая их последовательность проведения по годам: волейбольный турнир на Олимпийских играх, в следующем году – кубок мира, затем – первенство мира, затем –первенство Европы, и наконец – вновь Олимпийские иг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822240" y="85680"/>
            <a:ext cx="7920000" cy="914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2" descr="C:\Users\ЛИДИЯ\Desktop\Новая папка (4)\15.jpg"/>
          <p:cNvPicPr/>
          <p:nvPr/>
        </p:nvPicPr>
        <p:blipFill>
          <a:blip r:embed="rId2"/>
          <a:stretch/>
        </p:blipFill>
        <p:spPr>
          <a:xfrm>
            <a:off x="1042920" y="98100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963720" y="-792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игры в волейболе подразделяется  на технику нападения и технику защиты. Как в нападении, так и в защите выделяют : стойки и перемещения, технику владения мяч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игры волейболист перемещается по площадке. Целью этих перемещений является выбор наилучшего места для приема мяча, для выполнения других технических приемов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ксимальная готовность к перемещениям – вот что самое главное в стартовых стойках игро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различаются по степени сгибания ног: основная, высокая, низкая. Основная стойка (рис.1): ноги на одном уровне и слегка согнуты, стопы параллельны на расстоянии 20 – 30 см друг от друга, туловище не сильно наклонено вперед, руки согнуты перед собой. Приняв определенную стойку, одни игроки стоят неподвижно ( статическая стойка ), другие двигаются на месте переступанием или подскоками ( динамическая    стойка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мещения по площадке выполняются ходьбой, бегом или скачк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876400" cy="2428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64832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ьба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грок ходит пригибным шагом, вынося ногу вперед слегка согнутой.Это позволяет сохранять стойку и быстро принимать необходимые исходные положения для выполнения тактических приемов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г 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ые перемещения по площадке и резкие изменения направлений выполняются бегом на слегка согнутых ногах. Последний беговой шаг наиболее длинный, так как после него следует стопорящее движение ( остановка, смена направления, выпрыгивание для нападающего удара или блока 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чок 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ычно выполняется после шага или бега, когда игровая ситуация  заставляет предельно быстро занять новую позицию для выполнения технического приема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971640" y="364500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волейболис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сновная стой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тоика в момент вы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  двумя руками сверх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4:51Z</dcterms:created>
  <dc:creator>ЛИДИЯ</dc:creator>
  <dc:description/>
  <dc:language>en-US</dc:language>
  <cp:lastModifiedBy>1111</cp:lastModifiedBy>
  <dcterms:modified xsi:type="dcterms:W3CDTF">2014-09-12T04:11:56Z</dcterms:modified>
  <cp:revision>39</cp:revision>
  <dc:subject/>
  <dc:title>Слайд 1</dc:title>
</cp:coreProperties>
</file>