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59C2-69B9-4C05-9497-4301FFBBC2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3AC7-144D-42EC-A9C2-3B445C59C2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BC2B-F3EC-4091-9B71-F58FDE277B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77B7-953D-4BCB-A481-BDD17F6DD3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22D7-F6F4-4029-881F-5BF90C2B63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0152-54F2-4A94-B0C8-8B739D0FC2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A2F1-40B4-40A2-B01F-CCD037ED6C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8415-AA1C-4960-BB82-CFF49C156E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E8F0-53DD-4677-87CE-EC65E9C96C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6C33-376F-419F-A1B8-5215519A07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552C-CCFA-4794-B7BF-DAD670FF4D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DEE8-D183-47A5-89A0-19C71B733A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0E2F-14A8-452F-A6F4-2F1F6540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2C25-5BD8-4AFD-8D2C-7B47C16E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98F-474C-4CE5-848E-6C891F27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A27E-895A-47CF-99D3-DA6B9FF4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FF13-D93D-4D00-81D5-D8958263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16E4-D99C-41DB-BBAE-1479A737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D6A7-654F-4B50-8535-70BB43D9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3440-B078-430C-B665-7F4BA738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833F-5BBF-40B2-89A3-3CEB33F6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97C5-34EB-4EBC-A6B7-F94F08D3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AD19-2849-40C3-AC3F-4AE9ABA4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A59-339F-4980-9279-87B93A51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788C-8197-4B4B-8793-398F5DB4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D534-16AE-4EA6-BBC1-85A423E0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ACD6-3477-4336-B5AC-FD5EBE1D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683F-90E0-462E-8C9A-90CC1E8B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8A5C-E5D8-4222-98F7-BEC88F81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8F52-3DF0-4CA0-BE79-23729284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8C8E-58D6-4507-B544-A6244F77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ACA6-E2A9-4EBB-8777-3400FA0B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AC61-13A8-445F-89EB-9E14FBC6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6548-62CD-4C99-B8D7-C241FBD8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AE4F-0B93-42F0-BD35-293AADC0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3A46-2D45-4421-BAC0-9F92E87A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E9D7-6C00-4CF6-8D10-D1510EAFC6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180F-94A5-415E-AE21-4B1B7E94FE4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Дошкольный, школьный и подростковый возраст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ь физической культуры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доренко Светлана Игорев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это затрудняет акт дыхания и оксигенацию организма ребенка. Правильно организованная физическая активность детей, регулярные и правильно построенные занятия физическими упражнениями способны предотвратить развитие этих нарушен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одолжительность занятий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5 - летнем возрасте — до 40 мину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4292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6-м году жизни все большее внимание следует уделять на фоне разностороннего физического совершенствования специальному развитию отдельных физических качеств и способносте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лавная задача в этот период — заложить прочный фундамент для интенсификации физического воспитания в последующие годы. Отличие этого этапа от предыдущего заключается в усилении акцента на развитие физических качеств — преимущественно выносливо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и и быстроты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днако это не является самоцелью. Задачей таких занятий прежде всего будет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подготовка организма ребенка к  управлению движениями и их энергетическое обеспече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подготовка психики к предстоящему в недалеком будущем значительному повышению умственных и физических нагрузок в связи с началом обучения в школе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развитии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иловых качеств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речь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дет лишь о воспитании способнос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являть незначительные по величин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пряжения в течение достаточн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ительного времени и точн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зировать мышечные усили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ледует предлагать ребенк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пражнения с отягощениями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исключением метани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о же время масса метаемых снаряд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должна превышать 100—150 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71680" y="277560"/>
            <a:ext cx="8115120" cy="63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щий физический потенциал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летнего ребенка возрастает настолько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в программу занятий можн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ключать упражнения на выносливость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бежки трусцой по 5—7 мину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ительные прогул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одьбу на лыжа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тание на велосипеде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щее время занятия составляет -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0—35 мину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28760" y="28584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Младший школьный подростковы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возраст (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7</a:t>
            </a: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 - 11 лет)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иостанавливается бурный рос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Заключительный период формирования стоп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граничение в движен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ысокий риск развития патологии ОД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изкие показатели гемоглобин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ысокая утомляемос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сихо - эмоциональные нагрузк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28760" y="213840"/>
            <a:ext cx="8501040" cy="695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период является наиболее благоприятным дл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ладки практически всех физических качест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такой закладки не произошло, то время дл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я физической и функциональной основ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дущего физического потенциала ребенка можно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читать упущенны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им из существенных моментов в физическ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итании ребенка этого периода жизни являетс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чное его отношение к физической тренировк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ность младшего школьника в виде организованн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нятий в рамках школьных уроков физкультуры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ны дополняться внешкольными формами занятий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ежедневной утренней физзарядко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двумя или тремя тренировочным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нятиями в неделю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500040" y="285480"/>
            <a:ext cx="81979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десь впервые появляются возможнос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ия гиперкинетических расстройств 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угих изменений, связанных 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рациональными занятиями спорт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ко, эта опасность много меньше, че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дствия недостатка двигательно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тивности –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ипокинез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точная норма двигательной активности 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м возрастном периоде должна составлять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5 - 20 тыс., локомоций пр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олжительности двигательног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онента 4 - 5 час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5713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медицинском обеспечении физически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енировок следует учитывать некотор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ости состояния функций 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орно - двигательного аппарата младши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кольник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воночный столб в этом возраст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личается большой гибкостью 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устойчивостью основных  изгибо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удного и поясничног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удной изгиб полностью формируетс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7 годам, а поясничный – к 12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428760"/>
            <a:ext cx="834084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ластичный связочный аппарат,  толсты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позвоночные диски и слаборазвитая мускулату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ины способствует деформации позвоночни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рушение осанки и плоскостоп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гут вызвать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неправильная посадка за парто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ношение тяжести в одной рук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ие очагов хронической инфекции, снабжающ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ий тонус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этому  создание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хорошего мышечного корсе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ноценной пропорциональной импульса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информирующей ЦНС о взаимоотношен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дельных частей тела ребенка в пространстве,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жная задача физической подготовк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571680" y="1714680"/>
          <a:ext cx="8143560" cy="4787640"/>
        </p:xfrm>
        <a:graphic>
          <a:graphicData uri="http://schemas.openxmlformats.org/drawingml/2006/table">
            <a:tbl>
              <a:tblPr/>
              <a:tblGrid>
                <a:gridCol w="2714400"/>
                <a:gridCol w="2714760"/>
                <a:gridCol w="2714400"/>
              </a:tblGrid>
              <a:tr h="182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р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групп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емя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нят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- 6 л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b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м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- 11 л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 м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- 16 л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io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 м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971640" y="410400"/>
            <a:ext cx="600084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радация  детского возраста на группы в  СК «Планета Фитнес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571320" y="571680"/>
            <a:ext cx="81262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ский организм обладает вполн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формировавшимися физиологическими механизмам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аптации как к условиям внешней среды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 и к физическим нагрузкам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мотря на то, что детский организм боле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ктивен, способность его к адаптац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аточно высо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ледствие относительно слабой сердечной мышцы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лого объема сердца и более широкого просвет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удов по сравнению с размерами сердца у дет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ладшего школьного возраста АД повышаетс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чительно меньше, чем у подростков и взрослы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856800"/>
            <a:ext cx="822960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и анаэробного обмен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работа на скоростную выносливость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детей по сравнению с взрослыми ограничен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ение равной с взрослыми рабо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провождается у детей большим выделение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лочной кислоты, т.е. объем «кислородного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га у детей ниже, чем у подростко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юноше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9528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детей младшего детского возраста характерны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 большая напряженность функций системы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анспорта кислород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 ограничение ее резерва при физических нагрузках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нее экономичное расходование энергетическог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тенциал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них так же ниже способность выполнять физическую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грузку в условиях кислородного долг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этом случае использование оптимальных  п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авленности, мощности и объему физически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грузок расширяет функциональные резерв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ма и способствует зкономизации функци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кое и дозированных воздействи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4256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арианты типологических портрет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ети с уравновешенным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ервными процессами (сангвиник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меют высокий уровень развити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коростно - силовых качест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бладают высокой способность к длительной работе умеренной интенсивно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еобладание процессов возбуждени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 холерик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акже имеют высокий уровень развития скоростно - силовых качест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хотнее работают в более быстром темп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ети отличающиеся  вялостью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ервных процессов (флегматик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характерен низкий уровень скоростно силовых качест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лительное обучение сложным двигательным навыка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изкая работоспособнос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екомендован умеренный темп занят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собенности тренинга в данн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зрастной группе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ить переразгиб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шение тяжестей ( менее 10% веса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ить приемы интенсифика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ержка дыхания, натужив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я основной части 25 - 30 минут (суммарная продолжительность занятия 45 мин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нообразие,  использовать дополнительное оборудов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пасные упражнения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кие движения головой (запракидывания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клоны с отягощение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Кобра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клоны назад из И.П. стоя, боковые наклоны без опор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уговые движения туловищем с отягощение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опорой на плечи партнера, ношение на одном плеч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ъем прямых ног из виса на шведской стенк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саживание из И.П. лежа в И.П.сидя с прямыми ног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ад с острым углом в коленном сустав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окие мах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уговые движения  руками с отягощение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ямые кувыр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ойка на голов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ренинг в тренажерном зал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оказан детям с 9 л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сновные аспекты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с преодолением собственного вес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ить осевые нагрузки с отягощение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лексное развитие ОДА ребен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ие координац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!!!!Развитие гибкости, эластичности мышц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!!!!Развитие кардиореспираторной систем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ля детей этого возраста характерн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нятия аэробик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ловыми упражнениями в тренажерном зал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ореографие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тренажерах имитирующих велосипед 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cl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Средний школьный (подростковый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возраст (12 – 16 лет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ктивно развиваются двигательные функц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Значительное увеличение ЧСС+ незначительное увеличение АД = снижение коэффициента использования кислород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величивается период восстановле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естабильность гормонального фон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Эмоциональная нестабильнос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игилизм, нетерпимость, недоверчивость. Высокая утомляемос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15920"/>
            <a:ext cx="822960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ffffcc"/>
                </a:solidFill>
                <a:latin typeface="Verdana"/>
              </a:rPr>
              <a:t>Дошкольный возраст </a:t>
            </a:r>
            <a:r>
              <a:rPr b="0" lang="ru-RU" sz="3200" spc="-1" strike="noStrike">
                <a:solidFill>
                  <a:srgbClr val="ffffcc"/>
                </a:solidFill>
                <a:latin typeface="Verdana"/>
              </a:rPr>
              <a:t>(3—6 лет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арактеризуется значительной динамикой показателей, которыми характеризуют физическое и двигательное развитие ребен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стрыми темпами идет рост скелета и мышечной масс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собенности психики детей этого возраста обуславливают целесообразность коротких по времени, но часто повторяющихся занятий разнообразного, преимущественно игрового содержани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71320" y="0"/>
            <a:ext cx="8126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ростковый возраст – перио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ксимальных темпов роста организм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отдельных его частей, увеличе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ональных резервов, а такж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рмональной перестройки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язанной с половым созревание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овышении второй сигнальн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стемы понижается внушаемость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неуравновешенность 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моциональность возрастае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71320" y="642600"/>
            <a:ext cx="812628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олжается процесс окостен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елета, причем происходит он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равномерно в различных частях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воночник по прежнему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вижен и податлив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ла мышц, увеличивается в меньше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епени, чем масса тела, что пр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благоприятных условиях мож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вести к нарушению осанки ил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формации позвоночник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571680" y="571680"/>
            <a:ext cx="8115120" cy="55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оже время чрезмерные мышечн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грузки способны ускорить процес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остенения и замедлить рос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убчатых костей в длину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действии сверхсильных ил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нотонных раздражителей 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ростков развивается запредельно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рможение, что заставля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нообразить физические нагрузк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роцессе занят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68360" y="50004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нормальном физическом развит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подростков увеличиваетс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ональные резервы кислородн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стемы (ударный объем сердца 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нутный объем крови, кислородна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мкость крови, минутный объе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ыхания, абсолютные показатели МПК 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.), с другой стороны возраста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ономизация функций в поко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урежение ЧСС и дыхательных движени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.п.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собенности тренинга в данн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зрастной группе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ановить контакт, завоевать  авторите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Недобор- прогресс, перебор – регресс..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быстроты, гибкости, ловк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рекция «форм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ение «отягощения» в виде эспандеров, преодоление сопротивления собственного вес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ение отягощения после закрытия основных зон роста костей (4 - 5 степень созревания по рейтингу Таннера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85840" y="142920"/>
            <a:ext cx="85010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сновные упражнения 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исед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например, оказывают комплексное воздействие  не  только на мышцы ног но и на организм в целом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ом числе и на кардиореспираторную  систему и общий обмен веществ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клон впере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чески аналогичен эффекту  - тяги на прямых ногах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жимания от по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различными вариантами постановки рук заменит пока жим лежа, окажет комплексное воздействие на мышцы груди, трицепс, отчасти передние дельты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стабилизаторы положения тела будут задействованы и другие мышечные группы, что благотворно сказывается на общем развит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дтягивания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мплексное воздействие на сгибатели рук и мышцы спины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стальные упражнения являются производным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 ни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ТОГО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сновное правило работы с детьми 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акон трех «П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остепенно –  постепенное освоение двигательных навык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авильно –  технически  верное выполнение  упражнен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остоянно  -  регулярные, дозированные нагрузк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42960" y="142920"/>
            <a:ext cx="80438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Старший школьный возраст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(16 - 17 лет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этом возрасте практически заканчиваетс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т тотальных размеров тела по длине 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мечается значительное преоблад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товых процессов  в поперечных размерах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ышается прочность скелета, в том числ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воночника и грудной клетк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ее заметными становятся половы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личия в размерах, пропорциях тела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шечной массе, функциональных резервах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физической работоспособност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юношей и девуше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85840" y="277920"/>
            <a:ext cx="840096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ршается развитие центральной  нервной  системы, хотя процесс возбуждения несколько преобладает над силой процесса торможе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оддержания достаточного уровня физического развития в юношеском возрасте тренироваться необходимо не меньше 2 - 3 раз в неделю 1,5 – 2 час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обязательной утренней физзарядкой ежедневн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68360" y="142560"/>
            <a:ext cx="82296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оже время чрезмерная двигательна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тивность на определенных этапа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тогенеза может вызвать перестройк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рмональной регуляции 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мунологической реактивности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лиять на развитие и рост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орно - двигательного аппарат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необходимо учитывать пр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ении возрастных границ допус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ей и подростков к занятиям спорт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ие возрастные границ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гламентируются по отдельным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ам спорт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-36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пустимы перегрузки организма, связанные с силовым напряжением и общим утомление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 же время необходимо отметить, что развитие выраженного утомления у ребенка маловероятно, ибо он не в состоянии противодействовать развивающемуся чувству усталости и прекращает тренировк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Спасибо за внимание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277560"/>
            <a:ext cx="8229600" cy="64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ериод 3-4 год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младшем дошкольном возраст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3-4 года) необходимо создать все условия для освоения ребенком многих видов простейших движений, действий и закаливающих процеду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одолжительность занятий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3-х летнем возрасте -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ачале периода 15—20 ми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 концу его — 20— 25 мин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4-х летнем возрасте — 30—35 мину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ериод 5-6 л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5—6 лет (старший дошкольный возраст) — необходимо осваивать новые виды физических упражнений, повышать уровень физических способностей, стимулировать участие в коллективных играх и соревнованиях со сверстникам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каливание должно стать привычным элементом режима дн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едует учитывать, что в дошкольном возрасте для высшей нервной деятельности еще характерна неустойчивость основных нервных процессов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этому не следует рассчитывать на прочное освоение ребенком этого возраста сложных двигательных умений и действ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21420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обходимо  уделять особое внимание освоению и совершенствованию новых видов движений— пальцев рук и кисти, ловкост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овкость развивается при перемещениях со сменой направления ходьбы и бега, в упражнениях с предметами, особенно с мячом, игре с кубиками и пластилино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нятия физическими упражнениями следует проводить ежедневно в форме зарядки, занятий по освоению и совершенствованию движений и различных игр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-360"/>
            <a:ext cx="82296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едует учесть, что 5-й год жизни является критическим для многих параметров физического здоровья ребен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этот период отмечается ослабление некоторых звеньев мышечной системы и суставных связо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едствием этого могут быть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нарушения осанк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плоскостопи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искривление нижних конечносте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уплощение грудной клетки или е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формаци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выпуклый и отвислый живо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08:06:13Z</dcterms:created>
  <dc:creator>1</dc:creator>
  <dc:description/>
  <dc:language>en-US</dc:language>
  <cp:lastModifiedBy>Илья</cp:lastModifiedBy>
  <dcterms:modified xsi:type="dcterms:W3CDTF">2014-10-22T10:17:41Z</dcterms:modified>
  <cp:revision>59</cp:revision>
  <dc:subject/>
  <dc:title>Подростковый возраст.</dc:title>
</cp:coreProperties>
</file>