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F4B1-EAB3-41F3-801D-65180FE53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501-B5D0-466E-ABD5-AF6D74B8D6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9C0-0075-4DDF-AD8F-F0093931DA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C478-2AA1-44C1-A1F1-EBDFCD3544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C827-9B49-4125-B205-D81D063AB1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157-908D-4EEA-9F98-421C8C8DA5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83B-0FAC-4AC3-BBAA-DA90A4FE5B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B69-20F5-4EFB-83B3-C7DC65E898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683-4822-4853-B4F1-067BC9CCCD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BFE-6B39-4685-AD98-DF6FB6909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CC7-2006-457D-9DA5-9B9F8AB837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629-4D8D-4279-BA0B-BD293F43C7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8B3-5954-46BC-B30C-44F8CC37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BE7-731B-40B2-B831-266FD70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F71-BC2B-44FD-A762-71AD794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B35-4BD0-4656-B281-AED7BA37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4A2A-E331-48A3-8A49-2362F863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6748-5C13-43CB-B0E9-2EE1F2F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2F4F-B132-47DF-A12C-C361F8D4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7395-5E90-4D44-A362-C2A20106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43E-492E-49EF-BC54-FE5F9677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E56-1983-44BA-8626-FAA92BE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75A5-9E14-4E96-934C-B7EC588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1BE-EDB9-49E8-9BF0-4243F51A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9A17-FEB9-4A23-8087-10BE8A7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936A-39AA-47CA-A003-1BB4A65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6DA-ADE0-4774-9CC7-F550C25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DBEA-B153-46ED-8895-0AAECD67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DA1-CEB7-410B-9FAF-AB4F8BF0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A2C-FC85-4C12-9D64-17E3474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FB9-3436-404A-9ECB-464380CF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C98-6CF3-48CD-8A2B-244E214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00A-FA6A-40BE-9557-DD273FA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162-B6B4-47B2-BB3E-BF5FE90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ED6-16C6-4EF8-8188-873B31F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A38-0CCE-476B-9AD0-EF786CB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22AE-1992-4271-8660-3CD3B6DF6E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7EE-DC5A-42C8-A501-28AAF9DE3E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Дошкольный, школьный и подростковый возраст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ческой культуры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доренко Светлана Игоре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это затрудняет акт дыхания и оксигенацию организма ребенка. Правильно организованная физическая активность детей, регулярные и правильно построенные занятия физическими упражнениями способны предотвратить развитие этих наруш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 - летнем возрасте — до 40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4292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6-м году жизни все большее внимание следует уделять на фоне разностороннего физического совершенствования специальному развитию отдельных физических качеств и способ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вная задача в этот период — заложить прочный фундамент для интенсификации физического воспитания в последующие годы. Отличие этого этапа от предыдущего заключается в усилении акцента на развитие физических качеств — преимущественно выносли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 и быстрот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ако это не является самоцелью. Задачей таких занятий прежде всего буд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организма ребенка к  управлению движениями и их энергетическое обеспе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психики к предстоящему в недалеком будущем значительному повышению умственных и физических нагрузок в связи с началом обучения в школ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азвитии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иловых качест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еч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ет лишь о воспитании способ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являть незначительные по величи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яжения в течение достаточ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ого времени и точ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зировать мышечные усил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ледует предлагать ребен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жнения с отягощениям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исключением метани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о же время масса метаемых снаря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должна превышать 100—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71680" y="277560"/>
            <a:ext cx="81151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ий физический потенциа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летнего ребенка возрастает настольк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программу занятий мож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ключать упражнения на выносливос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ежки трусцой по 5—7 мину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ые прогул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дьбу на лыж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тание на велосипед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е время занятия составляет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28760" y="28584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Младший школьный подростков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 - 11 лет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останавливается бурный ро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аключительный период формирования стоп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граничение в движ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ий риск развития патологии 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ие показатели гемоглоби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сихо - эмоциональ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213840"/>
            <a:ext cx="8501040" cy="695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период является наиболее благоприятным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адки практически всех физических качест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такой закладки не произошло, то время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физической и функциональной осно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щего физического потенциала ребенка мож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итать упущенны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из существенных моментов в физическ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и ребенка этого периода жизни явля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ое его отношение к физической трениров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младшего школьника в виде организов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й в рамках школьных уроков физкультур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ы дополняться внешкольными формами заняти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ежедневной утренней физзарядк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вумя или тремя тренировоч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ми в недел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00040" y="285480"/>
            <a:ext cx="8197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впервые появляются возм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я гиперкинетических расстройств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х изменений, связанных 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ыми занятиями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, эта опасность много меньше, ч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ствия недостатка двигате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и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ипокинез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очная норма двигательной активности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м возрастном периоде должна составля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 - 20 тыс., локомоций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льности двигательно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онента 4 - 5 ча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медицинском обеспечении физическ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нировок следует учитывать некотор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состояния функций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 младш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ый столб в этом возраст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ается большой гибкостью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стойчивостью основных  изгиб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го и поясничног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й изгиб полностью формиру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7 годам, а поясничный – к 12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428760"/>
            <a:ext cx="83408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астичный связочный аппарат,  толс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позвоночные диски и слаборазвитая мускул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 способствует деформации позвоночни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осанки и плоскостоп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вызват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правильная посадка за пар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ошение тяжести в одной ру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очагов хронической инфекции, снабжающ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тону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 создание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рошего мышечного корс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ценной пропорциональной импульс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информирующей ЦНС о взаимоотноше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ьных частей тела ребенка в пространстве,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ая задача физической подгото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71680" y="1714680"/>
          <a:ext cx="8143560" cy="478764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182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- 11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- 1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971640" y="410400"/>
            <a:ext cx="6000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дация  детского возраста на группы в  СК «Планета Фитнес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71320" y="571680"/>
            <a:ext cx="8126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й организм обладает вполн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вшимися физиологическими механизм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ации как к условиям внешней сред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к физическим нагрузка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детский организм бол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тивен, способность его к адапта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аточно выс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ледствие относительно слабой сердечной мышц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ого объема сердца и более широкого просв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удов по сравнению с размерами сердца у дет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адшего школьного возраста АД повыш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о меньше, чем у подростков и взросл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анаэробного обмен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абота на скоростную выносливость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детей по сравнению с взрослыми ограниче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ение равной с взрослыми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овождается у детей большим выделени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ой кислоты, т.е. объем «кислородного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га у детей ниже, чем у подростк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юнош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детей младшего детского возраста характерн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большая напряженность функций систем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а кислор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ограничение ее резерва при физических нагрузка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нее экономичное расходование энергетиче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них так же ниже способность выполнять физическ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ку в условиях кислородного долг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использование оптимальных  п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ности, мощности и объему физически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ок расширяет функциональные резер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ма и способствует зкономизации функц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кое и дозированных воздейств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425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арианты типологических портр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с уравновешенны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ми процессами (сангвин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меют высокий уровень развит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ладают высокой способность к длительной работе умеренной интенсив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обладание процессов возбужд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 холер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акже имеют высокий уровень развития 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хотнее работают в более быстром темп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отличающиеся  вял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х процессов (флегматик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арактерен низкий уровень скоростно силовых качест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лительное обучение сложным двигательным навык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ая работоспособ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омендован умеренный темп занят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ереразгиб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шение тяжестей ( менее 10% веса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риемы интенсифик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ержка дыхания, натужи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основной части 25 - 30 минут (суммарная продолжительность занятия 45 ми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е,  использовать дополнительное оборуд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пасные упражн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кие движения головой (запракидыва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обр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назад из И.П. стоя, боковые наклоны без опо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туловищем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порой на плечи партнера, ношение на одном плеч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ъем прямых ног из виса на шведской стен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аживание из И.П. лежа в И.П.сидя с прямыми ног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 с острым углом в коленном суста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ие мах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 руками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ые кувыр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йка на голо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ренинг в тренажерном зал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азан детям с 9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аспект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преодолением собственного ве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осевые нагрузки с отягощени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развитие ОДА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координ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гибкости, эластичности мыш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кардиореспираторной сист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детей этого возраста характерн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аэробик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овыми упражнениями в тренажерном зал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еографи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енажерах имитирующих велосипед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редний школьный (подростковы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12 – 16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ктивно развиваются двигательные функ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начительное увеличение ЧСС+ незначительное увеличение АД = снижение коэффициента использования кислор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ивается период восстанов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табильность гормонального ф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моциональная нестаби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гилизм, нетерпимость, недоверчивость. 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Дошкольный возраст </a:t>
            </a: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(3—6 лет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рактеризуется значительной динамикой показателей, которыми характеризуют физическое и двигательное развитие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ыми темпами идет рост скелета и мышечной масс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обенности психики детей этого возраста обуславливают целесообразность коротких по времени, но часто повторяющихся занятий разнообразного, преимущественно игрового содерж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71320" y="0"/>
            <a:ext cx="812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ый возраст – пери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симальных темпов роста организм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отдельных его частей, увели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х резервов, а такж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перестройк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анной с половым созрева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овышении второй сигналь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понижается внушаемос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еуравновешенность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ость возраста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71320" y="642600"/>
            <a:ext cx="81262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ется процесс окостен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елета, причем происходит о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вномерно в различных част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 по прежнем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ижен и податли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а мышц, увеличивается в меньш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пени, чем масса тела, что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риятных условиях мож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нарушению осанки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формации позвоночн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71680" y="571680"/>
            <a:ext cx="811512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ые мышеч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узки способны ускорить проце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стенения и замедлить рос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бчатых костей в длин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действии сверхсильных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тонных раздражителей 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 развивается запредель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можение, что заставля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ть физические нагруз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цессе заня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ормальном физическом развит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одростков увели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е резервы кислород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(ударный объем сердца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ный объем крови, кислород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мкость крови, минутный объ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ыхания, абсолютные показатели МПК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.), с другой стороны возраста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зация функций в пок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режение ЧСС и дыхательных движен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контакт, завоевать  авторит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едобор- прогресс, перебор – регресс..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быстроты, гибкости, ловк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я «форм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«отягощения» в виде эспандеров, преодоление сопротивления собственного ве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отягощения после закрытия основных зон роста костей (4 - 5 степень созревания по рейтингу Таннер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840" y="14292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упражнения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сед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пример, оказывают комплексное воздействие  не  только на мышцы ног но и на организм в цел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м числе и на кардиореспираторную  систему и общий обмен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клон впер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аналогичен эффекту  - тяги на прямых ног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жимания от п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различными вариантами постановки рук заменит пока жим лежа, окажет комплексное воздействие на мышцы груди, трицепс, отчасти передние дель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табилизаторы положения тела будут задействованы и другие мышечные группы, что благотворно сказывается на общем развит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тягивани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сное воздействие на сгибатели рук и мышцы спи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тальные упражнения являются производ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 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ТОГО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новное правило работы с детьм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кон трех «П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епенно –  постепенное освоение двигательных навы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ильно –  технически  верное выполнение  упражн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оянно  -  регулярные, дозирован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42960" y="142920"/>
            <a:ext cx="8043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тарший школьный возра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(16 - 17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возрасте практически закан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тотальных размеров тела по длине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чается значительное преоблад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овых процессов  в поперечных размер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ается прочность скелета, в том чис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а и грудной кл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заметными становятся полов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я в размерах, пропорциях те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ой массе, функциональных резерва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физическ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ношей и девуш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85840" y="277920"/>
            <a:ext cx="84009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ршается развитие центральной  нервной  системы, хотя процесс возбуждения несколько преобладает над силой процесса тормо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ддержания достаточного уровня физического развития в юношеском возрасте тренироваться необходимо не меньше 2 - 3 раз в неделю 1,5 – 2 ча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бязательной утренней физзарядкой ежеднев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36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ая двигатель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ь на определенных этап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тогенеза может вызвать перестрой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регуляции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мунологической реактивност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лиять на развитие и ро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необходимо учитывать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и возрастных границ допус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й и подростков к занятиям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е возрастные границ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ламентируются по отдельны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ам спор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-3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пустимы перегрузки организма, связанные с силовым напряжением и общим утомле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 же время необходимо отметить, что развитие выраженного утомления у ребенка маловероятно, ибо он не в состоянии противодействовать развивающемуся чувству усталости и прекращает трениров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560"/>
            <a:ext cx="8229600" cy="64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3-4 г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ладшем дошкольном возраст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-4 года) необходимо создать все условия для освоения ребенком многих видов простейших движений, действий и закаливающих процеду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3-х летнем возрасте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периода 15—20 м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онцу его — 20— 25 ми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4-х летнем возрасте — 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5-6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—6 лет (старший дошкольный возраст) — необходимо осваивать новые виды физических упражнений, повышать уровень физических способностей, стимулировать участие в коллективных играх и соревнованиях со сверстника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ливание должно стать привычным элементом режима дн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итывать, что в дошкольном возрасте для высшей нервной деятельности еще характерна неустойчивость основных нервных процесс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этому не следует рассчитывать на прочное освоение ребенком этого возраста сложных двигательных умений и 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обходимо  уделять особое внимание освоению и совершенствованию новых видов движений— пальцев рук и кисти, ловк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вкость развивается при перемещениях со сменой направления ходьбы и бега, в упражнениях с предметами, особенно с мячом, игре с кубиками и пластилин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ятия физическими упражнениями следует проводить ежедневно в форме зарядки, занятий по освоению и совершенствованию движений и различных иг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-3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есть, что 5-й год жизни является критическим для многих параметров физического здоровья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этот период отмечается ослабление некоторых звеньев мышечной системы и суставных связ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ствием этого могут бы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нарушения оса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лоскостоп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искривление нижних конечност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уплощение грудной клетки или е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форм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выпуклый и отвислый живо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8:06:13Z</dcterms:created>
  <dc:creator>1</dc:creator>
  <dc:description/>
  <dc:language>en-US</dc:language>
  <cp:lastModifiedBy>Илья</cp:lastModifiedBy>
  <dcterms:modified xsi:type="dcterms:W3CDTF">2014-10-22T10:17:41Z</dcterms:modified>
  <cp:revision>59</cp:revision>
  <dc:subject/>
  <dc:title>Подростковый возраст.</dc:title>
</cp:coreProperties>
</file>