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F80-7812-46AB-B861-AA238195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AC8-B04E-4A6C-A295-0D9B2B33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E20-D064-4027-A0DD-A315FA8D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318-0404-409A-A87E-065E2C46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487-53C7-4CA0-9A9F-DA51835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196-7770-4661-8742-2E6D9473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082-9DBA-40C4-B8A0-3F175FE0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EF3-FF3A-4BE2-9099-154397E5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350-5C5B-4D25-8B00-0372AA5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6C0-9DB1-4EED-BE76-E109ADC4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098-AB42-4435-AB36-4B6388F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150-CF5F-4DB3-8159-168FF1A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A8B-F0C0-40C7-B3B7-DA9B8FCB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8900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33336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О сколько нам открытий чудных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Готовит просвещенья дух –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опыт, сын ошибок трудных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гений, парадоксов друг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И случай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А.С. Пушкин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J0382954"/>
          <p:cNvPicPr/>
          <p:nvPr/>
        </p:nvPicPr>
        <p:blipFill>
          <a:blip r:embed="rId1"/>
          <a:srcRect l="6474" t="4079" r="5045" b="4882"/>
          <a:stretch/>
        </p:blipFill>
        <p:spPr>
          <a:xfrm>
            <a:off x="5830920" y="4491000"/>
            <a:ext cx="33130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260280"/>
            <a:ext cx="8785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, я подумал, не мудре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вскипе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пар перешл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авда не вс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олько большая час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т ведь какая напас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но сказать не та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чился опыт у мен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50920" y="189000"/>
            <a:ext cx="88581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физики нельзя прожить на свете, нет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я даю вам всем один большой совет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физикой дружить прекрасн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но не опасн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жу всего один секре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ожем мы легко найти всю теплот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 буква будет называть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м извест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нам извест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, С и сно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ножа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ем пар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68360" y="189000"/>
            <a:ext cx="856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 учите, обойдётесь и без «пар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нож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ем мы сгорание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бы это всё запомнить, надо нам старани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температурой проще: начальная, конечна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гревание получаем, а потом и охлаждаем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х, скажу я вам, друзья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нь сложная наук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, а вот какая штука 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 физики прожить нельз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79280" y="189000"/>
            <a:ext cx="8856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дарь о сталь кремнём, дружок, 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И вылетает искр пучок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нимай вопросу моему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то происходит, почему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j0199549"/>
          <p:cNvPicPr/>
          <p:nvPr/>
        </p:nvPicPr>
        <p:blipFill>
          <a:blip r:embed="rId1"/>
          <a:stretch/>
        </p:blipFill>
        <p:spPr>
          <a:xfrm>
            <a:off x="3747960" y="4149720"/>
            <a:ext cx="23464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04"/>
          <p:cNvSpPr/>
          <p:nvPr/>
        </p:nvSpPr>
        <p:spPr>
          <a:xfrm>
            <a:off x="0" y="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вижение по спирали от клетки со звёздочко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692280"/>
          <a:ext cx="8424720" cy="6165720"/>
        </p:xfrm>
        <a:graphic>
          <a:graphicData uri="http://schemas.openxmlformats.org/drawingml/2006/table">
            <a:tbl>
              <a:tblPr/>
              <a:tblGrid>
                <a:gridCol w="843120"/>
                <a:gridCol w="841320"/>
                <a:gridCol w="842760"/>
                <a:gridCol w="843120"/>
                <a:gridCol w="842760"/>
                <a:gridCol w="841680"/>
                <a:gridCol w="842760"/>
                <a:gridCol w="843120"/>
                <a:gridCol w="841320"/>
                <a:gridCol w="842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4572000" y="3429000"/>
            <a:ext cx="86364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751"/>
          <p:cNvSpPr/>
          <p:nvPr/>
        </p:nvSpPr>
        <p:spPr>
          <a:xfrm>
            <a:off x="4211640" y="3500280"/>
            <a:ext cx="360360" cy="505080"/>
          </a:xfrm>
          <a:custGeom>
            <a:avLst/>
            <a:gdLst>
              <a:gd name="textAreaLeft" fmla="*/ 148320 w 360360"/>
              <a:gd name="textAreaRight" fmla="*/ 212040 w 360360"/>
              <a:gd name="textAreaTop" fmla="*/ 208080 h 505080"/>
              <a:gd name="textAreaBottom" fmla="*/ 2970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52"/>
          <p:cNvSpPr/>
          <p:nvPr/>
        </p:nvSpPr>
        <p:spPr>
          <a:xfrm>
            <a:off x="684360" y="620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95280" y="620640"/>
          <a:ext cx="8424720" cy="6237360"/>
        </p:xfrm>
        <a:graphic>
          <a:graphicData uri="http://schemas.openxmlformats.org/drawingml/2006/table">
            <a:tbl>
              <a:tblPr/>
              <a:tblGrid>
                <a:gridCol w="701640"/>
                <a:gridCol w="703440"/>
                <a:gridCol w="701640"/>
                <a:gridCol w="701640"/>
                <a:gridCol w="701640"/>
                <a:gridCol w="703080"/>
                <a:gridCol w="702000"/>
                <a:gridCol w="701640"/>
                <a:gridCol w="701640"/>
                <a:gridCol w="703080"/>
                <a:gridCol w="701640"/>
                <a:gridCol w="7016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151"/>
          <p:cNvSpPr/>
          <p:nvPr/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2"/>
          <p:cNvSpPr/>
          <p:nvPr/>
        </p:nvSpPr>
        <p:spPr>
          <a:xfrm>
            <a:off x="0" y="18900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3"/>
          <p:cNvSpPr/>
          <p:nvPr/>
        </p:nvSpPr>
        <p:spPr>
          <a:xfrm>
            <a:off x="324000" y="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ижение диагональное, от клетки со звёздочко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5"/>
          <p:cNvSpPr/>
          <p:nvPr/>
        </p:nvSpPr>
        <p:spPr>
          <a:xfrm>
            <a:off x="755640" y="1844640"/>
            <a:ext cx="360360" cy="504720"/>
          </a:xfrm>
          <a:custGeom>
            <a:avLst/>
            <a:gdLst>
              <a:gd name="textAreaLeft" fmla="*/ 148320 w 360360"/>
              <a:gd name="textAreaRight" fmla="*/ 212040 w 36036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7"/>
          <p:cNvSpPr/>
          <p:nvPr/>
        </p:nvSpPr>
        <p:spPr>
          <a:xfrm rot="5400000">
            <a:off x="466920" y="548280"/>
            <a:ext cx="1224000" cy="136836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79280" y="260280"/>
            <a:ext cx="885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Смотри, с конца палёное бревн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От потока ветра и его накал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 другом конце трещит и слёз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олно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ак почему трещит горящее бревно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50920" y="189000"/>
            <a:ext cx="8785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мотри, закат в горах, как ран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очиет в мирной тишин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Лес горный в лёгкой кисее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туман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С чего туман? – ответь ты мне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j0090386"/>
          <p:cNvPicPr/>
          <p:nvPr/>
        </p:nvPicPr>
        <p:blipFill>
          <a:blip r:embed="rId1"/>
          <a:stretch/>
        </p:blipFill>
        <p:spPr>
          <a:xfrm>
            <a:off x="6948360" y="4941720"/>
            <a:ext cx="22194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j0300840"/>
          <p:cNvPicPr/>
          <p:nvPr/>
        </p:nvPicPr>
        <p:blipFill>
          <a:blip r:embed="rId1"/>
          <a:stretch/>
        </p:blipFill>
        <p:spPr>
          <a:xfrm>
            <a:off x="7329600" y="532908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234131"/>
          <p:cNvPicPr/>
          <p:nvPr/>
        </p:nvPicPr>
        <p:blipFill>
          <a:blip r:embed="rId2"/>
          <a:stretch/>
        </p:blipFill>
        <p:spPr>
          <a:xfrm>
            <a:off x="0" y="478152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92" name="WordArt 8"/>
          <p:cNvSpPr txBox="1"/>
          <p:nvPr/>
        </p:nvSpPr>
        <p:spPr>
          <a:xfrm>
            <a:off x="108000" y="620640"/>
            <a:ext cx="89280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ка - удивительная наука,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надо шаг за шагом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знавать её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79280" y="404640"/>
            <a:ext cx="878544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равствуй,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ка теплоты !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3" descr="j0293828"/>
          <p:cNvPicPr/>
          <p:nvPr/>
        </p:nvPicPr>
        <p:blipFill>
          <a:blip r:embed="rId1"/>
          <a:stretch/>
        </p:blipFill>
        <p:spPr>
          <a:xfrm>
            <a:off x="7236000" y="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j0299587"/>
          <p:cNvPicPr/>
          <p:nvPr/>
        </p:nvPicPr>
        <p:blipFill>
          <a:blip r:embed="rId2"/>
          <a:stretch/>
        </p:blipFill>
        <p:spPr>
          <a:xfrm>
            <a:off x="0" y="0"/>
            <a:ext cx="1403280" cy="140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87280" y="4941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5af4"/>
                </a:solidFill>
                <a:latin typeface="Times New Roman"/>
              </a:rPr>
              <a:t>Хабецкая Н.И., учитель физики МБОУ СОШ № 12 г. Сама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26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Вечер для учащихся 8-ых класс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8"/>
          <p:cNvSpPr/>
          <p:nvPr/>
        </p:nvSpPr>
        <p:spPr>
          <a:xfrm rot="20068200">
            <a:off x="2914200" y="4122360"/>
            <a:ext cx="1362240" cy="485640"/>
          </a:xfrm>
          <a:prstGeom prst="leftArrow">
            <a:avLst>
              <a:gd name="adj1" fmla="val 50000"/>
              <a:gd name="adj2" fmla="val 70126"/>
            </a:avLst>
          </a:prstGeom>
          <a:solidFill>
            <a:srgbClr val="f5b0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3166920" y="333360"/>
            <a:ext cx="5977080" cy="4319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0" y="4365720"/>
            <a:ext cx="3708360" cy="2492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тров «Величин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35280" y="5805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стров «Формул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572000" y="98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93236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6443640" y="9079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6516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708360" y="285264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211640" y="27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093080" y="162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435640" y="342900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451640" y="2421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708360" y="155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7236000" y="321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8226720" y="1622520"/>
            <a:ext cx="3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594036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5148360" y="2637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508720" y="692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260280"/>
            <a:ext cx="8353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ак золотая птичка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Одну минуту спичк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Почему в моих руках живёт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А кожу мне не жжёт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4356000" y="4869000"/>
            <a:ext cx="2951280" cy="72072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7165440" y="4365720"/>
            <a:ext cx="4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Times New Roman"/>
              </a:rPr>
              <a:t>•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6948360" y="3573360"/>
            <a:ext cx="828720" cy="1200240"/>
          </a:xfrm>
          <a:custGeom>
            <a:avLst/>
            <a:gdLst>
              <a:gd name="textAreaLeft" fmla="*/ 0 w 828720"/>
              <a:gd name="textAreaRight" fmla="*/ 829080 w 82872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522" h="756">
                <a:moveTo>
                  <a:pt x="189" y="665"/>
                </a:moveTo>
                <a:cubicBezTo>
                  <a:pt x="94" y="559"/>
                  <a:pt x="0" y="454"/>
                  <a:pt x="8" y="348"/>
                </a:cubicBezTo>
                <a:cubicBezTo>
                  <a:pt x="16" y="242"/>
                  <a:pt x="175" y="60"/>
                  <a:pt x="235" y="30"/>
                </a:cubicBezTo>
                <a:cubicBezTo>
                  <a:pt x="295" y="0"/>
                  <a:pt x="333" y="121"/>
                  <a:pt x="371" y="167"/>
                </a:cubicBezTo>
                <a:cubicBezTo>
                  <a:pt x="409" y="213"/>
                  <a:pt x="439" y="266"/>
                  <a:pt x="462" y="303"/>
                </a:cubicBezTo>
                <a:cubicBezTo>
                  <a:pt x="485" y="340"/>
                  <a:pt x="522" y="340"/>
                  <a:pt x="507" y="393"/>
                </a:cubicBezTo>
                <a:cubicBezTo>
                  <a:pt x="492" y="446"/>
                  <a:pt x="409" y="560"/>
                  <a:pt x="371" y="620"/>
                </a:cubicBezTo>
                <a:cubicBezTo>
                  <a:pt x="333" y="680"/>
                  <a:pt x="295" y="733"/>
                  <a:pt x="280" y="756"/>
                </a:cubicBezTo>
              </a:path>
            </a:pathLst>
          </a:custGeom>
          <a:solidFill>
            <a:srgbClr val="f8320a"/>
          </a:solidFill>
          <a:ln w="9360">
            <a:solidFill>
              <a:srgbClr val="f832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1"/>
          <p:cNvSpPr/>
          <p:nvPr/>
        </p:nvSpPr>
        <p:spPr>
          <a:xfrm>
            <a:off x="0" y="0"/>
            <a:ext cx="8604360" cy="89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</a:rPr>
              <a:t>λ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l-GR" sz="4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 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l-GR" sz="4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 S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2" descr="j0157763"/>
          <p:cNvPicPr/>
          <p:nvPr/>
        </p:nvPicPr>
        <p:blipFill>
          <a:blip r:embed="rId1"/>
          <a:stretch/>
        </p:blipFill>
        <p:spPr>
          <a:xfrm>
            <a:off x="7348680" y="504684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3" descr="j0217698"/>
          <p:cNvPicPr/>
          <p:nvPr/>
        </p:nvPicPr>
        <p:blipFill>
          <a:blip r:embed="rId2"/>
          <a:stretch/>
        </p:blipFill>
        <p:spPr>
          <a:xfrm>
            <a:off x="7164360" y="47628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4" descr="j0234266"/>
          <p:cNvPicPr/>
          <p:nvPr/>
        </p:nvPicPr>
        <p:blipFill>
          <a:blip r:embed="rId3"/>
          <a:stretch/>
        </p:blipFill>
        <p:spPr>
          <a:xfrm>
            <a:off x="2627280" y="4597560"/>
            <a:ext cx="23194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755640" y="476280"/>
            <a:ext cx="0" cy="612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55640" y="530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755640" y="44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"/>
          <p:cNvSpPr/>
          <p:nvPr/>
        </p:nvSpPr>
        <p:spPr>
          <a:xfrm>
            <a:off x="755640" y="6093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755640" y="907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755640" y="1773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755640" y="26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755640" y="350028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183528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2916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3924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514836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6227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30872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55640" y="907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 flipV="1">
            <a:off x="622764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730872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 flipV="1">
            <a:off x="755640" y="5300280"/>
            <a:ext cx="107964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1835280" y="5300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 flipV="1">
            <a:off x="3924360" y="907920"/>
            <a:ext cx="2303280" cy="43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6227640" y="907920"/>
            <a:ext cx="1081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179280" y="5877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250920" y="41497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5092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79280" y="234936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250920" y="23493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250920" y="1484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108000" y="692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179280" y="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324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395280" y="115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7812000" y="5157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8101080" y="5300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169236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255600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635280" y="522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4859280" y="522936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5867280" y="5229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6948360" y="522936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82692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2"/>
          <p:cNvSpPr/>
          <p:nvPr/>
        </p:nvSpPr>
        <p:spPr>
          <a:xfrm>
            <a:off x="161928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3"/>
          <p:cNvSpPr/>
          <p:nvPr/>
        </p:nvSpPr>
        <p:spPr>
          <a:xfrm>
            <a:off x="356400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4"/>
          <p:cNvSpPr/>
          <p:nvPr/>
        </p:nvSpPr>
        <p:spPr>
          <a:xfrm>
            <a:off x="5940360" y="47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7236000" y="47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2269800" y="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рафик 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755640" y="476280"/>
            <a:ext cx="0" cy="612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755640" y="530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55640" y="44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755640" y="6093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755640" y="9079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755640" y="177336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755640" y="263700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755640" y="350028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1979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320364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457200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79600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7308720" y="52293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755640" y="90792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579600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7308720" y="90792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5724360" y="9079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79280" y="5877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250920" y="414972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250920" y="3213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79280" y="234936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250920" y="23493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250920" y="1484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08000" y="692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179280" y="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324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395280" y="115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7812000" y="5157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8101080" y="530064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9"/>
          <p:cNvSpPr/>
          <p:nvPr/>
        </p:nvSpPr>
        <p:spPr>
          <a:xfrm>
            <a:off x="1692360" y="5229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916360" y="522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3"/>
          <p:cNvSpPr/>
          <p:nvPr/>
        </p:nvSpPr>
        <p:spPr>
          <a:xfrm>
            <a:off x="4284720" y="522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82692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5"/>
          <p:cNvSpPr/>
          <p:nvPr/>
        </p:nvSpPr>
        <p:spPr>
          <a:xfrm>
            <a:off x="1908000" y="4724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6"/>
          <p:cNvSpPr/>
          <p:nvPr/>
        </p:nvSpPr>
        <p:spPr>
          <a:xfrm>
            <a:off x="3492360" y="47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7"/>
          <p:cNvSpPr/>
          <p:nvPr/>
        </p:nvSpPr>
        <p:spPr>
          <a:xfrm>
            <a:off x="5435640" y="476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8"/>
          <p:cNvSpPr/>
          <p:nvPr/>
        </p:nvSpPr>
        <p:spPr>
          <a:xfrm>
            <a:off x="7236000" y="476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50"/>
          <p:cNvSpPr/>
          <p:nvPr/>
        </p:nvSpPr>
        <p:spPr>
          <a:xfrm>
            <a:off x="755640" y="3500280"/>
            <a:ext cx="122400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197964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5435640" y="522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3"/>
          <p:cNvSpPr/>
          <p:nvPr/>
        </p:nvSpPr>
        <p:spPr>
          <a:xfrm>
            <a:off x="6948360" y="5229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4"/>
          <p:cNvSpPr/>
          <p:nvPr/>
        </p:nvSpPr>
        <p:spPr>
          <a:xfrm>
            <a:off x="1979640" y="5300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5"/>
          <p:cNvSpPr/>
          <p:nvPr/>
        </p:nvSpPr>
        <p:spPr>
          <a:xfrm flipV="1">
            <a:off x="3851280" y="907920"/>
            <a:ext cx="1944720" cy="43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2124000" y="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рафик 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95280" y="260280"/>
            <a:ext cx="8569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Дым от костра восходит в ввыс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И тает, уходя во тьму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Ты у костра, ты приглядись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ходит ввысь… А почему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j0285360"/>
          <p:cNvPicPr/>
          <p:nvPr/>
        </p:nvPicPr>
        <p:blipFill>
          <a:blip r:embed="rId1"/>
          <a:stretch/>
        </p:blipFill>
        <p:spPr>
          <a:xfrm>
            <a:off x="6958080" y="4005360"/>
            <a:ext cx="2103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324000" y="189000"/>
            <a:ext cx="540036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чайнике 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а холодна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б её нагреть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иту включил 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 чайник забы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го не подход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 вдруг я вспомнил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ужас меня переполнил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ы в нём было по минимуму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то на кухне пара было полн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8:21:22Z</dcterms:created>
  <dc:creator>User</dc:creator>
  <dc:description/>
  <dc:language>en-US</dc:language>
  <cp:lastModifiedBy>Хабецкая</cp:lastModifiedBy>
  <dcterms:modified xsi:type="dcterms:W3CDTF">2001-12-31T20:18:23Z</dcterms:modified>
  <cp:revision>24</cp:revision>
  <dc:subject/>
  <dc:title>Слайд 1</dc:title>
</cp:coreProperties>
</file>